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42D-0A6F-4643-81EE-3ECC0297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066-400B-4FD8-8A7D-1B073B98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7A9-0829-4669-9193-C5537BE0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335-C288-4432-ADEF-60C44740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ADDE-8314-4BBA-AC3E-8335E17E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39E6-9529-4F13-8B5C-66849E74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D9EF-E02F-4236-87FF-B398715D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0BF2-6F87-4B23-9928-74215ED2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C076-5C7D-4C17-8587-14C218D1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9AC1-EC94-4D27-AAAF-5DAF92F3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40FA-A8A5-43C1-905B-206B44C4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EF2-8183-4F4A-8470-6CCE496F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81D2-9CFD-49A4-A3CB-143E6A06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5694-5B89-4D31-8089-93CDDCB6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7744-DB84-4F8D-B2E4-E7C49265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5FCC-1CD7-4CC9-8BDA-0EF0B67A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8471-A239-4DCC-A6A0-CD2432C9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0DFA-5337-484A-B3C7-194787B1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23CC-FB1F-43AB-9D19-D466BE27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FBE8B-CCB5-4265-9BE7-3A2B60E2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D45C-80D4-4E9C-ACA3-76EFE4C0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4AFC-E6F9-470A-BEB3-4EF6EFCE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7B9-C817-43C8-BB59-37D1C96E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4F92-5AD9-4558-BFD3-B582D091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763C0-C326-4C6B-8809-F0AC3675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08F08-A851-4F62-834A-A01B3B71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54AC-43A3-4525-A461-DE9D0F10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6CF3-BF92-4C18-89AE-CDCE165B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C89B-CE80-476B-BFD7-4AEC8E81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12820-0A68-4651-86BD-F4F992AD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34994-DBE1-48F4-971C-2E591FA1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7D2D-DC16-4EF7-B46D-5A811980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90382-4362-47D6-AB4B-965626C6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317-B270-4BBC-801E-F8794890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BC876-E692-4C3A-B4F0-D830BFCC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B50F-10E0-4D6F-83E3-413E10AD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B4E14-079C-41CB-AE97-909944FE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9772D-A7D5-4068-9E17-78CE1F8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C2113-0875-43A9-9C92-13DAD766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A21B5-9FA7-405D-8BC5-E4D01F9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929C-E58E-483F-B677-F19214D8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6D21-3058-46E2-806A-6CBCC492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709EA-3E99-4127-B840-1038DA10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5B0-96A2-4278-92D1-ECDC38E8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636-9883-4760-9EC8-78245D26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597-DADF-4C96-A87F-B83045A1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FB1-8169-4B0B-BF70-159203E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CEA-0596-43AA-A213-492B6AAC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B69D6-4854-4FCC-AC17-880A109C4148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1114F-037F-4D15-AD36-0895D580A3F2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9CEEA-FB6D-4EA1-BD81-4294CE719375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875F0-7D0C-4A8A-BEF8-7F285EBCB2F7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63200" y="1018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ebuchet MS"/>
                <a:cs typeface="B Nazanin"/>
              </a:rPr>
              <a:t>چراغ راهنماي تغذيه اي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تهیه کننده : مریم آزاد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براي محاسبه  رنگ مورد نظر اطلاعات زير ضروري است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Content Placeholder 3" descr=""/>
          <p:cNvPicPr/>
          <p:nvPr/>
        </p:nvPicPr>
        <p:blipFill>
          <a:blip r:embed="rId1"/>
          <a:stretch/>
        </p:blipFill>
        <p:spPr>
          <a:xfrm>
            <a:off x="1500120" y="1716120"/>
            <a:ext cx="71596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ي تغذيه اي با نشانگرهاي رنگ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1582560" y="2162160"/>
            <a:ext cx="6786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5680" y="277920"/>
            <a:ext cx="859788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مواد غذایی جامد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Content Placeholder 3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5359680" cy="499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881680" y="2766960"/>
            <a:ext cx="2882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3" descr=""/>
          <p:cNvPicPr/>
          <p:nvPr/>
        </p:nvPicPr>
        <p:blipFill>
          <a:blip r:embed="rId1"/>
          <a:stretch/>
        </p:blipFill>
        <p:spPr>
          <a:xfrm>
            <a:off x="784080" y="295200"/>
            <a:ext cx="81248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249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قاشق غذاخوری ژله 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.22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هر قاشق از ماده غذایی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.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اسید چرب ترانس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ontent Placeholder 3" descr=""/>
          <p:cNvPicPr/>
          <p:nvPr/>
        </p:nvPicPr>
        <p:blipFill>
          <a:blip r:embed="rId1"/>
          <a:stretch/>
        </p:blipFill>
        <p:spPr>
          <a:xfrm>
            <a:off x="1185840" y="449280"/>
            <a:ext cx="76057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2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0.3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نمک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برچسب گذاری چراغ راهنماي تغذيه اي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675320" y="1776240"/>
            <a:ext cx="4024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چراغ راهنما به صورت برچسب روي مواد غذايي درج مي شود و از سه 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تشکيل شده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مفيد بودن ماده غذايي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اخطار و احتياط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نشان دهنده مضر بودن آن ماده غذايي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اهداف برچسب گذاری چراغ راهنماي تغذيه اي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Content Placeholder 3" descr=""/>
          <p:cNvPicPr/>
          <p:nvPr/>
        </p:nvPicPr>
        <p:blipFill>
          <a:blip r:embed="rId1"/>
          <a:stretch/>
        </p:blipFill>
        <p:spPr>
          <a:xfrm>
            <a:off x="677880" y="1589040"/>
            <a:ext cx="85964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نشانگرهای رنگ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انرژي بر اساس کيلو کالري در هر سهم ماده غذايي يا در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گرم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نمک (کلريد سديم)، چربي کل، اسيدهاي چرب ترانس، قند </a:t>
            </a:r>
            <a:r>
              <a:rPr b="0" lang="fa-IR" sz="2000" spc="-1" strike="noStrike">
                <a:solidFill>
                  <a:srgbClr val="000000"/>
                </a:solidFill>
                <a:latin typeface="Trebuchet MS"/>
                <a:ea typeface="B Nazanin"/>
              </a:rPr>
              <a:t>(کل قندهاي منو و دي ساکاريد آزاد به غير از پلي اولها)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بر حسب گرم در هر سهم مواد غذايي يا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 گرم 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27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. تعداد سهم ماده غذايي موجود در بسته بندي به صورتي که قابل تشخيص و قابل درک براي مصرف کننده باش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ثال : در مواردي که بسته بندي شامل چند سهم از ماده غذايي مربوطه است بايد ذکر شود. مثلا اينکه " اين اطلاعات براي يک برش پيتزا ، يا يک همبرگر " و از اين قبيل است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77520" y="809640"/>
            <a:ext cx="859644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4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خصيص نشانگرهاي رنگي هر کدام از موارد ذکر شده در بند 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2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5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وليد کنندگان يا واردکنندگان مي توانند همراه نشانگرهاي رنگي از لغات توصيفي " زياد" ، "متوسط"، يا "اندک" به طور هم زمان استفاده کنن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Trebuchet MS"/>
                <a:cs typeface="B Nazanin"/>
              </a:rPr>
              <a:t>نکات تکمیلی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80840" y="1715760"/>
            <a:ext cx="8597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دازه سهم به صورت قابل تشخيص و درک براي مصرف کننده (مثلا يک همبرگر، يک چهارم برش کيک) 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تعداد سهم موجود در بسته بندي ماده غذايي مورد نظر مشخص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يزان انرژي به کيلو کالري و نمک، چربي کل، اسيدهاي چرب ترانس، و قند بر حسب گرم در هر سهم ماده غذايي مورد نظر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0T17:17:34Z</dcterms:created>
  <dc:creator>Windows User</dc:creator>
  <dc:description/>
  <dc:language>en-US</dc:language>
  <cp:lastModifiedBy>Windows User</cp:lastModifiedBy>
  <dcterms:modified xsi:type="dcterms:W3CDTF">2020-03-10T18:38:29Z</dcterms:modified>
  <cp:revision>5</cp:revision>
  <dc:subject/>
  <dc:title>PowerPoint Presentation</dc:title>
</cp:coreProperties>
</file>