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BF18-406C-4C58-BCC7-6915843E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5B5-C13B-4FCC-9AB7-602DD429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9F4-8BA8-4AAE-82A0-E43729EA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864-A710-4BBD-9CA9-B1CE7FEE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35A9-3A02-4CB2-ABDD-8FBA814E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CE72-1DC0-44E1-839D-C1EEBAA1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F282-46D3-4C27-A0AE-F9191980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7780-8898-41BD-8D0E-96A8A57C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CA80-74AB-4EFC-A250-DEBDA046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FFF1-7714-4012-A5E9-D55C0C68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F5FA-F82A-40DB-9E9A-A95CF627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847-7103-415E-9505-D5F6F9F7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EADF-57C0-4AD6-9BA6-72D04158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644C-ABB0-4A1C-A9C6-0EDE5A5E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4FFF-6697-4946-9F06-8F98B7CC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AF1D-2C06-4C57-830F-20E356CE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42FD-6A57-4A27-B017-269802D0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568D-ECB9-4300-B9CD-5B8E2C7A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ECB3-D51C-41CD-BB60-0DB7BF5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0D63-7687-4475-ACDD-059ED87A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3AD6-970A-4855-B2E7-468CBAAB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B91C-C5C4-4117-9F26-C2D07EE2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524-A6BC-4B20-9618-10C76790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F6C0-F7E6-4AD1-9120-47E304C9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C9EA-0AB4-4F39-B918-B6ADE06F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F01F-C8D0-4925-99D4-505581DC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AADF-1BA3-4305-B888-27A311B1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A9FC-FEBB-4B9F-B743-8525CFBC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23ED-4A27-4F94-A06C-575F44D4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B92D8-5097-4BFF-9393-2662127E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871E-0D23-4497-8344-79ED2A1E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F6E6-F357-4573-8C72-D0079B82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EFF1-0DAE-4084-8BD2-65D4DFEF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649-68D1-4985-8D28-C24226FF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1937-BE9F-4063-B7BF-591BA596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8FE4-F2A6-4CAF-8DA0-3BE9E83E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AEE8-E880-4277-980A-7CE0EE8F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0671-DD97-4DF3-9B8C-100473C0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E0D7D-E19E-49F4-956A-39E69DE1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66DB0-88C6-4DE3-BE3B-3F70D8D7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D979-8DF6-46CA-8C16-FECC170D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AA588-E354-4ECD-81D9-318D7FB0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15A26-3EAC-4BB6-B995-6322D85A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C8B-F01D-48A7-8C51-F080D45D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F73-1B7F-4EFF-A47B-1243B758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78F-94FE-4F36-98A2-2A8F9379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7A9-1965-44AE-BD73-B3CCDAB9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115-DD1B-44D2-B426-B62F8175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3F091-7374-4566-AE62-196DA3B37B00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3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91D6B-86EE-4395-844D-7DEA50833B37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FC5D2-6C41-4FA4-8D3C-6BF6038C6C3E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898989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900" spc="-1" strike="noStrike">
                <a:solidFill>
                  <a:srgbClr val="898989"/>
                </a:solidFill>
                <a:latin typeface="Times New Roman"/>
                <a:ea typeface="Tahom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a-IR" sz="900" spc="-1" strike="noStrike">
                <a:solidFill>
                  <a:srgbClr val="90c226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3B402-6ADE-409D-8C43-8ACC6A99D125}" type="slidenum">
              <a:rPr b="0" lang="fa-IR" sz="900" spc="-1" strike="noStrike">
                <a:solidFill>
                  <a:srgbClr val="90c226"/>
                </a:solidFill>
                <a:latin typeface="Times New Roman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63200" y="1018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Trebuchet MS"/>
                <a:cs typeface="B Nazanin"/>
              </a:rPr>
              <a:t>چراغ راهنماي تغذيه اي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تهیه کننده : مریم آزاد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براي محاسبه  رنگ مورد نظر اطلاعات زير ضروري است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9" name="Content Placeholder 3" descr=""/>
          <p:cNvPicPr/>
          <p:nvPr/>
        </p:nvPicPr>
        <p:blipFill>
          <a:blip r:embed="rId1"/>
          <a:stretch/>
        </p:blipFill>
        <p:spPr>
          <a:xfrm>
            <a:off x="1500120" y="1716120"/>
            <a:ext cx="71596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ي تغذيه اي با نشانگرهاي رنگي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1582560" y="2162160"/>
            <a:ext cx="6786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5680" y="277920"/>
            <a:ext cx="859788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مواد غذایی جامد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Content Placeholder 3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5359680" cy="499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881680" y="2766960"/>
            <a:ext cx="2882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3" descr=""/>
          <p:cNvPicPr/>
          <p:nvPr/>
        </p:nvPicPr>
        <p:blipFill>
          <a:blip r:embed="rId1"/>
          <a:stretch/>
        </p:blipFill>
        <p:spPr>
          <a:xfrm>
            <a:off x="784080" y="295200"/>
            <a:ext cx="812484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249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قاشق غذاخوری ژله 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.22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هر قاشق از ماده غذایی(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گرم)  حاوی 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1.5</a:t>
            </a:r>
            <a:r>
              <a:rPr b="1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اسید چرب ترانس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Content Placeholder 3" descr=""/>
          <p:cNvPicPr/>
          <p:nvPr/>
        </p:nvPicPr>
        <p:blipFill>
          <a:blip r:embed="rId1"/>
          <a:stretch/>
        </p:blipFill>
        <p:spPr>
          <a:xfrm>
            <a:off x="1185840" y="449280"/>
            <a:ext cx="760572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2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قند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1800" spc="-1" strike="noStrike">
                <a:solidFill>
                  <a:srgbClr val="404040"/>
                </a:solidFill>
                <a:latin typeface="Trebuchet MS"/>
                <a:cs typeface="B Nazanin"/>
              </a:rPr>
              <a:t>یک لیوان از نوشیدنی (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250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میلی لیتر) حاوی 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0.3</a:t>
            </a:r>
            <a:r>
              <a:rPr b="0" lang="fa-IR" sz="1800" spc="-1" strike="noStrike">
                <a:solidFill>
                  <a:srgbClr val="404040"/>
                </a:solidFill>
                <a:latin typeface="Trebuchet MS"/>
                <a:ea typeface="B Nazanin"/>
              </a:rPr>
              <a:t> گرم نمک می باشد با کدام رنگ در برچسب غذایی نشان داده می شود؟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rebuchet MS"/>
                <a:cs typeface="B Nazanin"/>
              </a:rPr>
              <a:t>برچسب گذاری چراغ راهنماي تغذيه اي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675320" y="1776240"/>
            <a:ext cx="402408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a-IR" sz="3600" spc="-1" strike="noStrike">
              <a:solidFill>
                <a:srgbClr val="90c226"/>
              </a:solidFill>
              <a:latin typeface="Trebuchet MS"/>
              <a:ea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چراغ راهنما به صورت برچسب روي مواد غذايي درج مي شود و از سه 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تشکيل شده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lnSpc>
                <a:spcPct val="170000"/>
              </a:lnSpc>
              <a:spcBef>
                <a:spcPts val="1001"/>
              </a:spcBef>
              <a:spcAft>
                <a:spcPts val="1874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رنگ </a:t>
            </a:r>
            <a:r>
              <a:rPr b="0" lang="fa-IR" sz="3000" spc="-1" strike="noStrike">
                <a:solidFill>
                  <a:srgbClr val="66ff33"/>
                </a:solidFill>
                <a:latin typeface="Trebuchet MS"/>
                <a:cs typeface="B Nazanin"/>
              </a:rPr>
              <a:t>سبز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مفيد بودن ماده غذايي، </a:t>
            </a:r>
            <a:r>
              <a:rPr b="0" lang="fa-IR" sz="3000" spc="-1" strike="noStrike">
                <a:solidFill>
                  <a:srgbClr val="ffff00"/>
                </a:solidFill>
                <a:latin typeface="Trebuchet MS"/>
                <a:cs typeface="B Nazanin"/>
              </a:rPr>
              <a:t>زرد 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cs typeface="B Nazanin"/>
              </a:rPr>
              <a:t>نشان دهنده اخطار و احتياط و </a:t>
            </a:r>
            <a:r>
              <a:rPr b="0" lang="fa-IR" sz="3000" spc="-1" strike="noStrike">
                <a:solidFill>
                  <a:srgbClr val="ff0000"/>
                </a:solidFill>
                <a:latin typeface="Trebuchet MS"/>
                <a:cs typeface="B Nazanin"/>
              </a:rPr>
              <a:t>قرمز</a:t>
            </a:r>
            <a:r>
              <a:rPr b="0" lang="fa-IR" sz="3000" spc="-1" strike="noStrike">
                <a:solidFill>
                  <a:srgbClr val="404040"/>
                </a:solidFill>
                <a:latin typeface="Trebuchet MS"/>
                <a:ea typeface="B Nazanin"/>
              </a:rPr>
              <a:t> نشان دهنده مضر بودن آن ماده غذايي است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rebuchet MS"/>
                <a:cs typeface="B Nazanin"/>
              </a:rPr>
              <a:t>اهداف برچسب گذاری چراغ راهنماي تغذيه اي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Content Placeholder 3" descr=""/>
          <p:cNvPicPr/>
          <p:nvPr/>
        </p:nvPicPr>
        <p:blipFill>
          <a:blip r:embed="rId1"/>
          <a:stretch/>
        </p:blipFill>
        <p:spPr>
          <a:xfrm>
            <a:off x="677880" y="1589040"/>
            <a:ext cx="85964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نشانگرهای رنگ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انرژي بر اساس کيلو کالري در هر سهم ماده غذايي يا در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گرم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just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اطلاعات مرتبط با ميزان نمک (کلريد سديم)، چربي کل، اسيدهاي چرب ترانس، قند </a:t>
            </a:r>
            <a:r>
              <a:rPr b="0" lang="fa-IR" sz="2000" spc="-1" strike="noStrike">
                <a:solidFill>
                  <a:srgbClr val="000000"/>
                </a:solidFill>
                <a:latin typeface="Trebuchet MS"/>
                <a:ea typeface="B Nazanin"/>
              </a:rPr>
              <a:t>(کل قندهاي منو و دي ساکاريد آزاد به غير از پلي اولها)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بر حسب گرم در هر سهم مواد غذايي يا 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Trebuchet MS"/>
                <a:ea typeface="B Nazanin"/>
              </a:rPr>
              <a:t> گرم / ميلي ليتر مواد غذايي که سهم براي آنها تعريف نشده است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06080" indent="-406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2760" y="1063440"/>
            <a:ext cx="8596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0" lang="fa-IR" sz="2800" spc="-1" strike="noStrike">
                <a:solidFill>
                  <a:srgbClr val="000000"/>
                </a:solidFill>
                <a:latin typeface="Trebuchet MS"/>
                <a:ea typeface="B Nazanin"/>
              </a:rPr>
              <a:t>. تعداد سهم ماده غذايي موجود در بسته بندي به صورتي که قابل تشخيص و قابل درک براي مصرف کننده باش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ثال : در مواردي که بسته بندي شامل چند سهم از ماده غذايي مربوطه است بايد ذکر شود. مثلا اينکه " اين اطلاعات براي يک برش پيتزا ، يا يک همبرگر " و از اين قبيل است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77520" y="809640"/>
            <a:ext cx="859644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4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خصيص نشانگرهاي رنگي هر کدام از موارد ذکر شده در بند 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2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lnSpc>
                <a:spcPct val="2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5</a:t>
            </a:r>
            <a:r>
              <a:rPr b="0" lang="fa-IR" sz="2800" spc="-1" strike="noStrike">
                <a:solidFill>
                  <a:srgbClr val="404040"/>
                </a:solidFill>
                <a:latin typeface="Trebuchet MS"/>
                <a:ea typeface="B Nazanin"/>
              </a:rPr>
              <a:t>. توليد کنندگان يا واردکنندگان مي توانند همراه نشانگرهاي رنگي از لغات توصيفي " زياد" ، "متوسط"، يا "اندک" به طور هم زمان استفاده کنن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Trebuchet MS"/>
                <a:cs typeface="B Nazanin"/>
              </a:rPr>
              <a:t>نکات تکمیلی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rebuchet MS"/>
                <a:cs typeface="B Nazanin"/>
              </a:rPr>
              <a:t>مراحل برچسب گذاری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80840" y="1715760"/>
            <a:ext cx="8597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دازه سهم به صورت قابل تشخيص و درک براي مصرف کننده (مثلا يک همبرگر، يک چهارم برش کيک) 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تعداد سهم موجود در بسته بندي ماده غذايي مورد نظر مشخص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lnSpc>
                <a:spcPct val="1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Trebuchet MS"/>
                <a:cs typeface="B Nazanin"/>
              </a:rPr>
              <a:t>ميزان انرژي به کيلو کالري و نمک، چربي کل، اسيدهاي چرب ترانس، و قند بر حسب گرم در هر سهم ماده غذايي مورد نظرتعيين شود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r" rtl="1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0T17:17:34Z</dcterms:created>
  <dc:creator>Windows User</dc:creator>
  <dc:description/>
  <dc:language>en-US</dc:language>
  <cp:lastModifiedBy>Windows User</cp:lastModifiedBy>
  <dcterms:modified xsi:type="dcterms:W3CDTF">2020-03-10T18:38:29Z</dcterms:modified>
  <cp:revision>5</cp:revision>
  <dc:subject/>
  <dc:title>PowerPoint Presentation</dc:title>
</cp:coreProperties>
</file>