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013-7201-4333-9196-7A6D2BC1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B34-EF12-4B01-8474-C04C5AC0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F9B-A7CC-4955-9550-75826D36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783-711C-4014-A347-8C78FC8C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1A61-1D98-447B-BB92-2978FD25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CEAD-035E-4084-8704-625B3C42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C92C-1E72-45C4-9F6D-1A1D2D6D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4FF1-D2A6-4EBF-82D8-124798AE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D3D8-F7F3-427D-9D18-BB6B3D1A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D2D6-7FB6-4E14-8F86-3E36E6F9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CCF4-7A0C-4686-9CB4-2A762F46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2DA-8A17-4FDA-A093-620A080A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F3DC-4A7A-4FE7-BE17-EE71B988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74DD-907F-4D06-91E2-4FB26B52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C3F7-48E3-47BE-AC15-647D999E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CE6B-BAD1-469C-857B-ABB48A5C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4D7F-B91E-42D1-A8DF-F41553FD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9CCB5-50AF-4788-9E9E-E0E6B062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6A9F-2665-4496-BA83-C312890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8EB0-3CE6-4BF2-B447-93786E89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7439-9CD3-41B4-9DDF-A9D7F0CF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79A53-A0F0-4ACB-AF8E-134AF92E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A1F-FEBB-4474-8863-7428A648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E0F7-8360-4FAE-9915-6D8076EE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8537-F00E-4B6C-909C-14FFC0C3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1AB3-AB30-41AC-9926-6B8CA66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AA364-ACFC-4119-823C-375F1960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F5D3-FA23-4AF9-93F8-B23F904B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A3A4-B0BA-42D9-9D98-36837C1B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33E1-DA19-410F-8A07-1ED6B467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54654-B144-4684-9B28-458051B1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5FF8-87C0-4757-A758-D547B208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C902-DEF6-487B-B62C-49A98D37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4A5-282C-4339-9C42-6735FF8F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E673A-2501-4D6B-A367-601292C8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F219-C494-4B94-8982-05EF9FA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04775-FCBB-4BF3-B208-EEDEAD8D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EAE52-CC32-40FB-9C28-63A22553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D61F-0973-4DD4-8CBE-F07BC7F7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DEB9-54B2-4487-A2EA-1A473FAD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A89E-76DA-49AF-ABA8-66ED4E97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1E52-CFA4-454E-B4E8-92172E69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82BB-3851-4A84-9B7F-69BFA72D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0FA-BB80-4099-9F84-A2451BC0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97F-A528-4400-8232-55EA89B2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884-60C5-4ED3-8E9F-B5CE6A54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194-8265-4E6E-A32C-93629521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6FD-4191-4E31-9EA0-5CD66C9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480C0-0705-42FD-A715-1D29F539B058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7ED16-1934-4D92-8458-8CC85C93577C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180D0-5DC9-483F-AC5E-DF8415C10F2E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9ACC0-B8D3-461C-BB0C-FE5109392267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63200" y="1018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ebuchet MS"/>
                <a:cs typeface="B Nazanin"/>
              </a:rPr>
              <a:t>چراغ راهنماي تغذيه اي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تهیه کننده : مریم آزاد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براي محاسبه  رنگ مورد نظر اطلاعات زير ضروري است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Content Placeholder 3" descr=""/>
          <p:cNvPicPr/>
          <p:nvPr/>
        </p:nvPicPr>
        <p:blipFill>
          <a:blip r:embed="rId1"/>
          <a:stretch/>
        </p:blipFill>
        <p:spPr>
          <a:xfrm>
            <a:off x="1500120" y="1716120"/>
            <a:ext cx="7159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ي تغذيه اي با نشانگرهاي رنگ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1582560" y="2162160"/>
            <a:ext cx="6786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5680" y="277920"/>
            <a:ext cx="85978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مواد غذایی جامد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5359680" cy="499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881680" y="2766960"/>
            <a:ext cx="2882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3" descr=""/>
          <p:cNvPicPr/>
          <p:nvPr/>
        </p:nvPicPr>
        <p:blipFill>
          <a:blip r:embed="rId1"/>
          <a:stretch/>
        </p:blipFill>
        <p:spPr>
          <a:xfrm>
            <a:off x="784080" y="295200"/>
            <a:ext cx="8124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249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قاشق غذاخوری ژله 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.22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هر قاشق از ماده غذایی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.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اسید چرب ترانس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1185840" y="449280"/>
            <a:ext cx="76057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2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0.3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نمک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برچسب گذاری چراغ راهنماي تغذيه اي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675320" y="1776240"/>
            <a:ext cx="4024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چراغ راهنما به صورت برچسب روي مواد غذايي درج مي شود و از سه 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تشکيل شده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مفيد بودن ماده غذايي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اخطار و احتياط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نشان دهنده مضر بودن آن ماده غذايي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اهداف برچسب گذاری چراغ راهنماي تغذيه اي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Content Placeholder 3" descr=""/>
          <p:cNvPicPr/>
          <p:nvPr/>
        </p:nvPicPr>
        <p:blipFill>
          <a:blip r:embed="rId1"/>
          <a:stretch/>
        </p:blipFill>
        <p:spPr>
          <a:xfrm>
            <a:off x="677880" y="1589040"/>
            <a:ext cx="85964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نشانگرهای رنگ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انرژي بر اساس کيلو کالري در هر سهم ماده غذايي يا در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گرم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نمک (کلريد سديم)، چربي کل، اسيدهاي چرب ترانس، قند </a:t>
            </a:r>
            <a:r>
              <a:rPr b="0" lang="fa-IR" sz="2000" spc="-1" strike="noStrike">
                <a:solidFill>
                  <a:srgbClr val="000000"/>
                </a:solidFill>
                <a:latin typeface="Trebuchet MS"/>
                <a:ea typeface="B Nazanin"/>
              </a:rPr>
              <a:t>(کل قندهاي منو و دي ساکاريد آزاد به غير از پلي اولها)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بر حسب گرم در هر سهم مواد غذايي يا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 گرم 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27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. تعداد سهم ماده غذايي موجود در بسته بندي به صورتي که قابل تشخيص و قابل درک براي مصرف کننده باش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ثال : در مواردي که بسته بندي شامل چند سهم از ماده غذايي مربوطه است بايد ذکر شود. مثلا اينکه " اين اطلاعات براي يک برش پيتزا ، يا يک همبرگر " و از اين قبيل است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77520" y="809640"/>
            <a:ext cx="85964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4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خصيص نشانگرهاي رنگي هر کدام از موارد ذکر شده در بند 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2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5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وليد کنندگان يا واردکنندگان مي توانند همراه نشانگرهاي رنگي از لغات توصيفي " زياد" ، "متوسط"، يا "اندک" به طور هم زمان استفاده کنن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Trebuchet MS"/>
                <a:cs typeface="B Nazanin"/>
              </a:rPr>
              <a:t>نکات تکمیلی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80840" y="1715760"/>
            <a:ext cx="8597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دازه سهم به صورت قابل تشخيص و درک براي مصرف کننده (مثلا يک همبرگر، يک چهارم برش کيک) 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تعداد سهم موجود در بسته بندي ماده غذايي مورد نظر مشخص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يزان انرژي به کيلو کالري و نمک، چربي کل، اسيدهاي چرب ترانس، و قند بر حسب گرم در هر سهم ماده غذايي مورد نظر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0T17:17:34Z</dcterms:created>
  <dc:creator>Windows User</dc:creator>
  <dc:description/>
  <dc:language>en-US</dc:language>
  <cp:lastModifiedBy>Windows User</cp:lastModifiedBy>
  <dcterms:modified xsi:type="dcterms:W3CDTF">2020-03-10T18:38:29Z</dcterms:modified>
  <cp:revision>5</cp:revision>
  <dc:subject/>
  <dc:title>PowerPoint Presentation</dc:title>
</cp:coreProperties>
</file>