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A60EF-9735-4C37-8649-70D4B7496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5C5B6-B88C-448C-9CFC-AEEF61BF1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4D9FA6-C385-4395-9F6D-C65CBA7C4F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91506B-694D-4C3E-9C19-B59D65737C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FEFC2A-8DB2-4830-93E7-6F73B4F464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C7E64-5EB1-4B6F-9327-ED0F2E64DA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B23EA-42DD-4E8B-BF8E-AA298A0EB1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90AABE-C659-44E6-9069-6172C8327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1A93B-DC6F-407D-B6C1-6540221531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5209B7-2448-4547-A212-434FD65D24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7DC96B-5492-4B0B-9F85-D1F9D89453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A97369-8D37-47F8-BDC1-E7474E8F91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1F670-A29A-40D3-9E43-16AC21ABA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8C92E1-C6C2-4B07-BFB2-78E51C9E8E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A38BB7-4EEB-471E-93D5-E3C71A72B6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8CBD98-D91F-4914-AD6D-F2F888A064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DE0AA3-DE77-4ABD-8905-BEE3C5F557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472233-5463-41A7-B499-D860D8C8D8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F5412F-1ECE-48F4-B3CA-A6F0A6B7F4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6FD153-DBC2-42A4-A728-E8BB1E2958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1470FD-5407-40C7-B4D9-0DDA569796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68CBEE-D69F-49A4-AE8A-AE42516B47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C3978E-17A1-4136-AC98-2D5DB26990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0B881-4861-48FE-B78A-40B8FAF8A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98B86B-AB80-428C-8AEE-0D18AFADA4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369880-1C96-447B-A7A4-EABB499299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C0B175-7523-48C7-AA8E-73CCF4EE8E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657485-8E34-41A7-9F32-CC099F3CBF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2B12A6-A234-4993-9219-5558A7F7F5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B93F30-3B83-4715-893A-16841F1BE2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41CF4B-2451-439D-8A98-22DF508632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D585A8-900B-4E76-B671-A342B79F2C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01CB90-49BB-429C-A877-C002ABE026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1377F8-0242-496B-82B4-18496903B1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9E37D-6133-4CB8-A797-FF182BF6B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D289CD-07F6-4F07-AB33-9A2BDDB4E2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A0E1CE-992F-4794-ACB6-551411C6AE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32D5FB-631A-4965-92A4-60CD320DD8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8EFA29-FDCA-4784-8C5C-3C3F90DEEF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D8E1FC-B434-4C4A-9261-26CD50EC5A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A7789F-DB75-4D53-9377-4179824A43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4332C0-A7F4-49A8-83D2-94093AB686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EA6975-0CB7-4F3C-A076-BCF20C6AD5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8260D6-CA55-4F88-8E18-4763AF3075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35AD6F-FA8D-4F2B-AC44-804C53D7AD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11245-4A6E-4F15-ABFB-E529CF464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6B27F9-6D48-410E-A9CF-405694BFF8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D4444F-4879-420B-B304-6BEA96B468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FE47B3-D3E5-4EB7-9A78-CC0917B241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7BFFA8-D25A-4C70-8E65-B0AC980247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5E4169-7E19-47E7-B4F3-C278363E4A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20FF04-E7CD-48E9-BD5F-EAEDB4EC84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51E1C9-F25A-4BF3-837A-D981227A53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3C0F43-A803-4C35-98E9-228752895C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C838A1-151A-4A41-B251-48C55D9E3A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53D1AF-93BD-4821-B878-D7B4679E82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D21D6-14B4-4C6E-B933-8DBA61304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438370-C947-48F7-AE3B-DE046A6F44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57C55A-E74A-4A30-9C61-40FFC311E3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F487B5-AA71-4DD9-9698-95744CC41E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973236-6816-49F8-8003-70A4884978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E40BE2-EF34-41E7-AEB2-5E059D4FD9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195466-566A-4073-8733-93431D5AAF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F79B6D-79CA-4957-BB3D-A35E890C0A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75954AA-19F4-46A5-AC31-C6D5A61DBD7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9BED1E-AB60-4C96-BC6B-C0E706F698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9D60AF-9A05-4301-ABED-148CACDED7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B02AD-2BB7-465A-A87F-89DF219C4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62D830-4505-438B-BA80-8260737FAD2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AD69BE-C948-408F-8F1A-C6E63724FA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919982-C464-4C2B-8BBA-9965F19CA0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4080F1-11D2-417B-9258-38B36CEEDB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94FE91-8964-477E-B780-7481EE1669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4EE0B2-BA14-4909-8391-6C6FCD182E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9A4BD9-D471-4B4C-A9D8-48FCA188A9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2D5310-0B7F-44DE-9A25-D56F652BBD6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EE38533-2425-4CCE-A7FA-DE2B582FFD9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AE3E3D2-A1C0-4D0F-95CA-97E270A5CAF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9FCCC-0797-4F3C-B289-3DDAA3EDB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364488-40BC-412A-A0D6-9E0DC83A23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868B6E-D82F-460C-BB65-1FF5F15CA3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B99884-213E-4726-B689-2475273A2A4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1294EC-884F-458A-891C-0C020D54DC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1E5335-0551-4E0D-A7A4-4D0CCFBD53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0D2871B-87B4-46B5-9032-EB31191197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A857A8-715C-4B49-B9C9-B041471783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0CA5C8-5A00-46E1-A6A4-EE2D1C8576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3537A7-51B7-40EB-9006-DEAB025D09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BF4FA19-DBAB-40D3-9798-81BD3677132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2582F-5DB4-41C8-ACEF-27C956E7E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1C304AF-4D07-4039-BEB2-9D8C0D1C42E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92A451-D4D4-42B0-947B-26C79C9C636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43479BD-229D-4FB0-BBB3-A2F5782850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EBDDA00-A0E2-4428-B852-3E34877AFD1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AA1D66-B8DF-49A4-9138-11507A19BA8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811A068-4E57-43BA-BDD5-4C631B22ED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C89EA7-E466-48E8-95D1-5EB90DC74E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86E474-7E40-4441-A57A-F55BF559F8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F3346C-D86F-4833-9FCD-3CCF6D824A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A1AFAD-4CDE-42BD-B63F-23A36386F1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A01C7-594E-4CA8-97F1-E49D3A394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12A16D-FE23-48D2-B5E5-845FA1DE1F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C290DD3-B992-476B-B8C9-88BE434A160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BE46617-09A8-4A44-935D-0A92F7B7B31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939E538-1D76-4B5D-BB8F-5B9F31374C0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D200151-5E71-4423-BB1B-E8A3B3BD14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B9164A6-4A94-479C-A7E3-8683155BDF5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D92F302-FF0C-475C-8F1C-AA3F92102B8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90D6D78-E9C0-4AEB-AE0C-9EE3925F7C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001BE1-6FA6-4561-A87D-052BC39343E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5515C5-6D95-44D1-8063-A249DC63A1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D2E6D-A949-4DA8-991F-9C56D276A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BB94B-DDFC-4895-A3FC-793956339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7942A5-3442-4C25-B4BE-197B265999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CC2A1C-F79C-46A0-889E-9B8ADAF519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75360FB-5E51-4062-8EA6-3E45D911D6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FD257FA-5CD5-4E65-93E0-0F778581281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4E7553E-2B69-495C-953F-E8D18CEB654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F767448-8CC2-4D23-98BE-B7C1D56647D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79D5B9-CB23-4013-AC12-8C9B74D158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40D3D2E-C342-446E-B8D0-460D4BA049A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0B781BB-5E21-4D81-AB88-E9978DD1337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79B1849-1E2A-43DE-9462-D859DA408F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924E4-42AB-4968-BAD9-75FF391D7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26DA456-E342-4C0D-B850-F98D86715A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C49D66-9B0E-482E-9F47-EE7C7F6B40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5FD44B8-26AB-4CDF-802E-CBF7C7C941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0FDF6C1-2D24-48B8-A855-504C7B9F198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7F63652-781E-49FF-BF22-D1573A72739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D764BB0-7A3A-4DBE-8871-0A5DB1937B7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CF2A016-CD3B-44F1-AFC9-F438B76D3BC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DB415-DDC7-44D1-9251-DF6CDDD36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E8110-73A1-452F-864B-38CC5ED6F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0C8B7-A698-4860-B567-81B7D44A8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2B647A-2EFA-4C05-8646-8EC88D3DE8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E1E7C-3F05-4F1A-8A52-5313FFCCD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C468A-9612-4D19-AAFB-ED54EA428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6C558-BA0D-4686-91C5-22C067E3C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16E85-C1C9-41F4-94B1-5A456895C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846A4-3028-46FB-A76B-9439A6A8A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7A50B8-9DCF-4D8B-85F3-F03E8ABAD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63FFD-F9C5-48C8-B20A-918B14C0F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D7642-0D99-4735-8B1F-0CC22FDD4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CBD2B-E1F7-4E29-8B93-D16276D68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F5D79F-E8B1-446F-96DF-E60D09351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05AB85-6CEC-40C2-8445-49562DD29D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EC37CB-AD12-4BB6-8050-FC3C424962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C75AEE-2075-4013-8091-43CCA2C33E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19A0D-0371-4ADE-BAFA-35B906411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2A3756-FA78-4390-9F65-FE4020E29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50ADE-D33A-43AF-B3C4-6FFF30C22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AC27C-CDE4-499A-90B6-2B043C8FBB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10471-6028-4244-8A11-C2067B095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8A1CF2-1E22-43BC-A179-908AAD88A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96172-E539-4249-A82E-AFE841418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3607D-473E-4B7D-9339-E2AF446B2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D2E89-E7D6-4963-A7C1-08C5F0386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D4CA6-0A8A-48F2-AD86-37A721298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91EE35-4731-444A-8EB5-AA8A278198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85C1A8-EBDA-41C3-B797-1D9F44919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60916E-6C4F-45EA-A720-5DA47B63BF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7D70-C820-4DEF-8DC9-F32D3D60F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FE831-6962-4533-AEB2-B4E5ACD0BB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64F03-22EF-49F8-849F-21E71B92F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AB9C3-DC9B-4F4C-AE3D-1CE9E4CCE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48A9B-86F3-467A-9900-1CDC82062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46BAE0-884F-476C-95BC-71D70C70D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5F7D0-4B7A-41B2-A480-9ED69E1BB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0637B3-62E0-49A4-93CA-969D0CB4C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6D603-C6CB-4C9B-8F1B-88A56001A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0CE815-ED4E-4CA5-94A3-C8EE63BFEA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F0342D-67DE-4343-9A43-59614BDA14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0CC1B-8B53-438B-96BE-9A07C6E29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22501B-594B-4F47-BE1C-43A0072964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433D0B-C4A7-4EBF-BAF7-37628D781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3C04C-C6CC-4B0E-96B3-FC0D80FF52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99252B-FBEB-42C2-BC47-B557482517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AA5DC-C052-461F-BEA1-CD0F600ED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1BDB9B-ADDD-43FF-B775-1C8B52F22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A53A81-B222-4A80-834F-148100E09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DCDAD0-BDC6-4C0C-AA85-0C0182B3D8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87720-0CB6-4250-B60E-7331F4541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4E1BD-83F7-489F-85C4-7A6A370B4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9E075-8B6A-4484-8D0C-24D5F8FCB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62D2EF-E104-40D9-A106-3574124F8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BB0422-336F-4C9E-9DA8-03D46E4E6C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722467-7359-4560-9AB2-27FA43FB13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DFAD6C-CC7C-4261-87C5-3C28BFD2D0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6550C7-7208-483B-9607-26160752B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F4C161-18ED-4084-A3E3-552430A051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3FBF9-4135-4CE2-A110-B9C6DBD6A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97DE7-9D4A-4B4E-AD1A-E9AE9ABB9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1CF610-AD49-4BF3-B287-57EBF5086D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886EA-A116-45F0-A247-B627D799A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F6682-CCA3-4182-AF78-4DBA718B9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25A47-0205-45DE-9A99-87E03F7D7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EF8D1-F442-424C-BB13-7AA48E2C7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57CD41-DE97-49B9-8C50-3B0F2146B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163BFB-399E-4475-A39B-D2811FEA1D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F0E521-2091-462F-9319-4FFAE827AB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E9354D-0D45-42D0-B347-C2E9FF570A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BD8267-5FEA-4A65-8644-63B841EC60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049FF4-D512-4D38-AFED-93CC6833D0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E114B6-9F95-41A7-AE92-CEA3EF4D15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298ACA-C0F7-49DA-9671-7DE335EA62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E55E7-FF22-4DE1-9089-3BA4CE5ED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368356-73AC-4362-828C-AA32A15CAF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65B18C-7E4A-4E36-8CEA-0B088BF44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A65BF-1EC3-4760-8814-012BE3318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6B954C-8B7E-478C-977D-CE6493AE6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05473-223E-4909-A191-C3DC1ADF88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D4A76B-9423-45D9-A501-15919BFF99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D2CE73-0747-40E1-B2C4-3A5D3FB449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D185F4-C87F-44E4-A6C1-F50BE5358A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B1DA5E-90C5-4443-8852-911A3CB5A7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7D2231-5441-47C3-B00A-CC1E3DC770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6F700-E38E-4046-91BE-02E8E1A09B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E243E-57C6-489D-B560-39E05ABF82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E572E-D8D8-4EA5-BA4B-E4EB4CDFE8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8C722-AF0A-402C-8FDA-135FFF0A03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2785D-EB79-49C6-B8F5-35B67DB3CE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9D2B2-F5F1-475A-AAF9-DDC1DB98CB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2DD06-A5DE-4CD5-8804-81CC0B0874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31908-2AAF-40C6-854A-CA7DEAAF69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3B25E-33A3-46FF-8438-39FC322111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D9FE5-22F1-48D4-B898-89F9A7B5B9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CC88B-3823-4506-A77E-AAD052CEB5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670BF-0518-4135-BCDE-EBA9E9DA85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D9C13-A825-4DEE-8D07-5336EDAE3F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388CD-CC11-40EA-884E-81ABB09C24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C998D-D553-411F-8EDB-A5690B82BA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A9EB4-8AFF-42A3-A353-8A3130A406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20C7A-58FF-416E-AAFA-2EE862E9CE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75AF0-549E-4791-ACE6-A05DA2351F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274680"/>
            <a:ext cx="8690040" cy="141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w Cen MT"/>
                <a:cs typeface="B Nazanin"/>
              </a:rPr>
              <a:t>بسم الله الرحمن</a:t>
            </a:r>
            <a:br>
              <a:rPr sz="4800"/>
            </a:br>
            <a:r>
              <a:rPr b="0" lang="fa-IR" sz="4800" spc="-1" strike="noStrike">
                <a:solidFill>
                  <a:srgbClr val="000000"/>
                </a:solidFill>
                <a:latin typeface="Tw Cen MT"/>
                <a:cs typeface="B Nazanin"/>
              </a:rPr>
              <a:t>الرحیم</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2185560"/>
            <a:ext cx="8690040" cy="30718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2689ad"/>
                </a:solidFill>
                <a:latin typeface="Tw Cen MT"/>
                <a:cs typeface="B Nazanin"/>
              </a:rPr>
              <a:t>حسابداری بهای تمام شده – بهایابی</a:t>
            </a:r>
            <a:r>
              <a:rPr b="1" lang="fa-IR" sz="2100" spc="-1" strike="noStrike">
                <a:solidFill>
                  <a:srgbClr val="2689ad"/>
                </a:solidFill>
                <a:latin typeface="Tw Cen MT"/>
                <a:ea typeface="B Nazanin"/>
              </a:rPr>
              <a:t> </a:t>
            </a:r>
            <a:endParaRPr b="0" lang="en-US" sz="21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رشته حسابداری</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r>
              <a:rPr b="1" lang="fa-IR" sz="2200" spc="-1" strike="noStrike">
                <a:solidFill>
                  <a:srgbClr val="2689ad"/>
                </a:solidFill>
                <a:latin typeface="Tw Cen MT"/>
                <a:cs typeface="B Nazanin"/>
              </a:rPr>
              <a:t>مقطع کاردانی ترم یک</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تهیه و تنظیم : الهام امین ابراهیم آبادی</a:t>
            </a:r>
            <a:r>
              <a:rPr b="1" lang="fa-IR" sz="1700" spc="-1" strike="noStrike">
                <a:solidFill>
                  <a:srgbClr val="2689ad"/>
                </a:solidFill>
                <a:latin typeface="Tw Cen MT"/>
                <a:ea typeface="B Nazanin"/>
              </a:rPr>
              <a:t> – بهار </a:t>
            </a:r>
            <a:r>
              <a:rPr b="1" lang="fa-IR" sz="1700" spc="-1" strike="noStrike">
                <a:solidFill>
                  <a:srgbClr val="2689ad"/>
                </a:solidFill>
                <a:latin typeface="Tw Cen MT"/>
                <a:ea typeface="B Nazanin"/>
              </a:rPr>
              <a:t>1399</a:t>
            </a:r>
            <a:endParaRPr b="0" lang="en-US" sz="17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endParaRPr b="0" lang="en-US" sz="1500" spc="-1" strike="noStrike">
              <a:solidFill>
                <a:srgbClr val="000000"/>
              </a:solidFill>
              <a:latin typeface="Tw Cen MT"/>
            </a:endParaRPr>
          </a:p>
        </p:txBody>
      </p:sp>
      <p:pic>
        <p:nvPicPr>
          <p:cNvPr id="777" name="AUD-20200407-WA0000.mp3"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7"/>
                    </p:tgtEl>
                  </p:cond>
                </p:stCondLst>
                <p:childTnLst>
                  <p:par>
                    <p:cTn id="3" nodeType="clickEffect" fill="hold">
                      <p:stCondLst>
                        <p:cond evt="onClick">
                          <p:tgtEl>
                            <p:spTgt spid="777"/>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4606"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040" y="182160"/>
            <a:ext cx="10363320" cy="841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تمرینات و تستهای نمونه</a:t>
            </a:r>
            <a:endParaRPr b="0" lang="en-US" sz="3600" spc="-1" strike="noStrike">
              <a:solidFill>
                <a:srgbClr val="000000"/>
              </a:solidFill>
              <a:latin typeface="Tw Cen MT"/>
            </a:endParaRPr>
          </a:p>
        </p:txBody>
      </p:sp>
      <p:pic>
        <p:nvPicPr>
          <p:cNvPr id="818" name="Content Placeholder 3" descr=""/>
          <p:cNvPicPr/>
          <p:nvPr/>
        </p:nvPicPr>
        <p:blipFill>
          <a:blip r:embed="rId1"/>
          <a:stretch/>
        </p:blipFill>
        <p:spPr>
          <a:xfrm>
            <a:off x="1243080" y="1133640"/>
            <a:ext cx="10406160" cy="5257800"/>
          </a:xfrm>
          <a:prstGeom prst="rect">
            <a:avLst/>
          </a:prstGeom>
          <a:ln w="0">
            <a:noFill/>
          </a:ln>
        </p:spPr>
      </p:pic>
      <p:pic>
        <p:nvPicPr>
          <p:cNvPr id="819" name="AUD-20200409-WA0008.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819"/>
                    </p:tgtEl>
                  </p:cond>
                </p:stCondLst>
                <p:childTnLst>
                  <p:par>
                    <p:cTn id="73" nodeType="clickEffect" fill="hold">
                      <p:stCondLst>
                        <p:cond evt="onClick">
                          <p:tgtEl>
                            <p:spTgt spid="819"/>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321294" fill="hold"/>
                                        <p:tgtEl>
                                          <p:spTgt spid="8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14040" y="374760"/>
            <a:ext cx="10363320" cy="532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21" name="Content Placeholder 3" descr=""/>
          <p:cNvPicPr/>
          <p:nvPr/>
        </p:nvPicPr>
        <p:blipFill>
          <a:blip r:embed="rId1"/>
          <a:stretch/>
        </p:blipFill>
        <p:spPr>
          <a:xfrm>
            <a:off x="447840" y="493560"/>
            <a:ext cx="11091600" cy="5897880"/>
          </a:xfrm>
          <a:prstGeom prst="rect">
            <a:avLst/>
          </a:prstGeom>
          <a:ln w="0">
            <a:noFill/>
          </a:ln>
        </p:spPr>
      </p:pic>
      <p:pic>
        <p:nvPicPr>
          <p:cNvPr id="822" name="AUD-20200409-WA0004.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restart="whenNotActive" nodeType="interactiveSeq" fill="hold">
                <p:stCondLst>
                  <p:cond evt="onClick">
                    <p:tgtEl>
                      <p:spTgt spid="822"/>
                    </p:tgtEl>
                  </p:cond>
                </p:stCondLst>
                <p:childTnLst>
                  <p:par>
                    <p:cTn id="79" nodeType="clickEffect" fill="hold">
                      <p:stCondLst>
                        <p:cond evt="onClick">
                          <p:tgtEl>
                            <p:spTgt spid="822"/>
                          </p:tgtEl>
                        </p:cond>
                      </p:stCondLst>
                      <p:childTnLst>
                        <p:par>
                          <p:cTn id="80" nodeType="withEffect" fill="hold">
                            <p:stCondLst>
                              <p:cond delay="0"/>
                            </p:stCondLst>
                            <p:childTnLst>
                              <p:par>
                                <p:cTn id="81" nodeType="clickEffect" fill="hold" presetClass="mediacall" presetID="1">
                                  <p:stCondLst>
                                    <p:cond delay="0"/>
                                  </p:stCondLst>
                                  <p:childTnLst>
                                    <p:cmd type="call" cmd="playFrom(0.0)">
                                      <p:cBhvr>
                                        <p:cTn id="82" dur="249753" fill="hold"/>
                                        <p:tgtEl>
                                          <p:spTgt spid="8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14040" y="618840"/>
            <a:ext cx="1036332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Times New Roman"/>
              </a:rPr>
              <a:t>جلسه اول</a:t>
            </a:r>
            <a:endParaRPr b="0" lang="en-US" sz="3600" spc="-1" strike="noStrike">
              <a:solidFill>
                <a:srgbClr val="000000"/>
              </a:solidFill>
              <a:latin typeface="Tw Cen MT"/>
            </a:endParaRPr>
          </a:p>
        </p:txBody>
      </p:sp>
      <p:sp>
        <p:nvSpPr>
          <p:cNvPr id="779" name=""/>
          <p:cNvSpPr txBox="1"/>
          <p:nvPr/>
        </p:nvSpPr>
        <p:spPr>
          <a:xfrm>
            <a:off x="914040" y="1600200"/>
            <a:ext cx="10363320" cy="419112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B Nazanin"/>
              </a:rPr>
              <a:t>معرفی کتاب</a:t>
            </a:r>
            <a:r>
              <a:rPr b="0" lang="fa-IR" sz="2800" spc="-1" strike="noStrike">
                <a:solidFill>
                  <a:srgbClr val="2689ad"/>
                </a:solidFill>
                <a:latin typeface="Tw Cen MT"/>
                <a:ea typeface="B Nazanin"/>
              </a:rPr>
              <a:t> </a:t>
            </a:r>
            <a:r>
              <a:rPr b="0" lang="fa-IR" sz="2800" spc="-1" strike="noStrike">
                <a:solidFill>
                  <a:srgbClr val="2689ad"/>
                </a:solidFill>
                <a:latin typeface="Tw Cen MT"/>
                <a:ea typeface="B Nazanin"/>
              </a:rPr>
              <a:t>: </a:t>
            </a: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780" name="Picture 3" descr=""/>
          <p:cNvPicPr/>
          <p:nvPr/>
        </p:nvPicPr>
        <p:blipFill>
          <a:blip r:embed="rId1"/>
          <a:stretch/>
        </p:blipFill>
        <p:spPr>
          <a:xfrm>
            <a:off x="912960" y="1500120"/>
            <a:ext cx="3367080" cy="4214880"/>
          </a:xfrm>
          <a:prstGeom prst="rect">
            <a:avLst/>
          </a:prstGeom>
          <a:ln w="0">
            <a:noFill/>
          </a:ln>
        </p:spPr>
      </p:pic>
      <p:pic>
        <p:nvPicPr>
          <p:cNvPr id="781" name="Picture 4" descr=""/>
          <p:cNvPicPr/>
          <p:nvPr/>
        </p:nvPicPr>
        <p:blipFill>
          <a:blip r:embed="rId2"/>
          <a:stretch/>
        </p:blipFill>
        <p:spPr>
          <a:xfrm>
            <a:off x="4773600" y="1600200"/>
            <a:ext cx="3246480" cy="4114800"/>
          </a:xfrm>
          <a:prstGeom prst="rect">
            <a:avLst/>
          </a:prstGeom>
          <a:ln w="0">
            <a:noFill/>
          </a:ln>
        </p:spPr>
      </p:pic>
      <p:pic>
        <p:nvPicPr>
          <p:cNvPr id="782" name="AUD-20200407-WA0001.mp3" descr=""/>
          <p:cNvPicPr/>
          <p:nvPr/>
        </p:nvPicPr>
        <p:blipFill>
          <a:blip r:embed="rId3"/>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779">
                                            <p:txEl>
                                              <p:pRg st="0" end="0"/>
                                            </p:txEl>
                                          </p:spTgt>
                                        </p:tgtEl>
                                        <p:attrNameLst>
                                          <p:attrName>style.visibility</p:attrName>
                                        </p:attrNameLst>
                                      </p:cBhvr>
                                      <p:to>
                                        <p:strVal val="visible"/>
                                      </p:to>
                                    </p:set>
                                    <p:animEffect filter="randombar(horizontal)" transition="in">
                                      <p:cBhvr additive="repl">
                                        <p:cTn id="13" dur="500"/>
                                        <p:tgtEl>
                                          <p:spTgt spid="779">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1" presetSubtype="1">
                                  <p:stCondLst>
                                    <p:cond delay="0"/>
                                  </p:stCondLst>
                                  <p:childTnLst>
                                    <p:set>
                                      <p:cBhvr>
                                        <p:cTn id="17" dur="1" fill="hold">
                                          <p:stCondLst>
                                            <p:cond delay="0"/>
                                          </p:stCondLst>
                                        </p:cTn>
                                        <p:tgtEl>
                                          <p:spTgt spid="780"/>
                                        </p:tgtEl>
                                        <p:attrNameLst>
                                          <p:attrName>style.visibility</p:attrName>
                                        </p:attrNameLst>
                                      </p:cBhvr>
                                      <p:to>
                                        <p:strVal val="visible"/>
                                      </p:to>
                                    </p:set>
                                    <p:animEffect filter="wheel(1)" transition="in">
                                      <p:cBhvr additive="repl">
                                        <p:cTn id="18" dur="2000"/>
                                        <p:tgtEl>
                                          <p:spTgt spid="78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1" presetSubtype="1">
                                  <p:stCondLst>
                                    <p:cond delay="0"/>
                                  </p:stCondLst>
                                  <p:childTnLst>
                                    <p:set>
                                      <p:cBhvr>
                                        <p:cTn id="22" dur="1" fill="hold">
                                          <p:stCondLst>
                                            <p:cond delay="0"/>
                                          </p:stCondLst>
                                        </p:cTn>
                                        <p:tgtEl>
                                          <p:spTgt spid="781"/>
                                        </p:tgtEl>
                                        <p:attrNameLst>
                                          <p:attrName>style.visibility</p:attrName>
                                        </p:attrNameLst>
                                      </p:cBhvr>
                                      <p:to>
                                        <p:strVal val="visible"/>
                                      </p:to>
                                    </p:set>
                                    <p:animEffect filter="wheel(1)" transition="in">
                                      <p:cBhvr additive="repl">
                                        <p:cTn id="23"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82"/>
                    </p:tgtEl>
                  </p:cond>
                </p:stCondLst>
                <p:childTnLst>
                  <p:par>
                    <p:cTn id="25" nodeType="clickEffect" fill="hold">
                      <p:stCondLst>
                        <p:cond evt="onClick">
                          <p:tgtEl>
                            <p:spTgt spid="782"/>
                          </p:tgtEl>
                        </p:cond>
                      </p:stCondLst>
                      <p:childTnLst>
                        <p:par>
                          <p:cTn id="26" nodeType="withEffect" fill="hold">
                            <p:stCondLst>
                              <p:cond delay="0"/>
                            </p:stCondLst>
                            <p:childTnLst>
                              <p:par>
                                <p:cTn id="27" nodeType="clickEffect" fill="hold" presetClass="mediacall" presetID="1">
                                  <p:stCondLst>
                                    <p:cond delay="0"/>
                                  </p:stCondLst>
                                  <p:childTnLst>
                                    <p:cmd type="call" cmd="playFrom(0.0)">
                                      <p:cBhvr>
                                        <p:cTn id="28" dur="50524"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B Nazanin"/>
              </a:rPr>
              <a:t>سرفصل مطالب جلسه اول</a:t>
            </a:r>
            <a:r>
              <a:rPr b="0" lang="fa-IR" sz="3600" spc="-1" strike="noStrike">
                <a:solidFill>
                  <a:srgbClr val="2689ad"/>
                </a:solidFill>
                <a:latin typeface="Tw Cen MT"/>
                <a:ea typeface="B Nazanin"/>
              </a:rPr>
              <a:t> </a:t>
            </a:r>
            <a:r>
              <a:rPr b="0" lang="fa-IR" sz="3600" spc="-1" strike="noStrike">
                <a:solidFill>
                  <a:srgbClr val="2689ad"/>
                </a:solidFill>
                <a:latin typeface="Tw Cen MT"/>
                <a:ea typeface="B Nazanin"/>
              </a:rPr>
              <a:t>:</a:t>
            </a:r>
            <a:endParaRPr b="0" lang="en-US" sz="3600" spc="-1" strike="noStrike">
              <a:solidFill>
                <a:srgbClr val="000000"/>
              </a:solidFill>
              <a:latin typeface="Tw Cen MT"/>
            </a:endParaRPr>
          </a:p>
        </p:txBody>
      </p:sp>
      <p:pic>
        <p:nvPicPr>
          <p:cNvPr id="784" name="Content Placeholder 2" descr=""/>
          <p:cNvPicPr/>
          <p:nvPr/>
        </p:nvPicPr>
        <p:blipFill>
          <a:blip r:embed="rId1"/>
          <a:stretch/>
        </p:blipFill>
        <p:spPr>
          <a:xfrm>
            <a:off x="914400" y="1719360"/>
            <a:ext cx="10449000" cy="4071960"/>
          </a:xfrm>
          <a:prstGeom prst="rect">
            <a:avLst/>
          </a:prstGeom>
          <a:ln w="0">
            <a:noFill/>
          </a:ln>
        </p:spPr>
      </p:pic>
      <p:pic>
        <p:nvPicPr>
          <p:cNvPr id="785" name="AUD-20200407-WA0002.mp3"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785"/>
                    </p:tgtEl>
                  </p:cond>
                </p:stCondLst>
                <p:childTnLst>
                  <p:par>
                    <p:cTn id="31" nodeType="clickEffect" fill="hold">
                      <p:stCondLst>
                        <p:cond evt="onClick">
                          <p:tgtEl>
                            <p:spTgt spid="785"/>
                          </p:tgtEl>
                        </p:cond>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46389"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914040" y="619200"/>
            <a:ext cx="10363320" cy="1100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Times New Roman"/>
              </a:rPr>
              <a:t>حسابداری یک سیستم اطلاعاتی</a:t>
            </a:r>
            <a:endParaRPr b="0" lang="en-US" sz="2800" spc="-1" strike="noStrike">
              <a:solidFill>
                <a:srgbClr val="000000"/>
              </a:solidFill>
              <a:latin typeface="Tw Cen MT"/>
            </a:endParaRPr>
          </a:p>
        </p:txBody>
      </p:sp>
      <p:sp>
        <p:nvSpPr>
          <p:cNvPr id="787" name=""/>
          <p:cNvSpPr txBox="1"/>
          <p:nvPr/>
        </p:nvSpPr>
        <p:spPr>
          <a:xfrm>
            <a:off x="914040" y="1444680"/>
            <a:ext cx="10363320" cy="461808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ر اغلب واحدهای جاری سیستم حسابداری اساسی ترین و قابل اعتماد ترین سیستم اطلاعاتی کمی مدیریت است که برای دستیابی به اهداف واحد تجاری فعالیت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حسابداری را می توان به عنوان یک سیستم اطلاعاتی در نظر گرفت که ورودی دریافت آن را پردازش و در نهایت خروجی تولید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p:txBody>
      </p:sp>
      <p:sp>
        <p:nvSpPr>
          <p:cNvPr id="788" name="Rectangle 3"/>
          <p:cNvSpPr/>
          <p:nvPr/>
        </p:nvSpPr>
        <p:spPr>
          <a:xfrm>
            <a:off x="4759200" y="2971800"/>
            <a:ext cx="1994040" cy="712800"/>
          </a:xfrm>
          <a:prstGeom prst="rect">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پردازش</a:t>
            </a:r>
            <a:endParaRPr b="0" lang="en-US" sz="1800" spc="-1" strike="noStrike">
              <a:solidFill>
                <a:srgbClr val="000000"/>
              </a:solidFill>
              <a:latin typeface="Tw Cen MT"/>
            </a:endParaRPr>
          </a:p>
        </p:txBody>
      </p:sp>
      <p:sp>
        <p:nvSpPr>
          <p:cNvPr id="789" name="Right Arrow 4"/>
          <p:cNvSpPr/>
          <p:nvPr/>
        </p:nvSpPr>
        <p:spPr>
          <a:xfrm>
            <a:off x="3284640" y="3041640"/>
            <a:ext cx="1417680" cy="712800"/>
          </a:xfrm>
          <a:prstGeom prst="rightArrow">
            <a:avLst>
              <a:gd name="adj1" fmla="val 50000"/>
              <a:gd name="adj2" fmla="val 49998"/>
            </a:avLst>
          </a:prstGeom>
          <a:solidFill>
            <a:srgbClr val="e34b7a"/>
          </a:solidFill>
          <a:ln w="15840">
            <a:solidFill>
              <a:srgbClr val="195b73"/>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ورودی</a:t>
            </a:r>
            <a:endParaRPr b="0" lang="en-US" sz="1800" spc="-1" strike="noStrike">
              <a:solidFill>
                <a:srgbClr val="000000"/>
              </a:solidFill>
              <a:latin typeface="Tw Cen MT"/>
            </a:endParaRPr>
          </a:p>
        </p:txBody>
      </p:sp>
      <p:sp>
        <p:nvSpPr>
          <p:cNvPr id="790" name="Right Arrow 5"/>
          <p:cNvSpPr/>
          <p:nvPr/>
        </p:nvSpPr>
        <p:spPr>
          <a:xfrm>
            <a:off x="6931080" y="2987640"/>
            <a:ext cx="1388880" cy="696960"/>
          </a:xfrm>
          <a:prstGeom prst="rightArrow">
            <a:avLst>
              <a:gd name="adj1" fmla="val 50000"/>
              <a:gd name="adj2" fmla="val 49994"/>
            </a:avLst>
          </a:prstGeom>
          <a:solidFill>
            <a:srgbClr val="e34b7a"/>
          </a:solidFill>
          <a:ln w="15840">
            <a:solidFill>
              <a:srgbClr val="0070c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خروجی</a:t>
            </a:r>
            <a:endParaRPr b="0" lang="en-US" sz="1800" spc="-1" strike="noStrike">
              <a:solidFill>
                <a:srgbClr val="000000"/>
              </a:solidFill>
              <a:latin typeface="Tw Cen MT"/>
            </a:endParaRPr>
          </a:p>
        </p:txBody>
      </p:sp>
      <p:sp>
        <p:nvSpPr>
          <p:cNvPr id="791" name="Rounded Rectangle 6"/>
          <p:cNvSpPr/>
          <p:nvPr/>
        </p:nvSpPr>
        <p:spPr>
          <a:xfrm>
            <a:off x="1219320" y="4581360"/>
            <a:ext cx="2065320" cy="10242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استفاده کنندگان از اطلاعات حسابداری</a:t>
            </a:r>
            <a:endParaRPr b="0" lang="en-US" sz="1800" spc="-1" strike="noStrike">
              <a:solidFill>
                <a:srgbClr val="000000"/>
              </a:solidFill>
              <a:latin typeface="Tw Cen MT"/>
            </a:endParaRPr>
          </a:p>
        </p:txBody>
      </p:sp>
      <p:cxnSp>
        <p:nvCxnSpPr>
          <p:cNvPr id="792" name="Straight Arrow Connector 9"/>
          <p:cNvCxnSpPr>
            <a:stCxn id="791" idx="3"/>
          </p:cNvCxnSpPr>
          <p:nvPr/>
        </p:nvCxnSpPr>
        <p:spPr>
          <a:xfrm flipV="1">
            <a:off x="3284280" y="4581000"/>
            <a:ext cx="996120" cy="511920"/>
          </a:xfrm>
          <a:prstGeom prst="straightConnector1">
            <a:avLst/>
          </a:prstGeom>
          <a:ln w="9360">
            <a:solidFill>
              <a:srgbClr val="b53a60"/>
            </a:solidFill>
            <a:miter/>
            <a:tailEnd len="med" type="triangle" w="med"/>
          </a:ln>
        </p:spPr>
      </p:cxnSp>
      <p:cxnSp>
        <p:nvCxnSpPr>
          <p:cNvPr id="793" name="Straight Arrow Connector 11"/>
          <p:cNvCxnSpPr>
            <a:stCxn id="791" idx="3"/>
          </p:cNvCxnSpPr>
          <p:nvPr/>
        </p:nvCxnSpPr>
        <p:spPr>
          <a:xfrm>
            <a:off x="3284280" y="5092200"/>
            <a:ext cx="996120" cy="546480"/>
          </a:xfrm>
          <a:prstGeom prst="straightConnector1">
            <a:avLst/>
          </a:prstGeom>
          <a:ln w="9360">
            <a:solidFill>
              <a:srgbClr val="b53a60"/>
            </a:solidFill>
            <a:miter/>
            <a:tailEnd len="med" type="triangle" w="med"/>
          </a:ln>
        </p:spPr>
      </p:cxnSp>
      <p:sp>
        <p:nvSpPr>
          <p:cNvPr id="794" name="Rounded Rectangle 13"/>
          <p:cNvSpPr/>
          <p:nvPr/>
        </p:nvSpPr>
        <p:spPr>
          <a:xfrm>
            <a:off x="4406760" y="4068720"/>
            <a:ext cx="1689120" cy="66852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درون سازمانی</a:t>
            </a:r>
            <a:endParaRPr b="0" lang="en-US" sz="1800" spc="-1" strike="noStrike">
              <a:solidFill>
                <a:srgbClr val="000000"/>
              </a:solidFill>
              <a:latin typeface="Tw Cen MT"/>
            </a:endParaRPr>
          </a:p>
        </p:txBody>
      </p:sp>
      <p:sp>
        <p:nvSpPr>
          <p:cNvPr id="795" name="Rounded Rectangle 14"/>
          <p:cNvSpPr/>
          <p:nvPr/>
        </p:nvSpPr>
        <p:spPr>
          <a:xfrm>
            <a:off x="4406760" y="5175360"/>
            <a:ext cx="1689120" cy="7128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رون سازمانی</a:t>
            </a:r>
            <a:endParaRPr b="0" lang="en-US" sz="1800" spc="-1" strike="noStrike">
              <a:solidFill>
                <a:srgbClr val="000000"/>
              </a:solidFill>
              <a:latin typeface="Tw Cen MT"/>
            </a:endParaRPr>
          </a:p>
        </p:txBody>
      </p:sp>
      <p:pic>
        <p:nvPicPr>
          <p:cNvPr id="796" name="AUD-20200409-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796"/>
                    </p:tgtEl>
                  </p:cond>
                </p:stCondLst>
                <p:childTnLst>
                  <p:par>
                    <p:cTn id="37" nodeType="clickEffect" fill="hold">
                      <p:stCondLst>
                        <p:cond evt="onClick">
                          <p:tgtEl>
                            <p:spTgt spid="796"/>
                          </p:tgtEl>
                        </p:cond>
                      </p:stCondLst>
                      <p:childTnLst>
                        <p:par>
                          <p:cTn id="38" nodeType="withEffect" fill="hold">
                            <p:stCondLst>
                              <p:cond delay="0"/>
                            </p:stCondLst>
                            <p:childTnLst>
                              <p:par>
                                <p:cTn id="39" nodeType="clickEffect" fill="hold" presetClass="mediacall" presetID="1">
                                  <p:stCondLst>
                                    <p:cond delay="0"/>
                                  </p:stCondLst>
                                  <p:childTnLst>
                                    <p:cmd type="call" cmd="playFrom(0.0)">
                                      <p:cBhvr>
                                        <p:cTn id="40" dur="162144" fill="hold"/>
                                        <p:tgtEl>
                                          <p:spTgt spid="7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420840"/>
            <a:ext cx="10363320" cy="82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مالی و حسابداری مدیریت</a:t>
            </a:r>
            <a:endParaRPr b="0" lang="en-US" sz="3600" spc="-1" strike="noStrike">
              <a:solidFill>
                <a:srgbClr val="000000"/>
              </a:solidFill>
              <a:latin typeface="Tw Cen MT"/>
            </a:endParaRPr>
          </a:p>
        </p:txBody>
      </p:sp>
      <p:sp>
        <p:nvSpPr>
          <p:cNvPr id="798" name=""/>
          <p:cNvSpPr txBox="1"/>
          <p:nvPr/>
        </p:nvSpPr>
        <p:spPr>
          <a:xfrm>
            <a:off x="914040" y="1169640"/>
            <a:ext cx="10363320" cy="552276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آن بخش از حسابداری که اطلاعات مورد نیاز استفاده کنندگان برون سازمانی را تهیه می کند حسابداری مالی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r>
              <a:rPr b="0" lang="fa-IR" sz="2000" spc="-1" strike="noStrike">
                <a:solidFill>
                  <a:srgbClr val="2689ad"/>
                </a:solidFill>
                <a:latin typeface="Tw Cen MT"/>
                <a:cs typeface="B Nazanin"/>
              </a:rPr>
              <a:t>و آن بخش از حسابداری که اطلاعات مورد نیاز استفاده کنندگان درون سازمانی را تهیه می کند حسابداری مدیریت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d0d0d"/>
                </a:solidFill>
                <a:latin typeface="Tw Cen MT"/>
                <a:cs typeface="B Nazanin"/>
              </a:rPr>
              <a:t>برخی از تفاوتهای میان حسابداری مالی و مدیریت</a:t>
            </a:r>
            <a:r>
              <a:rPr b="1" lang="fa-IR" sz="2000" spc="-1" strike="noStrike">
                <a:solidFill>
                  <a:srgbClr val="0d0d0d"/>
                </a:solidFill>
                <a:latin typeface="Tw Cen MT"/>
                <a:ea typeface="B Nazanin"/>
              </a:rPr>
              <a:t> </a:t>
            </a:r>
            <a:r>
              <a:rPr b="1" lang="fa-IR" sz="2000" spc="-1" strike="noStrike">
                <a:solidFill>
                  <a:srgbClr val="0d0d0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799" name=""/>
          <p:cNvGraphicFramePr/>
          <p:nvPr/>
        </p:nvGraphicFramePr>
        <p:xfrm>
          <a:off x="1190520" y="3481560"/>
          <a:ext cx="9151920" cy="2778120"/>
        </p:xfrm>
        <a:graphic>
          <a:graphicData uri="http://schemas.openxmlformats.org/drawingml/2006/table">
            <a:tbl>
              <a:tblPr/>
              <a:tblGrid>
                <a:gridCol w="3051360"/>
                <a:gridCol w="3430440"/>
                <a:gridCol w="2670120"/>
              </a:tblGrid>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دیریت</a:t>
                      </a:r>
                      <a:endParaRPr b="0" lang="en-US" sz="2000" spc="-1" strike="noStrike">
                        <a:solidFill>
                          <a:srgbClr val="000000"/>
                        </a:solidFill>
                        <a:latin typeface="Tw Cen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ا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استفاده کننده گان</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ستگی به نیاز مدیریت 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حدود به صورتهای مالی اساس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نوع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وره خاص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عمولا سالانه</a:t>
                      </a:r>
                      <a:r>
                        <a:rPr b="0" lang="fa-IR" sz="2000" spc="-1" strike="noStrike">
                          <a:solidFill>
                            <a:srgbClr val="000000"/>
                          </a:solidFill>
                          <a:latin typeface="Tw Cen MT"/>
                          <a:ea typeface="Times New Roman"/>
                        </a:rPr>
                        <a:t> </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وره گزارشگ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هر 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فقط واحد پو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ورد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الزامی اس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رعایت استاندارد های حسابدا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آینده نگر و برآورد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گذشته نما و واقع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محتوای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pic>
        <p:nvPicPr>
          <p:cNvPr id="800" name="AUD-20200409-WA0011.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800"/>
                    </p:tgtEl>
                  </p:cond>
                </p:stCondLst>
                <p:childTnLst>
                  <p:par>
                    <p:cTn id="43" nodeType="clickEffect" fill="hold">
                      <p:stCondLst>
                        <p:cond evt="onClick">
                          <p:tgtEl>
                            <p:spTgt spid="800"/>
                          </p:tgtEl>
                        </p:cond>
                      </p:stCondLst>
                      <p:childTnLst>
                        <p:par>
                          <p:cTn id="44" nodeType="withEffect" fill="hold">
                            <p:stCondLst>
                              <p:cond delay="0"/>
                            </p:stCondLst>
                            <p:childTnLst>
                              <p:par>
                                <p:cTn id="45" nodeType="clickEffect" fill="hold" presetClass="mediacall" presetID="1">
                                  <p:stCondLst>
                                    <p:cond delay="0"/>
                                  </p:stCondLst>
                                  <p:childTnLst>
                                    <p:cmd type="call" cmd="playFrom(0.0)">
                                      <p:cBhvr>
                                        <p:cTn id="46" dur="202500" fill="hold"/>
                                        <p:tgtEl>
                                          <p:spTgt spid="8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054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بهای تمام شده</a:t>
            </a:r>
            <a:r>
              <a:rPr b="0" lang="fa-IR" sz="3600" spc="-1" strike="noStrike">
                <a:solidFill>
                  <a:srgbClr val="000000"/>
                </a:solidFill>
                <a:latin typeface="Tw Cen MT"/>
                <a:ea typeface="Times New Roman"/>
              </a:rPr>
              <a:t> </a:t>
            </a:r>
            <a:endParaRPr b="0" lang="en-US" sz="3600" spc="-1" strike="noStrike">
              <a:solidFill>
                <a:srgbClr val="000000"/>
              </a:solidFill>
              <a:latin typeface="Tw Cen MT"/>
            </a:endParaRPr>
          </a:p>
        </p:txBody>
      </p:sp>
      <p:sp>
        <p:nvSpPr>
          <p:cNvPr id="802" name=""/>
          <p:cNvSpPr txBox="1"/>
          <p:nvPr/>
        </p:nvSpPr>
        <p:spPr>
          <a:xfrm>
            <a:off x="914040" y="1672920"/>
            <a:ext cx="10363320" cy="4118040"/>
          </a:xfrm>
          <a:prstGeom prst="rect">
            <a:avLst/>
          </a:prstGeom>
          <a:noFill/>
          <a:ln w="0">
            <a:noFill/>
          </a:ln>
        </p:spPr>
        <p:txBody>
          <a:bodyPr anchor="t">
            <a:normAutofit/>
          </a:bodyPr>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حسابداری بهای تمام شده که حسابداری صنعتی نیز نامیده می شود بخشی از حسابداری است که وظیفه آن جمع آوری اطلاعات مربوط به عوامل بهای تمام شده و همچنین محاسبه بهای تمام شده محصولات و خدمات و گزارش آنها به حسابداری مالی و حسابداری مدیریت می باشد . بر خلاف حسابداری مالی و حسابداری مدیریت ، فعالیتهای حسابداری بهای تمام شده منجر به تهیه گزارشات اختصاصی نمی شود .</a:t>
            </a:r>
            <a:endParaRPr b="0" lang="en-US" sz="2000" spc="-1" strike="noStrike">
              <a:solidFill>
                <a:srgbClr val="000000"/>
              </a:solidFill>
              <a:latin typeface="Tw Cen MT"/>
            </a:endParaRPr>
          </a:p>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w Cen MT"/>
                <a:cs typeface="B Nazanin"/>
              </a:rPr>
              <a:t>نکته: </a:t>
            </a:r>
            <a:r>
              <a:rPr b="0" lang="fa-IR" sz="2000" spc="-1" strike="noStrike">
                <a:solidFill>
                  <a:srgbClr val="ff0000"/>
                </a:solidFill>
                <a:latin typeface="Tw Cen MT"/>
                <a:cs typeface="B Nazanin"/>
              </a:rPr>
              <a:t>حسابداری بهای تمام شده حلقه ارتباطی بین حسابداری مالی و حسابداری مدیریت می باشد و در واقع گزارشات تولید شده توسط آن مورد استفاده هر دو گروه قرار می گیرد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3" name="Oval 3"/>
          <p:cNvSpPr/>
          <p:nvPr/>
        </p:nvSpPr>
        <p:spPr>
          <a:xfrm>
            <a:off x="3786120" y="4370400"/>
            <a:ext cx="1554120" cy="1096920"/>
          </a:xfrm>
          <a:prstGeom prst="ellipse">
            <a:avLst/>
          </a:prstGeom>
          <a:solidFill>
            <a:srgbClr val="de85e1"/>
          </a:solidFill>
          <a:ln w="15840">
            <a:solidFill>
              <a:srgbClr val="a360a5"/>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های تمام شده</a:t>
            </a:r>
            <a:endParaRPr b="0" lang="en-US" sz="1800" spc="-1" strike="noStrike">
              <a:solidFill>
                <a:srgbClr val="000000"/>
              </a:solidFill>
              <a:latin typeface="Tw Cen MT"/>
            </a:endParaRPr>
          </a:p>
        </p:txBody>
      </p:sp>
      <p:sp>
        <p:nvSpPr>
          <p:cNvPr id="804" name="Oval 4"/>
          <p:cNvSpPr/>
          <p:nvPr/>
        </p:nvSpPr>
        <p:spPr>
          <a:xfrm>
            <a:off x="2395440" y="4370400"/>
            <a:ext cx="160992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الی</a:t>
            </a:r>
            <a:endParaRPr b="0" lang="en-US" sz="1800" spc="-1" strike="noStrike">
              <a:solidFill>
                <a:srgbClr val="000000"/>
              </a:solidFill>
              <a:latin typeface="Tw Cen MT"/>
            </a:endParaRPr>
          </a:p>
        </p:txBody>
      </p:sp>
      <p:sp>
        <p:nvSpPr>
          <p:cNvPr id="805" name="Oval 5"/>
          <p:cNvSpPr/>
          <p:nvPr/>
        </p:nvSpPr>
        <p:spPr>
          <a:xfrm>
            <a:off x="5138640" y="4370400"/>
            <a:ext cx="159084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دیریت</a:t>
            </a:r>
            <a:endParaRPr b="0" lang="en-US" sz="1800" spc="-1" strike="noStrike">
              <a:solidFill>
                <a:srgbClr val="000000"/>
              </a:solidFill>
              <a:latin typeface="Tw Cen MT"/>
            </a:endParaRPr>
          </a:p>
        </p:txBody>
      </p:sp>
      <p:pic>
        <p:nvPicPr>
          <p:cNvPr id="806" name="AUD-20200408-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806"/>
                    </p:tgtEl>
                  </p:cond>
                </p:stCondLst>
                <p:childTnLst>
                  <p:par>
                    <p:cTn id="49" nodeType="clickEffect" fill="hold">
                      <p:stCondLst>
                        <p:cond evt="onClick">
                          <p:tgtEl>
                            <p:spTgt spid="806"/>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1965" fill="hold"/>
                                        <p:tgtEl>
                                          <p:spTgt spid="8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274680"/>
            <a:ext cx="10363320" cy="102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فرآیند ایجاد ارزش</a:t>
            </a:r>
            <a:endParaRPr b="0" lang="en-US" sz="3600" spc="-1" strike="noStrike">
              <a:solidFill>
                <a:srgbClr val="000000"/>
              </a:solidFill>
              <a:latin typeface="Tw Cen MT"/>
            </a:endParaRPr>
          </a:p>
        </p:txBody>
      </p:sp>
      <p:sp>
        <p:nvSpPr>
          <p:cNvPr id="808" name=""/>
          <p:cNvSpPr txBox="1"/>
          <p:nvPr/>
        </p:nvSpPr>
        <p:spPr>
          <a:xfrm>
            <a:off x="239400" y="1298520"/>
            <a:ext cx="10955160" cy="4492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مجموعه فعالیتهایی که موجب ایجاد یا افزایش مطلوبیت و ارزش محصول یا خدمت می شوند . این فرآیند شامل </a:t>
            </a:r>
            <a:r>
              <a:rPr b="0" lang="fa-IR" sz="2000" spc="-1" strike="noStrike">
                <a:solidFill>
                  <a:srgbClr val="0070c0"/>
                </a:solidFill>
                <a:latin typeface="Tw Cen MT"/>
                <a:ea typeface="B Nazanin"/>
              </a:rPr>
              <a:t>6</a:t>
            </a:r>
            <a:r>
              <a:rPr b="0" lang="fa-IR" sz="2000" spc="-1" strike="noStrike">
                <a:solidFill>
                  <a:srgbClr val="0070c0"/>
                </a:solidFill>
                <a:latin typeface="Tw Cen MT"/>
                <a:ea typeface="B Nazanin"/>
              </a:rPr>
              <a:t> مرحله به شرح زیر می باشد</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نکته</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البته در عمل این مراحل ترتیب خاصی ندارد . مثلا ممکن است بازاریابی یک محصول قبل از تولید آن انجام شود</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09" name="Diagram 3" descr=""/>
          <p:cNvPicPr/>
          <p:nvPr/>
        </p:nvPicPr>
        <p:blipFill>
          <a:blip r:embed="rId1"/>
          <a:stretch/>
        </p:blipFill>
        <p:spPr>
          <a:xfrm>
            <a:off x="176040" y="3541680"/>
            <a:ext cx="7761600" cy="1090800"/>
          </a:xfrm>
          <a:prstGeom prst="rect">
            <a:avLst/>
          </a:prstGeom>
          <a:ln w="0">
            <a:noFill/>
          </a:ln>
        </p:spPr>
      </p:pic>
      <p:pic>
        <p:nvPicPr>
          <p:cNvPr id="810" name="AUD-20200409-WA0002.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810"/>
                    </p:tgtEl>
                  </p:cond>
                </p:stCondLst>
                <p:childTnLst>
                  <p:par>
                    <p:cTn id="55" nodeType="clickEffect" fill="hold">
                      <p:stCondLst>
                        <p:cond evt="onClick">
                          <p:tgtEl>
                            <p:spTgt spid="810"/>
                          </p:tgtEl>
                        </p:cond>
                      </p:stCondLst>
                      <p:childTnLst>
                        <p:par>
                          <p:cTn id="56" nodeType="withEffect" fill="hold">
                            <p:stCondLst>
                              <p:cond delay="0"/>
                            </p:stCondLst>
                            <p:childTnLst>
                              <p:par>
                                <p:cTn id="57" nodeType="clickEffect" fill="hold" presetClass="mediacall" presetID="1">
                                  <p:stCondLst>
                                    <p:cond delay="0"/>
                                  </p:stCondLst>
                                  <p:childTnLst>
                                    <p:cmd type="call" cmd="playFrom(0.0)">
                                      <p:cBhvr>
                                        <p:cTn id="58" dur="154040" fill="hold"/>
                                        <p:tgtEl>
                                          <p:spTgt spid="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89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آشنایی با برخی از مفاهیم و اصطلاحات در حسابداری بهای تمام شده</a:t>
            </a:r>
            <a:endParaRPr b="0" lang="en-US" sz="3600" spc="-1" strike="noStrike">
              <a:solidFill>
                <a:srgbClr val="000000"/>
              </a:solidFill>
              <a:latin typeface="Tw Cen MT"/>
            </a:endParaRPr>
          </a:p>
        </p:txBody>
      </p:sp>
      <p:sp>
        <p:nvSpPr>
          <p:cNvPr id="812" name=""/>
          <p:cNvSpPr txBox="1"/>
          <p:nvPr/>
        </p:nvSpPr>
        <p:spPr>
          <a:xfrm>
            <a:off x="914040" y="1517400"/>
            <a:ext cx="10363320" cy="427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 : </a:t>
            </a:r>
            <a:r>
              <a:rPr b="1" lang="fa-IR" sz="1800" spc="-1" strike="noStrike">
                <a:solidFill>
                  <a:srgbClr val="000000"/>
                </a:solidFill>
                <a:latin typeface="Tw Cen MT"/>
                <a:cs typeface="B Nazanin"/>
              </a:rPr>
              <a:t>عبارت است از منابع صرف شده برای تحصیل یک منبع دیگر که این منبع جدید دارای منافع آتی باشد .این تعریف در واقع تعریف دارایی است به این معنی که بها در ترازنامه در بخش داراییها گزارش شده و همانند داراییها هدفدار و ارادی بوده خوشایند و قابل کنترل می باشد . مانند کالای ساخته شده تا قبل از فروش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هزینه : </a:t>
            </a:r>
            <a:r>
              <a:rPr b="1" lang="fa-IR" sz="1800" spc="-1" strike="noStrike">
                <a:solidFill>
                  <a:srgbClr val="000000"/>
                </a:solidFill>
                <a:latin typeface="Tw Cen MT"/>
                <a:cs typeface="B Nazanin"/>
              </a:rPr>
              <a:t>عبارت است از منابع صرف شده برای تحصیل یک منفعت ( درآمد )  که منافع کسب شده آن کاملا منقضی شده و فاقد هرگونه منافع آتی می باشد . هزینه ها از همان ابتدا به عنوان هزینه شناسایی و ثبت می شوند مانند هزینه حقوق کارکنان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زیان : </a:t>
            </a:r>
            <a:r>
              <a:rPr b="1" lang="fa-IR" sz="1800" spc="-1" strike="noStrike">
                <a:solidFill>
                  <a:srgbClr val="000000"/>
                </a:solidFill>
                <a:latin typeface="Tw Cen MT"/>
                <a:cs typeface="B Nazanin"/>
              </a:rPr>
              <a:t>از دست رفتن منافع بدون کسب هیچگونه منفعتی نه در گذشته و نه درآینده . مانند آتشسوزی در انبار مواد اولیه .</a:t>
            </a:r>
            <a:endParaRPr b="0" lang="en-US" sz="1800" spc="-1" strike="noStrike">
              <a:solidFill>
                <a:srgbClr val="000000"/>
              </a:solidFill>
              <a:latin typeface="Tw Cen MT"/>
            </a:endParaRPr>
          </a:p>
        </p:txBody>
      </p:sp>
      <p:pic>
        <p:nvPicPr>
          <p:cNvPr id="813" name="AUD-20200409-WA0010.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restart="whenNotActive" nodeType="interactiveSeq" fill="hold">
                <p:stCondLst>
                  <p:cond evt="onClick">
                    <p:tgtEl>
                      <p:spTgt spid="813"/>
                    </p:tgtEl>
                  </p:cond>
                </p:stCondLst>
                <p:childTnLst>
                  <p:par>
                    <p:cTn id="61" nodeType="clickEffect" fill="hold">
                      <p:stCondLst>
                        <p:cond evt="onClick">
                          <p:tgtEl>
                            <p:spTgt spid="813"/>
                          </p:tgtEl>
                        </p:cond>
                      </p:stCondLst>
                      <p:childTnLst>
                        <p:par>
                          <p:cTn id="62" nodeType="withEffect" fill="hold">
                            <p:stCondLst>
                              <p:cond delay="0"/>
                            </p:stCondLst>
                            <p:childTnLst>
                              <p:par>
                                <p:cTn id="63" nodeType="clickEffect" fill="hold" presetClass="mediacall" presetID="1">
                                  <p:stCondLst>
                                    <p:cond delay="0"/>
                                  </p:stCondLst>
                                  <p:childTnLst>
                                    <p:cmd type="call" cmd="playFrom(0.0)">
                                      <p:cBhvr>
                                        <p:cTn id="64" dur="190449" fill="hold"/>
                                        <p:tgtEl>
                                          <p:spTgt spid="8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14040" y="347760"/>
            <a:ext cx="10363320" cy="923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ابی و موضوع بها</a:t>
            </a:r>
            <a:endParaRPr b="0" lang="en-US" sz="3600" spc="-1" strike="noStrike">
              <a:solidFill>
                <a:srgbClr val="000000"/>
              </a:solidFill>
              <a:latin typeface="Tw Cen MT"/>
            </a:endParaRPr>
          </a:p>
        </p:txBody>
      </p:sp>
      <p:sp>
        <p:nvSpPr>
          <p:cNvPr id="815" name=""/>
          <p:cNvSpPr txBox="1"/>
          <p:nvPr/>
        </p:nvSpPr>
        <p:spPr>
          <a:xfrm>
            <a:off x="914040" y="1271160"/>
            <a:ext cx="10363320" cy="4519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70c0"/>
                </a:solidFill>
                <a:latin typeface="Tw Cen MT"/>
                <a:cs typeface="B Nazanin"/>
              </a:rPr>
              <a:t>فرآیند تعیین بهای تمام شده کالا و خدمات اصطلاحا</a:t>
            </a:r>
            <a:r>
              <a:rPr b="1" lang="fa-IR" sz="1800" spc="-1" strike="noStrike">
                <a:solidFill>
                  <a:srgbClr val="0070c0"/>
                </a:solidFill>
                <a:latin typeface="Tw Cen MT"/>
                <a:ea typeface="B Nazanin"/>
              </a:rPr>
              <a:t> بهایابی </a:t>
            </a:r>
            <a:r>
              <a:rPr b="0" lang="fa-IR" sz="1800" spc="-1" strike="noStrike">
                <a:solidFill>
                  <a:srgbClr val="0070c0"/>
                </a:solidFill>
                <a:latin typeface="Tw Cen MT"/>
                <a:cs typeface="B Nazanin"/>
              </a:rPr>
              <a:t>نامیده می شود .به عبارت دیگر بهایابی مجموعه اقدامات و فعالیتهایی است که در جهت تعیین بهای تمام شده کالاها و خدمات صورت می گیر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موضوع بهایابی </a:t>
            </a:r>
            <a:r>
              <a:rPr b="0" lang="fa-IR" sz="1800" spc="-1" strike="noStrike">
                <a:solidFill>
                  <a:srgbClr val="0070c0"/>
                </a:solidFill>
                <a:latin typeface="Tw Cen MT"/>
                <a:cs typeface="B Nazanin"/>
              </a:rPr>
              <a:t>هم در واقع همان چیزی است که به دنبال تعیین بهای تمام شده آن هستیم . موضوع بهایابی می تواند یک محصول ، یک خدمت ، یک طرح و یا یک سفارش باش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w Cen MT"/>
                <a:cs typeface="B Nazanin"/>
              </a:rPr>
              <a:t>نکته : حسابداری بهای تمام شده هم در موسسات تولیدی و هم در موسسات خدماتی کاربرد دارد</a:t>
            </a:r>
            <a:r>
              <a:rPr b="1" lang="fa-IR" sz="1800" spc="-1" strike="noStrike">
                <a:solidFill>
                  <a:srgbClr val="ff0000"/>
                </a:solidFill>
                <a:latin typeface="Tw Cen MT"/>
                <a:ea typeface="B Nazanin"/>
              </a:rPr>
              <a:t> </a:t>
            </a:r>
            <a:r>
              <a:rPr b="1" lang="fa-IR" sz="1800" spc="-1" strike="noStrike">
                <a:solidFill>
                  <a:srgbClr val="ff000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نواع سیستمهای بهایابی</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 </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در حسابداری بهای تمام شده برای تعیین بهای کالا و خدمات از سیستمهای بها یابی استفاده می شود  . این سیستم ها شامل</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لف : سیستم بهایابی سفارش کار</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 : سیستم بهایابی مرحله ای</a:t>
            </a:r>
            <a:endParaRPr b="0" lang="en-US" sz="1800" spc="-1" strike="noStrike">
              <a:solidFill>
                <a:srgbClr val="000000"/>
              </a:solidFill>
              <a:latin typeface="Tw Cen MT"/>
            </a:endParaRPr>
          </a:p>
        </p:txBody>
      </p:sp>
      <p:pic>
        <p:nvPicPr>
          <p:cNvPr id="816" name="AUD-20200409-WA0003.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816"/>
                    </p:tgtEl>
                  </p:cond>
                </p:stCondLst>
                <p:childTnLst>
                  <p:par>
                    <p:cTn id="67" nodeType="clickEffect" fill="hold">
                      <p:stCondLst>
                        <p:cond evt="onClick">
                          <p:tgtEl>
                            <p:spTgt spid="816"/>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243460" fill="hold"/>
                                        <p:tgtEl>
                                          <p:spTgt spid="8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49:09Z</dcterms:created>
  <dc:creator>Windows User</dc:creator>
  <dc:description/>
  <dc:language>en-US</dc:language>
  <cp:lastModifiedBy>Windows User</cp:lastModifiedBy>
  <dcterms:modified xsi:type="dcterms:W3CDTF">2020-04-09T17:54:57Z</dcterms:modified>
  <cp:revision>2</cp:revision>
  <dc:subject/>
  <dc:title>PowerPoint Presentation</dc:title>
</cp:coreProperties>
</file>