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A0FB-9FA3-4B7D-ADDE-4D5CA355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752-78BB-47C3-902C-022DB403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711A3-09F2-465A-B442-5DDD640F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98D3D-3BF1-4D21-9564-F5087C5F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AD1C3-B298-48A1-838A-D1988CF8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8CDC7-56AA-46E2-B7CF-25AD6331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F97B0-A6F5-476F-99F7-261691F2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F9A2E-40FE-479F-988D-29D18447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4FFCB-DABC-4BDA-8522-F7F8A9A5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64C88-CA89-4D5C-A98F-E8C76305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FED0E-E5B5-4EC6-866D-9FC5E4F5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198CC-4CD6-4BCC-9C77-3F839AC1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356-D482-467E-B5E8-AEE77D6B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68A03-7ADB-42FE-954E-6040821C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DAA94-A6F4-4363-B0CE-A1FFF7E4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9D170-ECCC-4FA7-B291-D9764762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E838F-62A3-4F62-9C49-F0CECE27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077B3-6BFA-48CC-8639-9B96F9E5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5E32C-66EB-4675-89B0-2524622C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5F21E-287A-408D-AF11-CD10DC66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43A95-4784-4797-B45E-58EE794E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EF99C-05C7-4C2F-9A91-6CC3D73B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0C147-8D1C-474F-A9A5-B87B78AE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E9E2-36CD-4743-ACD1-2021E3D9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F67C1-C296-4C32-99B2-92E3AEA0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13885-CA66-43D2-A0C0-C29441B8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0C418-6FAD-4D18-BA94-3B47389C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24B1C-1C10-48DA-8EFD-73CFAB7E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D01AC-37B0-4BF1-ABEF-5C5F5D3E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E3492-6A66-4013-8EF1-7ECB5D48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371A4-4A89-4B3B-9E04-0140ACA1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194D3-5D1D-4B58-A6CE-9F1A224F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8288B-EF15-4AA3-BD5B-D313D21D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348E5-44EB-4086-8669-45038AB0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17DC-DFF8-4F81-84D4-ACF62DB2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EA09E-8E33-4B38-9FA4-D0840F51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26396-7300-49E0-AD3F-7B493E43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47EA8-B69D-43D9-919C-7C36F1A3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1CCE4-9D43-4231-8601-846FEEBB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46C4F-8B1C-4009-B981-DE159F68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14845-90B7-47D0-A23C-3789DD20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C48C0-EE91-4E6E-9AFF-99B300E5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17E31-BE07-4ACD-8656-98523416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52C30-A9DB-47BE-89AB-8C4B7CBC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D939B-AD29-4B78-BA6B-FBAF357F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18E8-DA41-40F0-A540-30F16A6E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F2006-1316-4387-8A84-B328004D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0446E-973F-4949-BDCA-41801809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80623-96BE-46EC-828E-4068A708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0A040-66DE-44AF-BB24-01A22D1F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345F3-F86B-4C27-9888-B8981CD6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F719A-36C5-4EAC-889A-DCC09C46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3C905-CA7D-47EC-ABDD-C9D14910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B37025-8651-4DB0-8098-61097A5D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38DEB-5B0B-4C15-A796-B5278A7C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80920B-6042-40E9-8E66-90C8C911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75AC-276B-4773-8C75-9C42B7B4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76CE4-F5D5-495E-96A5-8234F5D1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0F485F-6E33-4ACB-9918-8173BAFA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5992A-F882-4930-9C2C-13FC098B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E8C140-3A11-4E01-8B88-1C540397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DC9F83-BC89-48C0-A6CC-5100F6F1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ED396-6B47-4B01-A417-B03CDF49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5989A-5F8E-41A0-9B5F-CC777CA7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E80A0F-09A8-47D4-950B-E0B631D1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0273B-1E15-479C-9AFE-380C617D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CC47E-4816-4471-864E-491FBA13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0642-CBA2-4F0E-8F8D-9868940F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10E44E-753B-4DBB-853B-6FA7E798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BF31BC-C95B-46E4-A02E-644E7E20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61DCFB-F6C7-4E48-A946-4AF1A767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EA260-FC44-4691-B782-10AC01E9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AB2F1-93FF-4EAD-8F30-9B1D6A06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9AD39E-1568-45AF-82C2-9A380A49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7E2C40-EC02-47ED-B911-D68A1110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7B07C2-D5FA-4E79-A581-3CD60A82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5110F9-5784-49AB-80CB-A2CFFAD7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F00FB5-9380-495D-84C2-DEC5A8AE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3105-FCC9-421B-BE2D-2436E3AF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D4C0A6-D4AF-4A9B-B090-525FCCDC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04122D-69AB-42DC-B83B-CD8D3CC9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C90937-765C-444A-9C29-781C8E62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37C15A-F984-499B-B5AA-7E87F332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EE776-EA1C-4AC1-ABCA-B48346A3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0F9257-298D-4C7B-BA12-E2982A88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69CF05-E34A-4145-A1FD-2FBFC3DF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0B860C-36FB-4156-B526-305FBAA3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05447-A126-440F-9DA2-526480C7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8F9348-1044-4387-BD66-025C6702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C514-E884-4379-92F0-564DC64B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1D8E85-F4CB-42F1-A840-79CBE1A9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32D597-612C-45B6-B8CA-0BB17782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CF3F42-CE69-48E7-A59E-4EA0A9AB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850953-FB59-4E48-8254-CCDF0D16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02671A-9C38-4DB2-B931-77EFBC09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CF39CC-F40F-499C-8F1D-0611D2CA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AC65A0-7F80-4DB4-A93B-1A857C29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467B82-BF4B-4F2D-A776-1EBED51A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A6C784-3292-4CB2-8CBE-280E58A0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F5DBC1-5891-4BA5-92FE-D97F4816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1209-5942-4105-B24D-668C8DBF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899A23-909B-46B2-ADBB-85130F79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0C1A48-B790-4176-B6F0-6B4B2035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937C61-9A97-4918-9A26-C29C1973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A3EE68-DDFE-40C9-B9B3-D55EA0A6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FF7CE0-296E-48B9-ABF2-035AEC1B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B35689-FE1F-4F9C-BB97-09112341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9B6840-FA67-4B0A-9281-E7E941EA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5B9823-F631-4EF3-876E-6B3630B8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7993DF-7BD4-4947-B5F2-93B0017D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72B601-CA57-47B6-BDFF-4CA30376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12E5-6443-49F6-BACA-A9FF029E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3B03-AC40-46D3-9F23-34441E4E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EFB302-1BD6-4D56-94DB-2126E3EF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6304E0-CF78-45F9-8EAB-CF1DBF1E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A6342A-C960-43AB-A0DA-3F947B2F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6F8C46-32B4-4379-8471-DCDEDC7F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EE3F6E-28E8-4915-AEB6-2903B0EB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1337D1-A8CA-40CD-81E8-33763526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0DBD71-0054-4C30-82AE-12719989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C790FF-2543-4C7A-B8F1-2E9E64DE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CE21D2-AC32-48A4-95D3-5C878ED1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0BE595-2AF1-46B5-9830-C365F311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115B-8F40-43E7-A016-65EC71D9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2531CB-19F8-4426-AB42-35FA43FC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28F9D4-9C5A-4774-B628-898B8794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8EAD43-A537-4880-B5AE-858AA77D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414E00-83D9-44E8-9254-58F9F8F1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350530-6450-4376-9CEF-523A991D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629416-F72E-4ADC-904E-966CF06E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FDFEC5-3D53-4F4D-8890-7AA936BE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8E17-3323-405A-A57B-83C38E61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AB7C-E68D-4BC3-ACD6-2B3EAB2C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3366-6F37-4CE9-A1C2-A835E704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435BA-4461-4CBB-8A46-7F275A79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CCAA8-B9C7-4B63-852A-35E89DA4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6AB0B-6DE8-4B65-9550-610CCD87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59FB9-355A-4FEF-A442-FE97452F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C4B72-83BF-4C7E-8585-31A277DA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F6A1-50A5-44E8-9A9C-70F1BB96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D820F-B25E-40A1-90F0-6BED00BD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19C3F-E2D8-4757-ADEE-61A706E5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453E8-3FEA-4D85-B47B-F259E7B0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5060A-297D-4AB5-A10D-C8EF9BE0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D21B0-D97E-4EE5-8295-DF4614DB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53397-AD95-4A6E-A622-02DE85A3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572BF-AC72-4207-A068-26D6A586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0CBBC-3F0B-4096-8AD7-BCDBE532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9162C-DBDB-43D1-AB3D-7F4DA23B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AD04D-F81E-48AE-BE1E-AB90EF5E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C706-422D-4BD4-8151-87352369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A526B-1DCD-4494-B9DB-0E8A9ADB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ADA44-2E73-48EA-BECE-37646062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318E4-174B-4AE6-8F48-1C3176EE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74F95-00C2-4491-B873-3ED18BD1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A4628-0387-419A-BDA3-866D3955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92507-8785-4B28-8798-14C68490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64196-528D-495D-B87D-7AF7EA44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600FF-AEA3-4718-88A4-18D0E448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C2256-EA64-4D54-A1B0-2C223D9C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47CD6-AD96-4F73-B0BB-A0AE9397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F55C-0901-4D23-8936-93886311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B914C-5F2C-48A2-81AC-CAB6F9FC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5CB96-A532-4ADE-8EFC-E5F8CE6F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F1633-A92F-4ECB-8837-21CF6DD6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01920-C2D5-4E50-850C-51A470F4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B3890-7C94-4C59-8243-1710078D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4349D-59A3-4BBA-8DEF-79213A37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EEDE3-C664-4CC6-B196-9BA0AA6D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E456A-61A7-4C6C-A9E0-729312D8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830AC-3ECC-4287-BD31-A9230BB2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AE2B2-3BED-4D38-8DC8-BFE86002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779C-F8F3-4554-B358-008A32A5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BB66C-2DAB-4A88-B97A-510A7BCD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3B71C-2DC2-40BC-8D99-F8CE36D5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2DDA9-A384-4CF7-BA71-B0CB5A1C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92267-F35C-406C-B284-60EF961F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ED79C-66DB-4681-9ECA-DC089F48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C27CC-2C5F-4016-8697-8E5FEBA7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B4E21-5CD0-4B8B-9AB3-CF85F034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33671-8938-451A-9BD5-03B1491B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AA7A2-850B-4D31-B933-DBD03588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207BD-F9A1-4D4E-8260-88B587E6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49C-D1F9-4ED2-AC2E-6E42545D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30C3E-D745-4028-90F8-59D84A82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443AE-3DF8-4A09-B58C-B1B8B121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8625F-A920-471E-A70B-55DC273E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4C5DD-7511-44AD-83BB-F084FED6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B1F1D-7824-4238-BE9B-013951CB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0EB35-4F5E-402E-91CC-D11701B2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9D664-492F-4E1C-9AFC-1F7C8900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2A06A-CC4D-4741-A3C7-0B20DCCB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57014-3AD1-415E-8A65-0F7A9ED2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94929-3116-4D08-A90F-E8084BD6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137C-E8C6-429C-826E-5057CB59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851AA-C274-4E90-B725-9FAACC93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1FD61-2913-4CE4-942A-D6FE19DC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7A071-D585-4518-96D5-2BCDD0E0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A01BC-04A1-4EDC-B871-FBD0DCDC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8782A-52BE-42BA-8726-D7AB9CB1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E224B-E54F-4F8E-8790-3DE79140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E4783-2C62-484A-A1AF-85D27146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5E335-591B-46AA-8F88-2872471B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9E89D-472F-4E89-8864-85793223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E1D4B-997D-4DD9-A2DA-8F0A38C4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9018-2CD9-432F-8D9A-536DE71B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F2266-6041-43A5-A284-85ABF39C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120C6-2AA0-4949-A713-A53D6FA1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7392E-E61E-4F7D-8F70-7A8FABD1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F5C4C-4497-4B40-990F-0650BD41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394FB-628C-41DF-9F1F-CF656D27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EB7EC-D135-4509-9C22-2B76EB24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26F27-9509-4051-9FF8-C4CE6B3C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37F1D-6FA1-403A-921B-472A7E02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35A30-E71A-4135-94F3-29B4426E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4C71E-02AF-4998-A448-22D4D2E0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B4334-F545-4713-8B73-4A88AA0708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B5DE1-C7FB-4855-937D-21CB54B9C9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0FB62-78E1-47D0-B5B8-59B91BABA0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C0D20-E6BD-4FE4-90FF-3B1F3317BE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CAA23-5CA3-4461-9A7B-188D181B8A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D0611-9BF6-4940-8CC4-AA10BF2AE0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3CD4C-E1EA-4B05-BC5D-F852E089A9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55A07-5FE2-40BC-9AFA-A6E351E6A2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9E11F-1963-4809-8D73-1E70C57B81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89579-0B75-410C-8C8F-F2B8C2A969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774C36-7F63-4F71-A276-A10216E2E6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91299-AE74-4A21-B10F-932A04C4EB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7D59A-B9C5-457B-B967-EC2AEC0003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F862A-8BE0-498D-8C54-1692C0F59D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DB05F-B3A4-4F4D-8157-C279771D01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B5DC5-5960-40FA-9817-C26D1C6DCE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7B231-C7F2-44E7-A0F2-10A6891C94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60BA1-326C-4077-9C67-075EA4B15C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040" y="-192240"/>
            <a:ext cx="1036332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جلسه دوم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914040" y="767880"/>
            <a:ext cx="1036332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سر فصل مطالب</a:t>
            </a:r>
            <a:r>
              <a:rPr b="1" lang="fa-IR" sz="2800" spc="-1" strike="noStrike">
                <a:solidFill>
                  <a:srgbClr val="0070c0"/>
                </a:solidFill>
                <a:latin typeface="Tw Cen MT"/>
                <a:ea typeface="B Nazanin"/>
              </a:rPr>
              <a:t> </a:t>
            </a:r>
            <a:r>
              <a:rPr b="1" lang="fa-IR" sz="2800" spc="-1" strike="noStrike">
                <a:solidFill>
                  <a:srgbClr val="0070c0"/>
                </a:solidFill>
                <a:latin typeface="Tw Cen MT"/>
                <a:ea typeface="B Nazani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انواع روشهای بهایاب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مراحل بهایاب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عامل بها و مدیریت بها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بهای تولی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بهای اولیه و بهای تبدیل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7" name="AUD-20200409-WA0012.m4a" descr=""/>
          <p:cNvPicPr/>
          <p:nvPr/>
        </p:nvPicPr>
        <p:blipFill>
          <a:blip r:embed="rId1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7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762" fill="hold"/>
                                        <p:tgtEl>
                                          <p:spTgt spid="7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14040" y="209520"/>
            <a:ext cx="1036332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جلسه سوم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914040" y="1152360"/>
            <a:ext cx="1036332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سر فصل مطالب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طبقه بندی بها از دیدگاههای مختلف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توضیح طبقه بندی بر مبنای قابلیت رهگیر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عوامل موثر بر طبقه بندی بها به مستقیم و غیر مستقیم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توضیح طبقه بندی بها بر مبنای رفتار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7" name="21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9829" fill="hold"/>
                                        <p:tgtEl>
                                          <p:spTgt spid="8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040" y="618840"/>
            <a:ext cx="10363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انواع روشهای بهایابی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914040" y="1252440"/>
            <a:ext cx="103633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هر دو سیستم بهایابی سفارش کارو مرحله ای به سه روش زیر قابل اجرا می باشند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0" name="Diagram 3" descr=""/>
          <p:cNvPicPr/>
          <p:nvPr/>
        </p:nvPicPr>
        <p:blipFill>
          <a:blip r:embed="rId1"/>
          <a:stretch/>
        </p:blipFill>
        <p:spPr>
          <a:xfrm>
            <a:off x="639720" y="2554200"/>
            <a:ext cx="1749600" cy="3024360"/>
          </a:xfrm>
          <a:prstGeom prst="rect">
            <a:avLst/>
          </a:prstGeom>
          <a:ln w="0">
            <a:noFill/>
          </a:ln>
        </p:spPr>
      </p:pic>
      <p:sp>
        <p:nvSpPr>
          <p:cNvPr id="781" name="Right Arrow 4"/>
          <p:cNvSpPr/>
          <p:nvPr/>
        </p:nvSpPr>
        <p:spPr>
          <a:xfrm>
            <a:off x="2295360" y="3236760"/>
            <a:ext cx="712800" cy="182880"/>
          </a:xfrm>
          <a:prstGeom prst="rightArrow">
            <a:avLst>
              <a:gd name="adj1" fmla="val 50000"/>
              <a:gd name="adj2" fmla="val 49911"/>
            </a:avLst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Right Arrow 6"/>
          <p:cNvSpPr/>
          <p:nvPr/>
        </p:nvSpPr>
        <p:spPr>
          <a:xfrm>
            <a:off x="2303640" y="3973680"/>
            <a:ext cx="712440" cy="1825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Right Arrow 7"/>
          <p:cNvSpPr/>
          <p:nvPr/>
        </p:nvSpPr>
        <p:spPr>
          <a:xfrm>
            <a:off x="2295360" y="4734000"/>
            <a:ext cx="712800" cy="1825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Oval 8"/>
          <p:cNvSpPr/>
          <p:nvPr/>
        </p:nvSpPr>
        <p:spPr>
          <a:xfrm>
            <a:off x="3311640" y="2276640"/>
            <a:ext cx="3857400" cy="114300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B Nazanin"/>
              </a:rPr>
              <a:t>اطلاعات مربوط به مواد و دستمزد و سربار همگی واقعی باشند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Oval 9"/>
          <p:cNvSpPr/>
          <p:nvPr/>
        </p:nvSpPr>
        <p:spPr>
          <a:xfrm>
            <a:off x="3216240" y="3478320"/>
            <a:ext cx="4191120" cy="110628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B Nazanin"/>
              </a:rPr>
              <a:t>اطلاعات مربوط به مواد و دستمزد واقعی بوده اما اطلاعات سربار برآوردی می باشند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Oval 10"/>
          <p:cNvSpPr/>
          <p:nvPr/>
        </p:nvSpPr>
        <p:spPr>
          <a:xfrm>
            <a:off x="3016080" y="4584600"/>
            <a:ext cx="4761000" cy="105408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B Nazanin"/>
              </a:rPr>
              <a:t>قبل از شروع دوره مالی اطلاعات مربوط به مواد و دستمزد و سربار پیش بینی شده و در طی دوره ملاک عمل قرار می گیرند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ffffff"/>
                </a:solidFill>
                <a:latin typeface="Tw Cen MT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7" name="AUD-20200409-WA0009.m4a" descr=""/>
          <p:cNvPicPr/>
          <p:nvPr/>
        </p:nvPicPr>
        <p:blipFill>
          <a:blip r:embed="rId2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2957" fill="hold"/>
                                        <p:tgtEl>
                                          <p:spTgt spid="7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040" y="247680"/>
            <a:ext cx="1036332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مراحل بهایابی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914040" y="1123560"/>
            <a:ext cx="1036332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هر سیستم بهایابی برای محاسبه بها بایستی 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 مرحله اساسی را پشت سر گذاشت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الف : انباشت بها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 : تخصیص بها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مرحله انباشت بها اطلاعات مربوط به بها از نظر ماهیت آنها در جایی به نام انباره های بها یا مخازن بها جمع می شوند به عنوان مثال انباره حقوق و دستمزد یا انباره مواد .....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مرحله خصیص بایستی اطلاعات جمع آوری شده در مرحله قبل بر اساس یک مبنای مناسب به موضوع بهایابی ، اختصاص داده شو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انواع تخصیص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به روش رهگیر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به روش تسه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0" name="AUD-20200409-WA0006.m4a" descr=""/>
          <p:cNvPicPr/>
          <p:nvPr/>
        </p:nvPicPr>
        <p:blipFill>
          <a:blip r:embed="rId1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31293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040" y="91800"/>
            <a:ext cx="103633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نحوه تخصیص بها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914040" y="960120"/>
            <a:ext cx="103633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نکته : تخصیص بهای عوامل مستقیم از طریق رهگیری و بهای عوامل غیر مستقیم از طریق تسهیم صورت می گیری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رای درک بهتر موضوع شکل زیر را در نظر بگیرید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Round Single Corner Rectangle 5"/>
          <p:cNvSpPr/>
          <p:nvPr/>
        </p:nvSpPr>
        <p:spPr>
          <a:xfrm>
            <a:off x="347760" y="2185920"/>
            <a:ext cx="1288800" cy="1462320"/>
          </a:xfrm>
          <a:prstGeom prst="pie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Tw Cen MT"/>
                <a:cs typeface="B Nazanin"/>
              </a:rPr>
              <a:t>موضوع بهایابی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Tw Cen MT"/>
                <a:cs typeface="B Nazanin"/>
              </a:rPr>
              <a:t>صندلی چوبی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4" name="Oval 6"/>
          <p:cNvSpPr/>
          <p:nvPr/>
        </p:nvSpPr>
        <p:spPr>
          <a:xfrm>
            <a:off x="5446800" y="2084400"/>
            <a:ext cx="1755720" cy="86040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بهای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5" name="Oval 7"/>
          <p:cNvSpPr/>
          <p:nvPr/>
        </p:nvSpPr>
        <p:spPr>
          <a:xfrm>
            <a:off x="5410080" y="2951280"/>
            <a:ext cx="1755720" cy="85860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بهای غیر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96" name="Straight Arrow Connector 9"/>
          <p:cNvCxnSpPr>
            <a:stCxn id="794" idx="2"/>
          </p:cNvCxnSpPr>
          <p:nvPr/>
        </p:nvCxnSpPr>
        <p:spPr>
          <a:xfrm flipH="1">
            <a:off x="1636200" y="2514240"/>
            <a:ext cx="3810960" cy="1080"/>
          </a:xfrm>
          <a:prstGeom prst="straightConnector1">
            <a:avLst/>
          </a:prstGeom>
          <a:ln w="9360">
            <a:solidFill>
              <a:srgbClr val="338baa"/>
            </a:solidFill>
            <a:miter/>
            <a:tailEnd len="med" type="triangle" w="med"/>
          </a:ln>
        </p:spPr>
      </p:cxnSp>
      <p:pic>
        <p:nvPicPr>
          <p:cNvPr id="797" name="TextBox 10" descr=""/>
          <p:cNvPicPr/>
          <p:nvPr/>
        </p:nvPicPr>
        <p:blipFill>
          <a:blip r:embed="rId1"/>
          <a:stretch/>
        </p:blipFill>
        <p:spPr>
          <a:xfrm>
            <a:off x="2955960" y="2084400"/>
            <a:ext cx="2768400" cy="372960"/>
          </a:xfrm>
          <a:prstGeom prst="rect">
            <a:avLst/>
          </a:prstGeom>
          <a:ln w="0">
            <a:noFill/>
          </a:ln>
        </p:spPr>
      </p:pic>
      <p:cxnSp>
        <p:nvCxnSpPr>
          <p:cNvPr id="798" name="Straight Arrow Connector 12"/>
          <p:cNvCxnSpPr/>
          <p:nvPr/>
        </p:nvCxnSpPr>
        <p:spPr>
          <a:xfrm flipH="1">
            <a:off x="1636200" y="3435120"/>
            <a:ext cx="3810960" cy="1080"/>
          </a:xfrm>
          <a:prstGeom prst="straightConnector1">
            <a:avLst/>
          </a:prstGeom>
          <a:ln w="9360">
            <a:solidFill>
              <a:srgbClr val="338baa"/>
            </a:solidFill>
            <a:miter/>
            <a:tailEnd len="med" type="triangle" w="med"/>
          </a:ln>
        </p:spPr>
      </p:cxnSp>
      <p:pic>
        <p:nvPicPr>
          <p:cNvPr id="799" name="TextBox 13" descr=""/>
          <p:cNvPicPr/>
          <p:nvPr/>
        </p:nvPicPr>
        <p:blipFill>
          <a:blip r:embed="rId2"/>
          <a:stretch/>
        </p:blipFill>
        <p:spPr>
          <a:xfrm>
            <a:off x="2955960" y="3035160"/>
            <a:ext cx="2768400" cy="366840"/>
          </a:xfrm>
          <a:prstGeom prst="rect">
            <a:avLst/>
          </a:prstGeom>
          <a:ln w="0">
            <a:noFill/>
          </a:ln>
        </p:spPr>
      </p:pic>
      <p:sp>
        <p:nvSpPr>
          <p:cNvPr id="800" name="Rectangle 14"/>
          <p:cNvSpPr/>
          <p:nvPr/>
        </p:nvSpPr>
        <p:spPr>
          <a:xfrm>
            <a:off x="8056440" y="2322360"/>
            <a:ext cx="1673280" cy="40644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چوب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Rectangle 15"/>
          <p:cNvSpPr/>
          <p:nvPr/>
        </p:nvSpPr>
        <p:spPr>
          <a:xfrm>
            <a:off x="8056440" y="3116160"/>
            <a:ext cx="1673280" cy="40644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بر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02" name="Straight Arrow Connector 17"/>
          <p:cNvCxnSpPr>
            <a:stCxn id="800" idx="1"/>
            <a:endCxn id="794" idx="6"/>
          </p:cNvCxnSpPr>
          <p:nvPr/>
        </p:nvCxnSpPr>
        <p:spPr>
          <a:xfrm flipH="1" flipV="1">
            <a:off x="7202160" y="2513880"/>
            <a:ext cx="854640" cy="11880"/>
          </a:xfrm>
          <a:prstGeom prst="straightConnector1">
            <a:avLst/>
          </a:prstGeom>
          <a:ln w="9360">
            <a:solidFill>
              <a:srgbClr val="b53a60"/>
            </a:solidFill>
            <a:miter/>
            <a:tailEnd len="med" type="triangle" w="med"/>
          </a:ln>
        </p:spPr>
      </p:cxnSp>
      <p:cxnSp>
        <p:nvCxnSpPr>
          <p:cNvPr id="803" name="Straight Arrow Connector 19"/>
          <p:cNvCxnSpPr/>
          <p:nvPr/>
        </p:nvCxnSpPr>
        <p:spPr>
          <a:xfrm flipH="1" flipV="1">
            <a:off x="7184520" y="3318840"/>
            <a:ext cx="853200" cy="11880"/>
          </a:xfrm>
          <a:prstGeom prst="straightConnector1">
            <a:avLst/>
          </a:prstGeom>
          <a:ln w="9360">
            <a:solidFill>
              <a:srgbClr val="b53a60"/>
            </a:solidFill>
            <a:miter/>
            <a:tailEnd len="med" type="triangle" w="med"/>
          </a:ln>
        </p:spPr>
      </p:cxnSp>
      <p:pic>
        <p:nvPicPr>
          <p:cNvPr id="804" name="نحوه تخصیص.3gp" descr=""/>
          <p:cNvPicPr/>
          <p:nvPr/>
        </p:nvPicPr>
        <p:blipFill>
          <a:blip r:embed="rId3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9480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14040" y="118800"/>
            <a:ext cx="1036332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عامل بها و مدیریت بها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914040" y="914040"/>
            <a:ext cx="10363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نظور از عامل بها که محرک بها نیز نامیده می شود عاملی است که بر بهای کل تاثیر می گذارد . یعنی تغییر در میزان آن باعث تغییر در جمع مبلغ بهای مربوز به موضوع بهایابی مورد نظر می شو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عامل بها می تواند یک پارامتر مالی مانند بهای دستمزد مستقیم و یا یک پارامتر غیر مالی مانندتعداد محصولات تولید شده باش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دیریت بها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شرکتها برای کاهش قیمت فروش ناگزیر هستند که بهای تمام شده خود را کنترل کنند . یعنی تنها به فعالیتهایی بپردازند که باعث ایجاد ارزش در دید مشتری می شوند و این فعالیتها را به گونه ای کارا و تپر بخش انجام دهند . و یا به عبارتی مدیریت بها عبارت است از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جموعه اقدامات مدیریت که ضمن انجام تاشهای مستمر برای کنرل و کاهش بهای تمام شده محصول به منظور جلب رضایت مشتریان به عمل می آی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7" name="AUD-20200409-WA0013.m4a" descr=""/>
          <p:cNvPicPr/>
          <p:nvPr/>
        </p:nvPicPr>
        <p:blipFill>
          <a:blip r:embed="rId1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2748" fill="hold"/>
                                        <p:tgtEl>
                                          <p:spTgt spid="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040" y="99720"/>
            <a:ext cx="1036332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بهای تولید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914040" y="1033560"/>
            <a:ext cx="103633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حسابداری بهای تمام شده برای محاسبه بهای تولید از اصطلاحات خاصی استفاده می شود که این اصطلاحات عبارتند از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ea typeface="B Nazanin"/>
              </a:rPr>
              <a:t>1</a:t>
            </a:r>
            <a:r>
              <a:rPr b="1" lang="fa-IR" sz="1800" spc="-1" strike="noStrike">
                <a:solidFill>
                  <a:srgbClr val="ff0000"/>
                </a:solidFill>
                <a:latin typeface="Tw Cen MT"/>
                <a:ea typeface="B Nazanin"/>
              </a:rPr>
              <a:t>- مواد مستقیم : 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ه مواد اولیه ای گفته می شود که در تولید محصول نقش مستقیم داشته و به عنوان بخشی از کالای ساخته شده محسوب می گردد و می توان بهای آن را به آسانی و به طور مستقیم به کالای ساخته شده اختصاص داد. مانند بهای چوب در صندلی چوب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واد مستقیم دارای سه ویژگی زیر می باشند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الف : میزان مصرف آنها با میزان تولید رابطه مستقیم دار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 : در مقایسه با ارزش کا کالای ساخته شده ارزش اقتصادی قابل ملاحظه ای دار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ج : بخشی از شکل فیزیکی کالای ساخته شده را تشکیل می دهد و معمولا در محصول ساخه شده قابل رویت و قابل لمس می باش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در ساخت محصولات ممکن است مواد دیگری نیز مصرف شوند که جزئی و کم اهمیت باشند و به آسانی نتوان بهای آن را به کالاسی ساخته شده اختصاص داد به اینگونه مواد اصطلاحا مواد غیر مستقیم گفته می شود اینگونه مواد معمولا ارزش اقتصادی بالایی ندارند و به عنوان بخشی از سربار محسوب می شوند . مانند چسب در تولید صندلی چوب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10" name="اسلاید17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10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10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63511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14040" y="-123480"/>
            <a:ext cx="103633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914400" y="361800"/>
            <a:ext cx="102679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دستمزد مستقیم : عبارت است از دستمزد کارگرانی که در تولید محصول نقش مستقیم داشته و در اثر کا آنها مواد اولیه تغییر شکل یافته و تبدیل به کالای ساخته شده می شود . و می توان بهای آن را به سهولت و به طور مستقیم به کالای ساخته شده اختصاص داد مانند دستمزد کارگران بخش مونتاژ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دستمزد آن دسته از کارگرانی که مستقیماً در تولید نقش ندارند دستمزد غیر مستقیم نامیده شده و جزء سربار محسوب می شوند مانند دستمزد نگهبان شرکت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3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سربار ساخت :آن بخش از بهای ساخت که نمی توان آن را به آسانی به کالای ساخته شده اختصاص داد اصطلاحا سربار ساخت محسوب می شوند به جز مواد و دستمزد غیر مستقیم برخی از بها ها مانند تعمیر ماشین آلات ، استهلاک ، آب و برق مصرفی نیز بخشی از سربار محسوب می شوند . نمودار زیر عوامل تشکیل دهنده بهای محصول را نشان می دهد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1790640" y="3695760"/>
            <a:ext cx="781200" cy="39996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دستمز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Rectangle 4"/>
          <p:cNvSpPr/>
          <p:nvPr/>
        </p:nvSpPr>
        <p:spPr>
          <a:xfrm>
            <a:off x="3743280" y="4095720"/>
            <a:ext cx="1790640" cy="50472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سایر هزینه های ساخ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6353280" y="3695760"/>
            <a:ext cx="780840" cy="39996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موا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1276200" y="5400720"/>
            <a:ext cx="1257480" cy="59040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دستمزد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3848040" y="5467320"/>
            <a:ext cx="1514520" cy="39996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سربار ساخ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Rectangle 8"/>
          <p:cNvSpPr/>
          <p:nvPr/>
        </p:nvSpPr>
        <p:spPr>
          <a:xfrm>
            <a:off x="6353280" y="5467320"/>
            <a:ext cx="1209600" cy="60012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مواد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19" name="Straight Arrow Connector 10"/>
          <p:cNvCxnSpPr>
            <a:stCxn id="813" idx="3"/>
          </p:cNvCxnSpPr>
          <p:nvPr/>
        </p:nvCxnSpPr>
        <p:spPr>
          <a:xfrm>
            <a:off x="2571840" y="3895560"/>
            <a:ext cx="1257840" cy="157248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cxnSp>
        <p:nvCxnSpPr>
          <p:cNvPr id="820" name="Straight Arrow Connector 16"/>
          <p:cNvCxnSpPr/>
          <p:nvPr/>
        </p:nvCxnSpPr>
        <p:spPr>
          <a:xfrm flipH="1">
            <a:off x="5126760" y="4127040"/>
            <a:ext cx="1226520" cy="138996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cxnSp>
        <p:nvCxnSpPr>
          <p:cNvPr id="821" name="Straight Arrow Connector 18"/>
          <p:cNvCxnSpPr>
            <a:endCxn id="817" idx="0"/>
          </p:cNvCxnSpPr>
          <p:nvPr/>
        </p:nvCxnSpPr>
        <p:spPr>
          <a:xfrm>
            <a:off x="4605120" y="4700520"/>
            <a:ext cx="1080" cy="76752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sp>
        <p:nvSpPr>
          <p:cNvPr id="822" name="TextBox 25"/>
          <p:cNvSpPr/>
          <p:nvPr/>
        </p:nvSpPr>
        <p:spPr>
          <a:xfrm rot="3142800">
            <a:off x="2476800" y="411840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غیر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23" name="Straight Arrow Connector 27"/>
          <p:cNvCxnSpPr/>
          <p:nvPr/>
        </p:nvCxnSpPr>
        <p:spPr>
          <a:xfrm flipH="1">
            <a:off x="2074320" y="4171680"/>
            <a:ext cx="43560" cy="122940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sp>
        <p:nvSpPr>
          <p:cNvPr id="824" name="TextBox 32"/>
          <p:cNvSpPr/>
          <p:nvPr/>
        </p:nvSpPr>
        <p:spPr>
          <a:xfrm rot="16200000">
            <a:off x="1575000" y="4460040"/>
            <a:ext cx="7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5" name="TextBox 33"/>
          <p:cNvSpPr/>
          <p:nvPr/>
        </p:nvSpPr>
        <p:spPr>
          <a:xfrm rot="18877800">
            <a:off x="5598000" y="441540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غیر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6" name="TextBox 34"/>
          <p:cNvSpPr/>
          <p:nvPr/>
        </p:nvSpPr>
        <p:spPr>
          <a:xfrm rot="16200000">
            <a:off x="6895080" y="4551840"/>
            <a:ext cx="78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27" name="Straight Arrow Connector 35"/>
          <p:cNvCxnSpPr>
            <a:endCxn id="818" idx="0"/>
          </p:cNvCxnSpPr>
          <p:nvPr/>
        </p:nvCxnSpPr>
        <p:spPr>
          <a:xfrm>
            <a:off x="6924240" y="4172040"/>
            <a:ext cx="34200" cy="129600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pic>
        <p:nvPicPr>
          <p:cNvPr id="828" name="18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8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10363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بهای اولیه و بهای تبدیل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914040" y="1066320"/>
            <a:ext cx="103633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گاهی اوقات در حسابداری بهای تمام شده عناصر اصلی بها با هم ترکیب می شوند و در عبارت زیر را بوجود می آورند 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بهای اولیه و بهای تبدیل: منظور از بهای اولیه اقلامی از بهای تمام شده می باشند که مستقیما در امر ولید دخالت دارند و منظور از بهایتبدیل اقلامی ا بهای تمام شده می باشند که در تبدیل مواد اولیه به محصول ایفای نقش می نمایند 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بهای اولیه و بهای تبدیل در یک جزء مشترک هستند و آن هم دستمزد مستقیم است 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مواد مستقیم+ دستمزد مستقیم = بهای اولیه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ea typeface="B Nazanin"/>
              </a:rPr>
              <a:t> </a:t>
            </a: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سربار ساخت+ دستمزد مستقیم = بهای تبدیل</a:t>
            </a:r>
            <a:r>
              <a:rPr b="1" lang="fa-IR" sz="1700" spc="-1" strike="noStrike">
                <a:solidFill>
                  <a:srgbClr val="ff000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مثال : فرض کنید در شرکت جمشید بهای اولیه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720،000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ريال و بهای تبدیل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600،000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ريال است . در صورتی که سربار براساس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50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% دستمزد مستقیم جذب تولید شود بهای مواد مستقیم و دستمزد مسقیم و سربار ساخت را محاسبه نمایید 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حل :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Z =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سربار ساخت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Y=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دستمزد مستقیم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X=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مواد مستقیم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1" name="19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62629" fill="hold"/>
                                        <p:tgtEl>
                                          <p:spTgt spid="8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14040" y="-147600"/>
            <a:ext cx="103633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3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11839680" cy="6858000"/>
          </a:xfrm>
          <a:prstGeom prst="rect">
            <a:avLst/>
          </a:prstGeom>
          <a:ln w="0">
            <a:noFill/>
          </a:ln>
        </p:spPr>
      </p:pic>
      <p:pic>
        <p:nvPicPr>
          <p:cNvPr id="834" name="20.3gp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34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834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9192" fill="hold"/>
                                        <p:tgtEl>
                                          <p:spTgt spid="8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9T17:50:58Z</dcterms:created>
  <dc:creator>Windows User</dc:creator>
  <dc:description/>
  <dc:language>en-US</dc:language>
  <cp:lastModifiedBy>Windows User</cp:lastModifiedBy>
  <dcterms:modified xsi:type="dcterms:W3CDTF">2020-04-09T17:56:28Z</dcterms:modified>
  <cp:revision>2</cp:revision>
  <dc:subject/>
  <dc:title>PowerPoint Presentation</dc:title>
</cp:coreProperties>
</file>