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0A523-7CB8-4992-8D1E-BA0B05280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C9905-D69D-4FDE-823B-5113D7DB8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BB1CF8-CC56-414D-9B1B-CBA48D9581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045F77-FD48-4E20-821D-3F8DA6C39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2A3522-0897-403B-99CB-0A3A2C2C44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7427E-76E4-4042-BF9C-BC7FA35912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C0F3B-BA92-4AB5-8C29-4157C52C2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24212A-9307-4983-9E77-59341E0A23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8B35F3-76CB-4179-BD01-813D13A6CB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5B6EAE-E8F8-40BF-88E8-230E8F7B2F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F08298-93FD-48C0-B6BE-96C5572E59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B889E1-A081-43EA-B088-3CED639672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B1147-34D7-467E-8785-4C881DB53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401038-CD61-4C33-9700-989323D4AD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EBBF19-025A-477B-9E38-6A7EC2CC94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8AFE9E-0573-4AA0-960B-16C3A8C7BF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96C707-1100-44AF-A09B-57AF27AE4E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4FABA7-8D76-4362-B47C-E4D9D10388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D1860E-4233-4BA6-8C99-5732580760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D5FD1E-23A1-40CE-BCE5-9A080A0CA8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D11EF5-78DC-4439-84B7-2C6AEFE37D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07579A-7B7A-418C-9541-152D83B038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7DEFD5-812E-4F72-963B-8B9F5F5153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7194E-2BC7-4C59-9C0E-D7FE5CD3A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5CE59D-C20E-42A8-B1E5-43B519ED8F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50BBD3-4A13-4B41-A2CA-2D8C782011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A80CF9-B952-4D38-9FC0-F34BAAEFAC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00439D-FC95-4562-B26A-A7ABB7D9AE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7BBDA0-8802-44C0-AA26-E1B23EB314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97FDCC-4517-408E-9C0E-96A84A4E8E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84C1E0-E64A-403E-852A-39256162B9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E5924C-E0E6-4C84-AA46-F992CCA7A6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1D2949-679F-4602-8AE8-7AC4682000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364AC2-5F50-450B-AE15-CB18F56981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B4974-0427-4BAA-B4E6-0F08FAA47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9396A7-45BC-4A1F-B2C7-7B5E7486AD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E3DDDE-2342-43B7-B1D7-6229413029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4C797D-5FDB-477E-AD24-9A2B210E6E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138455-2F73-496F-AEDB-116F3DFC34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1257DF-D3DA-43D8-90C2-B5494E09B7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1F0F32-EECD-4667-8EE3-FCB89B7D19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E6DC41-B2F3-4F95-B0CF-C77C731992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40CD86-6846-4CBF-A1CD-04417882B7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547FD7-C8AB-41C1-B9CD-98FE3FADB9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8B7D27-6049-4B9B-BE8C-F49DA26210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312FE-3A80-4E3A-99AF-B6C0DDF5F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D57873-63DA-4734-BBE9-4466EE7688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F228B2-1EA7-4842-B637-315E3322EA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561ACC-5485-462B-89EE-EC046F3400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348A92-A1D0-489A-8F74-88AF47B52A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BB962F8-C3A3-4247-87DF-638B2E98AD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E96395A-BDB4-4D3F-B707-ABEF15EA23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FE77A8-0D34-407C-896E-7006BA8B5B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73762D-AE12-446D-99A3-145D686025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B944D9-C9D0-4D66-B483-44D2E16513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496B92-16B0-4A4D-B182-DF5B475B42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E7E0F-D901-4251-95E4-966A3A8FC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0434C5-5EBC-450A-BF18-DC6139012D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1EFA21-C1BF-41D6-A414-F31D70410B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446213-BC3E-4EFF-B3A2-03E3813496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89502F-C9F8-475C-91B9-664F3DA45B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EFA99C-3AB5-4678-87C6-2D515164DB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B50F6A-28A6-467C-A4D5-C005FB7F9F3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07B6F7-F1E7-469D-A407-478B3BA482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EE1C17-AFEB-4F99-9452-F7DF1EFCD8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507CA5-347A-4E10-A526-62324AA35E5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48E880-09D5-4C46-BF9C-AC7D15697B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2E95B-2A31-487B-9F20-6E1C11A1E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E0E59B-F97B-48FD-A02F-644EEBCFCB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A0E40F-B422-46BD-B49B-9316C09DF9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3F58C5-8BC9-46E9-81AB-C99C70ADF5A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D835FE-2D9E-48D7-9F74-0EA4C331D6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CBFAFD-3670-4F40-AB65-E3CCCE7F98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6C1BBE-6E33-4D23-AFFA-B3517D183C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B4A056-B6D7-4261-AFDA-7D94D668AA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6915B8F-D91C-49C4-AC41-524C6D07AA2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7DD578A-5F69-46FB-8771-C76BA0F2C3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4A564CB-A117-450F-8B6A-E1A2B2B0FBD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0ECAC-7309-439D-BE5C-662883785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505CDF-4658-40A1-93E0-3C2C8009CC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96E2FA-635A-40E3-81AC-EB53A54F7F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59B607D-F1FF-4BC5-B91B-1041A6A76E8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50391E-6590-43DE-A30E-35BA80703AD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B9D081D-07E3-4D04-8B90-0B3FAD1DB6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C81FE5-0C7C-48FA-84E3-44986A5C96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B55748E-4F13-43E6-AEDF-E73E61897D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712EC7-E046-4696-84A5-C7BD8F218C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8681D0-75D1-460B-B1BF-DDF5B05E15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8D0FE92-B4F0-4E82-AC9D-4B5CEEFFA04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62DDA-7528-40D1-8D75-906D072F7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E87DCD8-1DEB-4D14-A85F-3E377BF889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A8FAB8B-69F9-453C-BCEA-33E900AA5FA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8D73FE-CAE0-4C2C-9E46-E352996CC7D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2F8663-3C94-483B-B64B-B7137CD84B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B611290-A3F6-4471-97DE-880345B6D0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4667E14-72C0-44B0-8B6B-C8D2EFD6D01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2F31E59-CA38-4BA7-A5A4-98F6752BDB6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42F0D2-D43E-4F9D-9383-2C31901BBE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4E731E-E163-4CF7-8C4E-9D2E2A296DF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5C6B9E-29F8-4490-BFCD-5468ABFA8B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25D77-D5AA-4A9F-8C05-98F4111AC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8557A8-B056-402B-947C-3A54DC99BE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016B58D-716D-4F67-9E86-FA4B7B59ACA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879CDC7-8BC0-4286-B385-478E1B76792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C163CE6-C555-485F-A2B8-FE910ADBF46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0D7884-FA55-49E8-A348-2CCF1FA1C5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9CF3B33-A17C-4204-949B-80B8EE0D59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D6B81D0-8629-4629-8C9B-4E906ECC976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64C5094-8311-40BE-BC68-8E6F76BA77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7E010A-B4AD-4F33-8A7F-B4019403DA4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C60C20-35AF-4631-8500-0DCED0C200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2E7F-20D9-44F2-9E51-2B415F1CE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AFAFE-EE8D-4BA4-B71D-4E1F7CFAE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30ECD3-5F94-413F-ADFD-DDD20ACA22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83C781-F72B-483D-83DB-BFF6E14996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1431DA7-7722-4871-BCA6-713FD011DEE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13E447C-FE5C-4D28-B41F-6231B5816DC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AAF6A26-9C1A-49F3-8C96-826FEDB613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2710EE5-6C6C-4114-89A7-9E5E2637234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A6BC099-4B54-4E90-AEFE-AFF0010F99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1620872-8B73-4C50-8B6E-4D9854468E8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FCB4E69-1075-482E-9088-685CD2F09F4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8D405D7-351F-4769-8EB0-56C3D8471B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28A85-0CFF-426E-B4E6-92DE9F791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F05C844-998E-4C60-B6E0-9220A2376F7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6D4822-86D0-482B-B080-E67D42475DB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BEF79FA-19E9-4369-984A-347E637649B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0F7BF0-CF3A-4AF7-B25B-BE92AB3914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AE4367F-0679-48E2-B082-807D6B7AA7D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C899AB6-D821-4EB0-80D2-D61D9787FE7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4319C30-A25A-4167-99CA-5B42A0233CE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69C89-78F5-4B79-AFD2-D2D906DE3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88F28-214E-4333-A34D-93F098E9D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A3906-C95C-498F-9E5A-6BC6A0F5F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12B054-9C11-40C2-B575-1EBFF5020F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FA5DB6-1D9E-40F7-9C8A-4725E975C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C94282-8796-461D-B72B-26AD9984B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62AD6-BA2C-450D-961E-BC6DD940D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4A15E-0763-4341-8127-7F21FF625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C2458-6019-4923-921D-B02283800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F9B1D-D631-4D10-9478-A005C2832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98D22-7F02-4C9A-A892-B65BAD125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3251C-1ECF-40C7-8C3A-3D3765F53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30026-201C-44D8-B7AC-05FD2D0FC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F59ED-7994-4F57-A094-57355B8B4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23A4B6-0454-4A00-B7B3-68F3311AC1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E135C0-2A64-4DAD-A155-9F0E8EF905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904107-1FAA-45E3-B425-0BE7FD349E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1A205-7244-40E1-AE06-13334D3CA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FD314E-5F24-4B7C-B820-B7582777BB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B51A7-2F9C-4F35-AFEB-CFEB4A66B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AE0656-F7DB-45E9-AE31-39E581869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31247-64E8-4E2A-BB83-9CB13C81D1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C1314-B19B-43E7-86EB-0D3E44044A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039697-0FB4-468F-BDC8-1FF46E9E7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CAC24-F0E5-4591-9523-FCBD37980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4A77E-9DF7-498B-90C3-20C3AB068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9951F-8093-4DEA-9135-4276E2B35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51848F-11AA-4E89-BCB6-FEF83B7D0D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4BEC03-E37A-489B-A6C7-6125AE6F40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3661E6-031A-4A9C-A525-8D9D3681FB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EAB06-CF5C-44D0-A133-E5604BAA2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E2E3D9-8834-4F71-BCAF-1FFC496FC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F79929-3A1A-4160-89D8-2C13246F5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F735BC-D802-4F62-9459-6555DE1DD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99DF8-4EA3-4052-9D7B-408D5E62C6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8C740-A698-49B3-B315-72EBB7B8B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9AD7C-31FB-4601-81C1-78FF36553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949A5-3135-4263-967C-5165D3793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8FDCBB-FDA2-418E-9181-40B2283BF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C1273-5F4E-4F93-A29B-2D6520994A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44CC4-74FB-46C8-97C3-A6428874E4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D8268-DC83-4A98-9312-B17DE6D6F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5629D4-9B81-4126-A897-A38FC668E0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7482B7-2D46-41AC-93D7-FB142A94FD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1C428-9765-4E2B-93FA-E9DDD5456E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E76186-32C2-4109-B4E0-B8132D955E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C0733-3A42-428A-863C-BAE86DD8CC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972B04-02A5-4900-84AC-B4C720625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9E4C9C-997A-4542-93F1-0E6D37232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04B81-3658-4F96-8134-88B9D0090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AF0A75-8543-40B4-878A-370C96206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12074-C4E8-4B8B-BA87-E8054035D6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BCC44-86FD-436D-A678-4FD361BD3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AA5D52-FBF5-43D5-9596-12149EEF8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47DAAF-0FCF-4CBA-A9FF-F6D4761CB1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47277B-685A-421E-A096-A9865757E5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C7D586-DBC9-468C-A2C3-70BDDFF324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998FC9-1DD8-432E-8BC6-053C598CBD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0FBA8A-C29C-4D00-9489-9B45E65936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CDA13D-64F2-4651-8AE1-4844497D9A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9A8482-F36A-4051-A5A1-B23B1AD05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F1AA68-2D79-47C2-86E2-806D8A63D9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E3A6A-12C8-45CD-A0E0-BBCC30CCF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E8B0F-77D3-451E-A969-9C0D92062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A8963D-906B-47B0-B577-35149F740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E10365-8DA1-4A85-93B0-6EB9D80817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98CCE-51D3-482E-BF15-9168CE08C6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80C2B7-DBFA-4110-BE48-71723049C9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B256BB-1843-46D8-B0C6-B0B729692C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81F078-B8EC-4575-A782-C82C878790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BE6A86-0832-4CB5-8EE9-A9A6F148D4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47ECF5-51CF-48FF-9F34-5D3E5EB3BC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6F0DA1-6A96-4581-8BB8-AE99922723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7ECE71-C91A-49E0-A174-AFE41D75FF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C4E5-B512-4C78-B0FA-5FC9AED88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D68BA2-B4F1-4EE9-8D60-A4A2E10AF9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C159F-B703-40BC-ABFB-A4378C6A76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0B62D-4836-4B13-A4A3-475DE9621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8990F-E6F8-49DE-AE2D-C9A7BD78CB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7BA7E7-B322-4547-AF49-CACD9D908C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FA7949-04A3-4C5B-AB63-EF7958DD6A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20D656-D199-4246-85B4-9C0F8B09D0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EF207C-12CB-48A6-A7DC-662BC68F2D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B0A291-DD87-4CDE-8160-DE8A9471C8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4AD614-088F-47BB-A6D8-C8E0238C48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92C19-8D5E-4841-AC21-9125197CC4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53290-5EB2-4180-9786-5237B4D3CA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8FE05-4810-4093-884D-81DCEC4620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0D971-DD32-482C-BCE4-074E5A4EA5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7DACE-57D4-4E25-882C-1EB165CA5C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CE5B9-0C6A-43F3-97C4-CE9C3CB6A8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E737A-BC2C-4B0C-AD31-6A46B96623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05E47-3253-48F7-AF7E-B84E62D4DB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B172F-327E-4E3E-8EB5-4F451753AA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3251D-4639-4452-AD4A-8DE238F0DF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336E6-4554-46BB-9271-E8B53C9F04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A87DA-B08C-45BF-ACDF-49ED7CBC75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BCDA6-89CB-4CB4-BC09-27E8A82FB8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32C58-AFE1-4E88-BE81-7190828D4D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FA5AB-CD66-435F-94A2-AF1745339F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BD149-7034-45BD-9A89-24D072A955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F798F-50A6-4DC4-BFE3-D1230F7E39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CF648-BC29-4E4A-B6DD-71338533A4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14040" y="618840"/>
            <a:ext cx="10363320" cy="56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w Cen MT"/>
                <a:cs typeface="Times New Roman"/>
              </a:rPr>
              <a:t>بهای ثابت</a:t>
            </a:r>
            <a:r>
              <a:rPr b="0" lang="fa-IR" sz="3200" spc="-1" strike="noStrike">
                <a:solidFill>
                  <a:srgbClr val="000000"/>
                </a:solidFill>
                <a:latin typeface="Tw Cen MT"/>
                <a:ea typeface="Times New Roman"/>
              </a:rPr>
              <a:t> </a:t>
            </a:r>
            <a:endParaRPr b="0" lang="en-US" sz="3200" spc="-1" strike="noStrike">
              <a:solidFill>
                <a:srgbClr val="000000"/>
              </a:solidFill>
              <a:latin typeface="Tw Cen MT"/>
            </a:endParaRPr>
          </a:p>
        </p:txBody>
      </p:sp>
      <p:sp>
        <p:nvSpPr>
          <p:cNvPr id="776" name=""/>
          <p:cNvSpPr txBox="1"/>
          <p:nvPr/>
        </p:nvSpPr>
        <p:spPr>
          <a:xfrm>
            <a:off x="914040" y="1114200"/>
            <a:ext cx="10363320" cy="46767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هایی هستند که مبلغ کل آنها در یک دوره زمانی معین در یک دامنه مربوط با تغییر عامل بها تغییر نمی کنند اما نرخ آنها برای هر واحد از عامل بها ثابت نیست و متناسب با افزایش عامل بها کاهش می یاب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77" name="Picture 5" descr=""/>
          <p:cNvPicPr/>
          <p:nvPr/>
        </p:nvPicPr>
        <p:blipFill>
          <a:blip r:embed="rId1"/>
          <a:stretch/>
        </p:blipFill>
        <p:spPr>
          <a:xfrm>
            <a:off x="0" y="1866960"/>
            <a:ext cx="9848880" cy="5057640"/>
          </a:xfrm>
          <a:prstGeom prst="rect">
            <a:avLst/>
          </a:prstGeom>
          <a:ln w="0">
            <a:noFill/>
          </a:ln>
        </p:spPr>
      </p:pic>
      <p:pic>
        <p:nvPicPr>
          <p:cNvPr id="778" name="26.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8"/>
                    </p:tgtEl>
                  </p:cond>
                </p:stCondLst>
                <p:childTnLst>
                  <p:par>
                    <p:cTn id="3" nodeType="clickEffect" fill="hold">
                      <p:stCondLst>
                        <p:cond evt="onClick">
                          <p:tgtEl>
                            <p:spTgt spid="778"/>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16992" fill="hold"/>
                                        <p:tgtEl>
                                          <p:spTgt spid="7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0"/>
            <a:ext cx="10363320" cy="156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 مخلوط</a:t>
            </a:r>
            <a:endParaRPr b="0" lang="en-US" sz="3600" spc="-1" strike="noStrike">
              <a:solidFill>
                <a:srgbClr val="000000"/>
              </a:solidFill>
              <a:latin typeface="Tw Cen MT"/>
            </a:endParaRPr>
          </a:p>
        </p:txBody>
      </p:sp>
      <p:sp>
        <p:nvSpPr>
          <p:cNvPr id="780" name=""/>
          <p:cNvSpPr txBox="1"/>
          <p:nvPr/>
        </p:nvSpPr>
        <p:spPr>
          <a:xfrm>
            <a:off x="914040" y="2048040"/>
            <a:ext cx="10363320" cy="37432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ی مخلوط که بهای نیمه متغیر نیز نامیده می شود بهایی است که بخش از آن ثابت و بخشی متغیر است . مانند بهای آب و برق مصرفی که آبونمان آن بخش ثابت بوده که به میزان مصرف ارتباطی ندارد اما بش دیگر آن متغیر است که با میزان مصرف افزایش می یابد . با ذکر یک مثال معادله ونمودارهای آن را توضیح می دهیم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81" name="27.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81"/>
                    </p:tgtEl>
                  </p:cond>
                </p:stCondLst>
                <p:childTnLst>
                  <p:par>
                    <p:cTn id="9" nodeType="clickEffect" fill="hold">
                      <p:stCondLst>
                        <p:cond evt="onClick">
                          <p:tgtEl>
                            <p:spTgt spid="78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5410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1" descr=""/>
          <p:cNvPicPr/>
          <p:nvPr/>
        </p:nvPicPr>
        <p:blipFill>
          <a:blip r:embed="rId1"/>
          <a:stretch/>
        </p:blipFill>
        <p:spPr>
          <a:xfrm>
            <a:off x="146160" y="109440"/>
            <a:ext cx="12045960" cy="6748560"/>
          </a:xfrm>
          <a:prstGeom prst="rect">
            <a:avLst/>
          </a:prstGeom>
          <a:ln w="0">
            <a:noFill/>
          </a:ln>
        </p:spPr>
      </p:pic>
      <p:pic>
        <p:nvPicPr>
          <p:cNvPr id="783" name="28.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83"/>
                    </p:tgtEl>
                  </p:cond>
                </p:stCondLst>
                <p:childTnLst>
                  <p:par>
                    <p:cTn id="15" nodeType="clickEffect" fill="hold">
                      <p:stCondLst>
                        <p:cond evt="onClick">
                          <p:tgtEl>
                            <p:spTgt spid="783"/>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246776"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914040" y="146160"/>
            <a:ext cx="1036332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نکات مربوط به بهای ثابت ، متغیر ، نیمه متغیر</a:t>
            </a:r>
            <a:endParaRPr b="0" lang="en-US" sz="3600" spc="-1" strike="noStrike">
              <a:solidFill>
                <a:srgbClr val="000000"/>
              </a:solidFill>
              <a:latin typeface="Tw Cen MT"/>
            </a:endParaRPr>
          </a:p>
        </p:txBody>
      </p:sp>
      <p:sp>
        <p:nvSpPr>
          <p:cNvPr id="785" name=""/>
          <p:cNvSpPr txBox="1"/>
          <p:nvPr/>
        </p:nvSpPr>
        <p:spPr>
          <a:xfrm>
            <a:off x="914040" y="923400"/>
            <a:ext cx="10363320" cy="4867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بهای متغیر هر واحد و بهای ثابت کل ثابت می باش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بهای متغیر کل افزایشی و صعودی بوده اما بهای ثابت هر واحد کاهشی و نزولی می باش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شیب نمودار متغیر کل برابراست با بهای متغیر هر واح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نمودار متغیر هر واحد و نمودار ثابت کل ، خطی و ثابت هست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نمودار متغیر کل صعودی با شیب ثابت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6</a:t>
            </a:r>
            <a:r>
              <a:rPr b="1" lang="fa-IR" sz="1800" spc="-1" strike="noStrike">
                <a:solidFill>
                  <a:srgbClr val="0070c0"/>
                </a:solidFill>
                <a:latin typeface="Tw Cen MT"/>
                <a:ea typeface="B Nazanin"/>
              </a:rPr>
              <a:t>- نمودار ثابت هر واحد غیر خطی و نزولی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7</a:t>
            </a:r>
            <a:r>
              <a:rPr b="1" lang="fa-IR" sz="1800" spc="-1" strike="noStrike">
                <a:solidFill>
                  <a:srgbClr val="0070c0"/>
                </a:solidFill>
                <a:latin typeface="Tw Cen MT"/>
                <a:ea typeface="B Nazanin"/>
              </a:rPr>
              <a:t>- در حسابداری بهای تمام شده بها فقط به دو دسته تقسیم می شود ( ثابت و متغیر ) و در مورد بهای مخلوط بخش ثابت آن به بهای ثابت و بخش متغیر آن به بهای متغیراضافه می شود . </a:t>
            </a:r>
            <a:endParaRPr b="0" lang="en-US" sz="1800" spc="-1" strike="noStrike">
              <a:solidFill>
                <a:srgbClr val="000000"/>
              </a:solidFill>
              <a:latin typeface="Tw Cen MT"/>
            </a:endParaRPr>
          </a:p>
        </p:txBody>
      </p:sp>
      <p:pic>
        <p:nvPicPr>
          <p:cNvPr id="786" name="29.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86"/>
                    </p:tgtEl>
                  </p:cond>
                </p:stCondLst>
                <p:childTnLst>
                  <p:par>
                    <p:cTn id="21" nodeType="clickEffect" fill="hold">
                      <p:stCondLst>
                        <p:cond evt="onClick">
                          <p:tgtEl>
                            <p:spTgt spid="786"/>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98056" fill="hold"/>
                                        <p:tgtEl>
                                          <p:spTgt spid="7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182160"/>
            <a:ext cx="10363320" cy="1033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مفروضات اصلی رفتا بها</a:t>
            </a:r>
            <a:endParaRPr b="0" lang="en-US" sz="3600" spc="-1" strike="noStrike">
              <a:solidFill>
                <a:srgbClr val="000000"/>
              </a:solidFill>
              <a:latin typeface="Tw Cen MT"/>
            </a:endParaRPr>
          </a:p>
        </p:txBody>
      </p:sp>
      <p:sp>
        <p:nvSpPr>
          <p:cNvPr id="788" name=""/>
          <p:cNvSpPr txBox="1"/>
          <p:nvPr/>
        </p:nvSpPr>
        <p:spPr>
          <a:xfrm>
            <a:off x="914040" y="1079640"/>
            <a:ext cx="10363320" cy="47116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تغییر در سطح عامل بها در یک دامنه مربوط رخ می دهد . منظور از دامنه مربوط محدوده ای از سطح فعالیت یا عامل بها است که در آن جمع بهای ثلبت کل و بهای متغیر هر واحد با تغییر سطح فعالیت یا عامل بها تغییر نکرده و ثابت می ماند . به عبارت دیگر دامنه مربوط عبارت است از حد فاصل بین حداقل و حداگثر سطح فعالیت یا عامل بها می باشد که در این حدفاصل بهای ثابت کا و بهای متغیر هر واحد ثابت می مان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رفتار بها را بایستی در یک دوره مشخص در نظر گرفت مثلا در مورد اجاره معمولا این مدت یکساله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موضوع بهایابی یک موضوع خاص است و تمامی عوامل بر حسب آن سنجیده می شو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تنها یک عامل بها وجود دارد و تاثیر سایر عوامل نادیده گرفته می شو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بها تنها به دو دسته ثابت و متغیر تقسیم می شود .</a:t>
            </a:r>
            <a:endParaRPr b="0" lang="en-US" sz="1800" spc="-1" strike="noStrike">
              <a:solidFill>
                <a:srgbClr val="000000"/>
              </a:solidFill>
              <a:latin typeface="Tw Cen MT"/>
            </a:endParaRPr>
          </a:p>
        </p:txBody>
      </p:sp>
      <p:pic>
        <p:nvPicPr>
          <p:cNvPr id="789" name="30.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89"/>
                    </p:tgtEl>
                  </p:cond>
                </p:stCondLst>
                <p:childTnLst>
                  <p:par>
                    <p:cTn id="27" nodeType="clickEffect" fill="hold">
                      <p:stCondLst>
                        <p:cond evt="onClick">
                          <p:tgtEl>
                            <p:spTgt spid="789"/>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27242"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914040" y="191880"/>
            <a:ext cx="10363320" cy="12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جلسه چهارم</a:t>
            </a:r>
            <a:endParaRPr b="0" lang="en-US" sz="3600" spc="-1" strike="noStrike">
              <a:solidFill>
                <a:srgbClr val="000000"/>
              </a:solidFill>
              <a:latin typeface="Tw Cen MT"/>
            </a:endParaRPr>
          </a:p>
        </p:txBody>
      </p:sp>
      <p:sp>
        <p:nvSpPr>
          <p:cNvPr id="791" name=""/>
          <p:cNvSpPr txBox="1"/>
          <p:nvPr/>
        </p:nvSpPr>
        <p:spPr>
          <a:xfrm>
            <a:off x="914040" y="1490760"/>
            <a:ext cx="10363320" cy="4300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سر فصل مطالب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ارتباط رفتار بها و قابلیت رهگیری بها</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طبقه بندی بها بر مبنای ارتباط با محصو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a:t>
            </a:r>
            <a:r>
              <a:rPr b="1" lang="fa-IR" sz="1800" spc="-1" strike="noStrike">
                <a:solidFill>
                  <a:srgbClr val="000000"/>
                </a:solidFill>
                <a:latin typeface="Tw Cen MT"/>
                <a:ea typeface="B Nazanin"/>
              </a:rPr>
              <a:t> </a:t>
            </a:r>
            <a:r>
              <a:rPr b="1" lang="fa-IR" sz="1800" spc="-1" strike="noStrike">
                <a:solidFill>
                  <a:srgbClr val="0070c0"/>
                </a:solidFill>
                <a:latin typeface="Tw Cen MT"/>
                <a:cs typeface="B Nazanin"/>
              </a:rPr>
              <a:t>طبقه بندی بر مبنای ارتباط با حوزه عملکرد</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طبقه بندی بر مبنای دوره انتقاع</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طبقه بندی بر مبنای قابلیت کنتر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92" name="31.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92"/>
                    </p:tgtEl>
                  </p:cond>
                </p:stCondLst>
                <p:childTnLst>
                  <p:par>
                    <p:cTn id="33" nodeType="clickEffect" fill="hold">
                      <p:stCondLst>
                        <p:cond evt="onClick">
                          <p:tgtEl>
                            <p:spTgt spid="792"/>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7879"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52:33Z</dcterms:created>
  <dc:creator>Windows User</dc:creator>
  <dc:description/>
  <dc:language>en-US</dc:language>
  <cp:lastModifiedBy>Windows User</cp:lastModifiedBy>
  <dcterms:modified xsi:type="dcterms:W3CDTF">2020-04-09T17:58:12Z</dcterms:modified>
  <cp:revision>2</cp:revision>
  <dc:subject/>
  <dc:title>PowerPoint Presentation</dc:title>
</cp:coreProperties>
</file>