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D4713-B4AC-4C20-A9AC-A67557215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74E45-5B63-4642-85D0-BFB9B3647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93901-1E2E-4738-BACD-EFD4329BCE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46DD12-0889-4E68-932B-096346508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1DE0D0-C407-41FE-9914-8A6A0FC3C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B042E-8332-4E60-B014-99F01F73C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58C53-353E-4665-83D1-498D595B9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A5599-230B-47A4-92F2-E0154E30C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1FCEBD-2723-41B2-9D28-E506CDDD38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446D27-2304-438E-9323-5E9E2A44EC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4E8C2-B589-446D-9077-A21183CD82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1EFA1E-AD0C-4D5D-94D1-E6333749AD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52029-7818-45D2-A91F-C6C187DD4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550429-AA0F-4059-B9AE-DF9D7BAD2C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A8CFA9-2C9A-4D2F-AB22-387DB8454C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306D42-927D-45DC-AEC8-90C5BFE763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415A43-485B-458B-B24D-AF547D2C1C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224E89-F5B4-4F57-86F6-A63F365A34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760079-B025-4D2C-8E2B-8C8DBDF78C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7107FC-B62D-4E0E-9F4D-1BBC157B27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8FCDBC-B12D-4BD4-A44F-3A2FB7BCED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FB7E95-1322-4EF4-B889-CB4E1AD2FE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CEFF09-80BC-4584-96C0-689A11D365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FB380-C6DB-4881-864D-3B7174D8C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7EB611-C8CF-4FE4-B61C-76D00EDEFA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47ADDE-D99B-4B67-BE9B-0A51573A3C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902B55-4DAA-42AF-A521-3EEA503401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3199DA-45CA-47F5-8107-75553C3504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53EC28-7CE6-460D-815B-DCC2B0A43C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870EC2-205D-448B-AACD-14151DFC8C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B2ACD2-54B4-4A29-A758-5F6B6D2647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BED2C5-6C44-4E48-917A-E80E0291EA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598B4-A3CE-4CF8-9AE0-7E27DBD28E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7C8865-D8E2-4CA4-9991-63504506C9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DFD92-159C-466A-AD90-06F1E9A7E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D0227-013C-4689-9C79-CD054349E8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6213D1-F9A6-46C9-920C-A6EAA7BC71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B7C68E-B7C9-4509-B62D-348CD18666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37B19B-5990-418A-97F0-628F5EF7FC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C46BAF-8634-439C-BBF5-FFE3716234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466BDE-2FF3-4442-A41F-52A143585D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960E77-F443-4213-99B9-657929EC27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42DFFB-FDBB-49F3-A946-8CD7BC8874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4D56F0-D808-4795-A4AE-5CCD6AF25C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81FCE1-F69A-4836-AF0F-6E866A91CE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58F4B-E2FF-41EB-981E-8AE53C5B0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FCE449-BDD8-4183-B87E-290431995D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162E50-66B9-4E17-A7AD-865704109C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5C62A1-5601-4A55-A6F6-D560CC0515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176708-271B-413F-B43F-7390CE7057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75F6F6-AD2B-47B8-B622-1EE46CE34D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4BC92D-C90C-4953-A34A-8C91C6689F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29E7C7-73C4-42F0-B966-1F5620B56F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6306A3-CD03-4BD1-A1ED-C52B7EF994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A4B191-6095-4D87-B9ED-F094CDF547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995D64-F86B-4896-A2A3-0C75A5A849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0189B-452F-41F0-8F3B-5F818F746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304D0F-277B-4D8D-8E06-2DB3BBBBAE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CD2A72-46E8-4BB3-9BFE-54551A983C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B90E09-62D6-4FA3-B754-594DE59A20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DF32A8-FA21-47DA-A4E5-4797F13E38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198FBD-95D9-4942-965C-BAFC97AF79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D46B6B-5A74-4E21-B350-324A02A53B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D3413C-51AB-41DF-A3C7-9185342243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B400AB-ACFE-41BF-BAD6-F9058AC632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3427DE-A439-4860-86E7-A30B49AA42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3F143F-25CA-4A7C-B4FC-62DABD493E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2984C-742F-4555-AF77-310AAB638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0EFD97-743D-4855-A1DC-3905A84F26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020704-CC02-4E53-B754-73004F0B56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D17335-81B1-48D7-A4C0-6AF6F8AC72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FFF5F5-FED9-4442-885C-0D7F63F41F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8D4CEE-60F3-4625-827C-C8F40034EC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800E16-BCFF-407F-8FBE-3E5F2C3887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7583FC-3410-4CA9-B665-D504F1E29B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BC8ED8-629B-463A-BA85-258DC572F17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B34789-1A4C-4F80-933B-B70C85A71A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536820-B685-409D-9569-4A3EC905856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6954B-783E-4102-8156-C41513AAB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2BCD4C-0561-4ADE-8DE9-2A448E09D0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A19BC8-9037-45B8-B88A-B5A8ADB8B5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D9ADE0-35B5-4EB6-9790-BB440764CD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284DBC-6447-48A5-9A27-141B4537AED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709E75-18FF-4DA5-8342-228B07CC08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64E250-28A0-4EA6-9BD8-57430F5425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2CC287-BD7F-4EE5-9263-B59AFB0531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53AF48-77C3-4253-8884-7367763C03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8B18E25-3300-498F-8710-20EA3E1201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0F8C569-7FE1-4320-80D9-A95FDF78473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09FF0-3AC9-4DBE-A773-A08C2169B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AAD2FFA-68D3-415B-AA24-2D6B17FFDA8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B8A71B-BBE1-48CD-B98B-F82114CE30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5A17C7E-6F2C-4E4C-8082-61BF88C51F8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376E37-8F6A-4B63-A8F2-09A9715DDC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951EC1E-7FFF-4010-BD0A-020B4A2F2A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C55564-C776-44E3-9DB1-F936780D9C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58A498-7FDF-4E66-B8AF-BF77C61312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55037F-BB13-452E-98B5-C03E91A599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CD95F2-27F8-4324-97DA-80EF9CD2B5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DB5CB4-1BEA-4888-9498-E1D55A9C6B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F1179-342D-4D8E-BCF6-9CB7B38D3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BBA4D5-4A3C-46CB-864D-55F8E1C169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83295B-5925-4081-95AC-6DB343FE51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E0854E6-67D0-4125-96B4-269E8E21532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D412220-4EA8-4A78-A92C-AC5A96AC434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727273-4598-4181-A661-9CFAD49EA0F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A3EB495-5257-4C6C-9722-A1C9FE99B2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B99D6DB-013C-498F-A13E-DE889A2D6D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BFA864-18E2-4C1B-9DD4-49C4ECDC89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CAE135-E23C-453C-9756-9B5E56A91C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AA97F2-B9D8-467B-87EE-3BCB0DB4F1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24E84-8C18-464B-945D-3443DBF67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42BFF-6E27-40FE-97DC-6B35B77CE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A74118-E398-4BAC-8476-CC8433BA64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E43599-1407-4C52-BA56-C73F9B5214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392FDE-3C5B-4994-8F8E-7395AD2016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C675337-272E-466D-89E8-EC571AA293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F1BBBF-E029-472A-8060-11F09B2839D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27D0F26-0098-4655-952A-E117BD84AD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1AB935-02C9-40AD-9F8A-49D2C3E303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9DE236A-47D1-45B4-92C0-841B767235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8CC5F7-C19C-4877-B5E9-876A51D6A4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335EBD-B141-464E-8FC2-FB06A76446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4EB68-2299-4D56-8815-B8DD4C45B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30A4A2-5F38-4381-B2A7-7A506D4B160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E66D722-2AA2-44A3-BB4D-551AC37DFB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0E8FDCC-57E7-4C10-B6DF-8FE538A19C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F0EF4E-320A-4253-A7B9-B4449A25AF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4DB2EA-8E81-4CFE-B4A7-0C089CB629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DAF1CB6-859E-4AC4-94F0-36A68D87183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8AD9E24-4E16-46FD-9888-DA7B502EAAA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E9D91-CA08-452E-A7F8-94096E070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F2FBC-4709-4DC9-AC49-89E1890B0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17688-98B1-4313-BDB5-46920D0DC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AEAAE8-14B3-4193-96B4-CBEFD338F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1C8A1-813F-47B4-B909-D7C2BF960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83D42-28D4-440B-9E9E-A7CEFB373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887A1-B24E-4470-BEBA-74938E265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C6889-DDCE-4451-8423-389D9CCF9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287B7-2D0C-4765-8A54-5497A3D8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2F259-C279-47C4-989B-455F134B3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43E97-42C4-4048-BA29-5D0BB8463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8D5E68-8AB3-4C89-9758-7A03674A2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B5B75-EC9A-4A48-974C-AABFE30DE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CEE38-C811-4A95-91F4-5A3DC0591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5E8616-383D-46E8-9811-2CF731D8C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89BE83-131F-47DD-9C8A-840639B525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21064-B3C5-4D4D-AD7B-218AB8FA42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BA758-4B4A-4A0D-AFE3-2392C9677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183B1B-EB56-4449-A4AB-7AD837DB2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75FCA-988C-48E6-B695-DB93DD95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AF902-E682-498F-B65D-F00023F88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51B7C-EB15-4517-9587-AB1BDF99B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6EBB7-B7C2-447E-A39D-7D07D8581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B2C37-3C27-4D25-BE2D-AB9C68F98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7BB57-40B8-417F-956A-F83E20D74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97258-9AD1-4100-A5E4-BD0234DD8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FCF8F-6E1B-4089-B931-2BE307D01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57D56-CF1B-486E-BF1A-D30FEEAC8D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AB2D59-503F-48F6-9215-C7EE298A23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D974C-8A33-4860-85F7-EF91E2459C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4F1A1-A77B-436C-9BCE-0C5966E5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A6102-A0EB-4893-91FE-101EC228D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29257F-7A62-40F4-86C0-7BC0BAB17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756941-5B9F-4FAE-8BA2-42BA49DFD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CE6517-AF65-40AA-B118-B40DD29B3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2F6BF-DE45-4124-929D-4CD31B39B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7D650-799D-4654-86A0-228271F44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DBC0A-A836-4AEC-BDC9-46E04625C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82949-E949-4896-A4CF-58C07F496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6CAE0-CF06-4833-AE78-2560DD49F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98BEDE-F84D-42D9-B38F-D4DCFD9A2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2767-E5BE-469E-857D-C8565853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A107A-DAD5-4F39-90C5-0E5A67B6E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9A59F3-C672-4D13-8767-0C9F9AC0A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F4352-5CC5-49C3-9678-D7D20C12F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02D382-E5CF-49DB-ABF4-5DB97DCCEB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9AEF38-D42A-4C43-A0BE-07D09C1D6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DA2EC-56B2-426D-B57B-051420B10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678F6D-3C24-4F53-8F45-EDD827DBF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9A7FF-A293-4897-9D4D-6D5D44E12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73836-D7DB-4EA5-ADC9-CB89ED337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E2AE8-2520-4391-A06A-78D11B07F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AEAB-0AC7-425C-98D3-4FA38024B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2BC43-F29B-498D-AF12-E23297CDD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000CAC-4460-4FFE-8A58-B1D8153C3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077652-F013-4938-98C2-26AC26B964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ECA29D-4698-44A6-9DFC-A971E64AED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55AEA-2DB0-413D-9943-A53CC6CAB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DCC03-BF37-4CA0-B9A0-1D809D218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550F7-10ED-4279-9EC8-5A51513E5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C0E6E8-0388-47F9-AA44-6711CFA73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DF449-A147-4905-9345-8503B4F74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6D1BA-1124-412F-BDA1-5BAFFEA67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B78CC-C623-41A9-82BA-5D59DC079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C0CEE-ADA8-4873-9086-916F3B654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82995-4CD8-48B9-9740-4E1E20A6C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00DE3-0B78-4B4C-9390-3D532434F8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950989-563A-40D6-9CBA-FF88CBB1A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8DBCBA-0DCE-4F06-BD51-ED259A75A5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D4E32E-51BB-4A10-88A8-64523DEC45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44195-A9F5-4426-BF9F-5FAD900E8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A059A-A461-4652-A9CD-DB08B38E60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3CD27-DB6A-4626-9A1D-16096BE074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BABA75-69B0-4F72-A18F-C05E1411CA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C111-57A7-4DEF-8FF1-D7C1749A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13B94-F26C-42D3-BE44-9C0C4E193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98C9D-30B5-4A0A-88D4-EDCF2B831C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D751E-1B8F-4686-A22B-D7CC188AC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25175-FAB0-46F9-93FD-A32080DE8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D21CFA-CBE2-480A-B2A5-89F6763536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274996-FCB4-4716-8BF7-956A6D0BB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D8BA97-FE51-4E26-A0E3-875B2826A9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230A29-CAAD-49E7-B77E-3B8C418BE0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1D678-4D04-4F80-8F08-07BA2300E9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46523-6146-4BFD-AA14-54FE11404D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6DEF7-6393-4C18-AF32-526EEFC825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CF5AF-399B-4C37-9D5C-342EE25501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ABE2E-37FC-46C3-8312-5BFD2AA74A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4CCE7-D02C-45FF-815E-9B2E4ED6E8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835C7-46AF-44DD-A6F9-B39C9623A8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BA7D7-5E81-4743-9231-8A26186C37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134C2-4B4E-4F15-9D2E-6EB5CF140E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A3DCE-562C-4F93-AEFD-88618F4593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0C0C9-3C9E-42AA-B095-F1CA572F32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E26E0-FD3A-4139-A430-8868E647F0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22C4C-658F-4313-9AD2-8D5324738F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AA0A2-83EB-45BB-9B3C-B9BE2A01E2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72ED1-92CC-4D24-B551-A1E9DA3C66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1AEC7-2942-412E-9D0C-A8DB6E2C17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448F8-0A40-44D5-9FF5-B6402804F4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7209A-3BC8-4D79-B7AC-E2B4E49B21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3B2DD-DE52-4319-9E42-DB0E9C7AC1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338FA-5643-4185-9F59-38C2780CE68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914040" y="618840"/>
            <a:ext cx="10363320" cy="561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w Cen MT"/>
                <a:cs typeface="Times New Roman"/>
              </a:rPr>
              <a:t>بهای ثابت</a:t>
            </a:r>
            <a:r>
              <a:rPr b="0" lang="fa-IR" sz="3200" spc="-1" strike="noStrike">
                <a:solidFill>
                  <a:srgbClr val="000000"/>
                </a:solidFill>
                <a:latin typeface="Tw Cen MT"/>
                <a:ea typeface="Times New Roman"/>
              </a:rPr>
              <a:t> </a:t>
            </a:r>
            <a:endParaRPr b="0" lang="en-US" sz="3200" spc="-1" strike="noStrike">
              <a:solidFill>
                <a:srgbClr val="000000"/>
              </a:solidFill>
              <a:latin typeface="Tw Cen MT"/>
            </a:endParaRPr>
          </a:p>
        </p:txBody>
      </p:sp>
      <p:sp>
        <p:nvSpPr>
          <p:cNvPr id="776" name=""/>
          <p:cNvSpPr txBox="1"/>
          <p:nvPr/>
        </p:nvSpPr>
        <p:spPr>
          <a:xfrm>
            <a:off x="914040" y="1114200"/>
            <a:ext cx="10363320" cy="46767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هایی هستند که مبلغ کل آنها در یک دوره زمانی معین در یک دامنه مربوط با تغییر عامل بها تغییر نمی کنند اما نرخ آنها برای هر واحد از عامل بها ثابت نیست و متناسب با افزایش عامل بها کاهش می یاب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77" name="Picture 5" descr=""/>
          <p:cNvPicPr/>
          <p:nvPr/>
        </p:nvPicPr>
        <p:blipFill>
          <a:blip r:embed="rId1"/>
          <a:stretch/>
        </p:blipFill>
        <p:spPr>
          <a:xfrm>
            <a:off x="0" y="1866960"/>
            <a:ext cx="9848880" cy="5057640"/>
          </a:xfrm>
          <a:prstGeom prst="rect">
            <a:avLst/>
          </a:prstGeom>
          <a:ln w="0">
            <a:noFill/>
          </a:ln>
        </p:spPr>
      </p:pic>
      <p:pic>
        <p:nvPicPr>
          <p:cNvPr id="778" name="26.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8"/>
                    </p:tgtEl>
                  </p:cond>
                </p:stCondLst>
                <p:childTnLst>
                  <p:par>
                    <p:cTn id="3" nodeType="clickEffect" fill="hold">
                      <p:stCondLst>
                        <p:cond evt="onClick">
                          <p:tgtEl>
                            <p:spTgt spid="778"/>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16992" fill="hold"/>
                                        <p:tgtEl>
                                          <p:spTgt spid="7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914040" y="0"/>
            <a:ext cx="10363320" cy="156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 مخلوط</a:t>
            </a:r>
            <a:endParaRPr b="0" lang="en-US" sz="3600" spc="-1" strike="noStrike">
              <a:solidFill>
                <a:srgbClr val="000000"/>
              </a:solidFill>
              <a:latin typeface="Tw Cen MT"/>
            </a:endParaRPr>
          </a:p>
        </p:txBody>
      </p:sp>
      <p:sp>
        <p:nvSpPr>
          <p:cNvPr id="780" name=""/>
          <p:cNvSpPr txBox="1"/>
          <p:nvPr/>
        </p:nvSpPr>
        <p:spPr>
          <a:xfrm>
            <a:off x="914040" y="2048040"/>
            <a:ext cx="10363320" cy="37432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ی مخلوط که بهای نیمه متغیر نیز نامیده می شود بهایی است که بخش از آن ثابت و بخشی متغیر است . مانند بهای آب و برق مصرفی که آبونمان آن بخش ثابت بوده که به میزان مصرف ارتباطی ندارد اما بش دیگر آن متغیر است که با میزان مصرف افزایش می یابد . با ذکر یک مثال معادله ونمودارهای آن را توضیح می دهیم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81" name="27.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81"/>
                    </p:tgtEl>
                  </p:cond>
                </p:stCondLst>
                <p:childTnLst>
                  <p:par>
                    <p:cTn id="9" nodeType="clickEffect" fill="hold">
                      <p:stCondLst>
                        <p:cond evt="onClick">
                          <p:tgtEl>
                            <p:spTgt spid="781"/>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5410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146160" y="109440"/>
            <a:ext cx="12045960" cy="6748560"/>
          </a:xfrm>
          <a:prstGeom prst="rect">
            <a:avLst/>
          </a:prstGeom>
          <a:ln w="0">
            <a:noFill/>
          </a:ln>
        </p:spPr>
      </p:pic>
      <p:pic>
        <p:nvPicPr>
          <p:cNvPr id="783" name="28.3gp" descr=""/>
          <p:cNvPicPr/>
          <p:nvPr/>
        </p:nvPicPr>
        <p:blipFill>
          <a:blip r:embed="rId2"/>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83"/>
                    </p:tgtEl>
                  </p:cond>
                </p:stCondLst>
                <p:childTnLst>
                  <p:par>
                    <p:cTn id="15" nodeType="clickEffect" fill="hold">
                      <p:stCondLst>
                        <p:cond evt="onClick">
                          <p:tgtEl>
                            <p:spTgt spid="78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246776"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914040" y="146160"/>
            <a:ext cx="10363320" cy="777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نکات مربوط به بهای ثابت ، متغیر ، نیمه متغیر</a:t>
            </a:r>
            <a:endParaRPr b="0" lang="en-US" sz="3600" spc="-1" strike="noStrike">
              <a:solidFill>
                <a:srgbClr val="000000"/>
              </a:solidFill>
              <a:latin typeface="Tw Cen MT"/>
            </a:endParaRPr>
          </a:p>
        </p:txBody>
      </p:sp>
      <p:sp>
        <p:nvSpPr>
          <p:cNvPr id="785" name=""/>
          <p:cNvSpPr txBox="1"/>
          <p:nvPr/>
        </p:nvSpPr>
        <p:spPr>
          <a:xfrm>
            <a:off x="914040" y="923400"/>
            <a:ext cx="10363320" cy="4867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بهای متغیر هر واحد و بهای ثابت کل ثابت می باش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بهای متغیر کل افزایشی و صعودی بوده اما بهای ثابت هر واحد کاهشی و نزولی می باش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شیب نمودار متغیر کل برابراست با بهای متغیر هر واح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نمودار متغیر هر واحد و نمودار ثابت کل ، خطی و ثابت هست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نمودار متغیر کل صعودی با شیب ثابت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6</a:t>
            </a:r>
            <a:r>
              <a:rPr b="1" lang="fa-IR" sz="1800" spc="-1" strike="noStrike">
                <a:solidFill>
                  <a:srgbClr val="0070c0"/>
                </a:solidFill>
                <a:latin typeface="Tw Cen MT"/>
                <a:ea typeface="B Nazanin"/>
              </a:rPr>
              <a:t>- نمودار ثابت هر واحد غیر خطی و نزولی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7</a:t>
            </a:r>
            <a:r>
              <a:rPr b="1" lang="fa-IR" sz="1800" spc="-1" strike="noStrike">
                <a:solidFill>
                  <a:srgbClr val="0070c0"/>
                </a:solidFill>
                <a:latin typeface="Tw Cen MT"/>
                <a:ea typeface="B Nazanin"/>
              </a:rPr>
              <a:t>- در حسابداری بهای تمام شده بها فقط به دو دسته تقسیم می شود ( ثابت و متغیر ) و در مورد بهای مخلوط بخش ثابت آن به بهای ثابت و بخش متغیر آن به بهای متغیراضافه می شود . </a:t>
            </a:r>
            <a:endParaRPr b="0" lang="en-US" sz="1800" spc="-1" strike="noStrike">
              <a:solidFill>
                <a:srgbClr val="000000"/>
              </a:solidFill>
              <a:latin typeface="Tw Cen MT"/>
            </a:endParaRPr>
          </a:p>
        </p:txBody>
      </p:sp>
      <p:pic>
        <p:nvPicPr>
          <p:cNvPr id="786" name="29.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786"/>
                    </p:tgtEl>
                  </p:cond>
                </p:stCondLst>
                <p:childTnLst>
                  <p:par>
                    <p:cTn id="21" nodeType="clickEffect" fill="hold">
                      <p:stCondLst>
                        <p:cond evt="onClick">
                          <p:tgtEl>
                            <p:spTgt spid="786"/>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98056" fill="hold"/>
                                        <p:tgtEl>
                                          <p:spTgt spid="7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914040" y="182160"/>
            <a:ext cx="10363320" cy="1033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مفروضات اصلی رفتا بها</a:t>
            </a:r>
            <a:endParaRPr b="0" lang="en-US" sz="3600" spc="-1" strike="noStrike">
              <a:solidFill>
                <a:srgbClr val="000000"/>
              </a:solidFill>
              <a:latin typeface="Tw Cen MT"/>
            </a:endParaRPr>
          </a:p>
        </p:txBody>
      </p:sp>
      <p:sp>
        <p:nvSpPr>
          <p:cNvPr id="788" name=""/>
          <p:cNvSpPr txBox="1"/>
          <p:nvPr/>
        </p:nvSpPr>
        <p:spPr>
          <a:xfrm>
            <a:off x="914040" y="1079640"/>
            <a:ext cx="10363320" cy="471168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تغییر در سطح عامل بها در یک دامنه مربوط رخ می دهد . منظور از دامنه مربوط محدوده ای از سطح فعالیت یا عامل بها است که در آن جمع بهای ثلبت کل و بهای متغیر هر واحد با تغییر سطح فعالیت یا عامل بها تغییر نکرده و ثابت می ماند . به عبارت دیگر دامنه مربوط عبارت است از حد فاصل بین حداقل و حداگثر سطح فعالیت یا عامل بها می باشد که در این حدفاصل بهای ثابت کا و بهای متغیر هر واحد ثابت می مانند .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رفتار بها را بایستی در یک دوره مشخص در نظر گرفت مثلا در مورد اجاره معمولا این مدت یکساله است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 موضوع بهایابی یک موضوع خاص است و تمامی عوامل بر حسب آن سنجیده می شون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تنها یک عامل بها وجود دارد و تاثیر سایر عوامل نادیده گرفته می شود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بها تنها به دو دسته ثابت و متغیر تقسیم می شود .</a:t>
            </a:r>
            <a:endParaRPr b="0" lang="en-US" sz="1800" spc="-1" strike="noStrike">
              <a:solidFill>
                <a:srgbClr val="000000"/>
              </a:solidFill>
              <a:latin typeface="Tw Cen MT"/>
            </a:endParaRPr>
          </a:p>
        </p:txBody>
      </p:sp>
      <p:pic>
        <p:nvPicPr>
          <p:cNvPr id="789" name="30.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789"/>
                    </p:tgtEl>
                  </p:cond>
                </p:stCondLst>
                <p:childTnLst>
                  <p:par>
                    <p:cTn id="27" nodeType="clickEffect" fill="hold">
                      <p:stCondLst>
                        <p:cond evt="onClick">
                          <p:tgtEl>
                            <p:spTgt spid="789"/>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27242"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914040" y="191880"/>
            <a:ext cx="10363320" cy="12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جلسه چهارم</a:t>
            </a:r>
            <a:endParaRPr b="0" lang="en-US" sz="3600" spc="-1" strike="noStrike">
              <a:solidFill>
                <a:srgbClr val="000000"/>
              </a:solidFill>
              <a:latin typeface="Tw Cen MT"/>
            </a:endParaRPr>
          </a:p>
        </p:txBody>
      </p:sp>
      <p:sp>
        <p:nvSpPr>
          <p:cNvPr id="791" name=""/>
          <p:cNvSpPr txBox="1"/>
          <p:nvPr/>
        </p:nvSpPr>
        <p:spPr>
          <a:xfrm>
            <a:off x="914040" y="1490760"/>
            <a:ext cx="10363320" cy="4300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سر فصل مطالب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1</a:t>
            </a:r>
            <a:r>
              <a:rPr b="1" lang="fa-IR" sz="1800" spc="-1" strike="noStrike">
                <a:solidFill>
                  <a:srgbClr val="0070c0"/>
                </a:solidFill>
                <a:latin typeface="Tw Cen MT"/>
                <a:ea typeface="B Nazanin"/>
              </a:rPr>
              <a:t>- ارتباط رفتار بها و قابلیت رهگیری بها</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2</a:t>
            </a:r>
            <a:r>
              <a:rPr b="1" lang="fa-IR" sz="1800" spc="-1" strike="noStrike">
                <a:solidFill>
                  <a:srgbClr val="0070c0"/>
                </a:solidFill>
                <a:latin typeface="Tw Cen MT"/>
                <a:ea typeface="B Nazanin"/>
              </a:rPr>
              <a:t>- طبقه بندی بها بر مبنای ارتباط با محصو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3</a:t>
            </a:r>
            <a:r>
              <a:rPr b="1" lang="fa-IR" sz="1800" spc="-1" strike="noStrike">
                <a:solidFill>
                  <a:srgbClr val="0070c0"/>
                </a:solidFill>
                <a:latin typeface="Tw Cen MT"/>
                <a:ea typeface="B Nazanin"/>
              </a:rPr>
              <a:t>-</a:t>
            </a:r>
            <a:r>
              <a:rPr b="1" lang="fa-IR" sz="1800" spc="-1" strike="noStrike">
                <a:solidFill>
                  <a:srgbClr val="000000"/>
                </a:solidFill>
                <a:latin typeface="Tw Cen MT"/>
                <a:ea typeface="B Nazanin"/>
              </a:rPr>
              <a:t> </a:t>
            </a:r>
            <a:r>
              <a:rPr b="1" lang="fa-IR" sz="1800" spc="-1" strike="noStrike">
                <a:solidFill>
                  <a:srgbClr val="0070c0"/>
                </a:solidFill>
                <a:latin typeface="Tw Cen MT"/>
                <a:cs typeface="B Nazanin"/>
              </a:rPr>
              <a:t>طبقه بندی بر مبنای ارتباط با حوزه عملکرد</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4</a:t>
            </a:r>
            <a:r>
              <a:rPr b="1" lang="fa-IR" sz="1800" spc="-1" strike="noStrike">
                <a:solidFill>
                  <a:srgbClr val="0070c0"/>
                </a:solidFill>
                <a:latin typeface="Tw Cen MT"/>
                <a:ea typeface="B Nazanin"/>
              </a:rPr>
              <a:t>- طبقه بندی بر مبنای دوره انتقاع</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ea typeface="B Nazanin"/>
              </a:rPr>
              <a:t>5</a:t>
            </a:r>
            <a:r>
              <a:rPr b="1" lang="fa-IR" sz="1800" spc="-1" strike="noStrike">
                <a:solidFill>
                  <a:srgbClr val="0070c0"/>
                </a:solidFill>
                <a:latin typeface="Tw Cen MT"/>
                <a:ea typeface="B Nazanin"/>
              </a:rPr>
              <a:t>- طبقه بندی بر مبنای قابلیت کنترل</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792" name="31.3gp" descr=""/>
          <p:cNvPicPr/>
          <p:nvPr/>
        </p:nvPicPr>
        <p:blipFill>
          <a:blip r:embed="rId1"/>
          <a:stretch/>
        </p:blipFill>
        <p:spPr>
          <a:xfrm>
            <a:off x="5791320" y="31240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92"/>
                    </p:tgtEl>
                  </p:cond>
                </p:stCondLst>
                <p:childTnLst>
                  <p:par>
                    <p:cTn id="33" nodeType="clickEffect" fill="hold">
                      <p:stCondLst>
                        <p:cond evt="onClick">
                          <p:tgtEl>
                            <p:spTgt spid="792"/>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7879"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52:33Z</dcterms:created>
  <dc:creator>Windows User</dc:creator>
  <dc:description/>
  <dc:language>en-US</dc:language>
  <cp:lastModifiedBy>Windows User</cp:lastModifiedBy>
  <dcterms:modified xsi:type="dcterms:W3CDTF">2020-04-09T17:58:12Z</dcterms:modified>
  <cp:revision>2</cp:revision>
  <dc:subject/>
  <dc:title>PowerPoint Presentation</dc:title>
</cp:coreProperties>
</file>