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89C2-B022-499C-A398-843E1E7F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946-3552-4280-8AE0-C76CE562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E3B0A-BFD0-41BD-86D5-CAC0E663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E876E-D34C-4772-A69C-A2A7BD13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2F7B8-6664-4818-A2C3-4B8BA6DF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49313-DF0B-46A9-AE21-CDF6CF60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34B1F-7B74-437E-ACB0-859BB5E2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75199-10B0-4B47-86B1-049E0563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6BF4E-0414-4AB8-8AF5-6BC6F503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A2D7D-026E-40AD-8367-D918F0D4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BCA08-AECA-4F1A-9BF7-A0676DFC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A2559-09A0-4031-9290-03EEDC77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272-A379-4D4B-9BAE-73A90FAD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0CB5E-D501-4DFF-8D17-2DF6CB7D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C0F5C-0ACC-4A79-8420-4EEB024B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62E98-B7AF-4C99-8913-4A4E9154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CC31A-EFE6-43EF-9332-11B7F508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D1474-7551-4656-B915-B11359F6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0AE0D-E2D3-45D1-8121-A4E38B81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6F82A-830E-4F6A-B0EB-AFE2D6AE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95520-EC25-4D1E-BAD9-3CE358D8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E3B26-731E-4FA6-8877-73E6CBC3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717A9-CA70-42E9-99C8-0E73B42E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4C8-51DC-44B0-9B59-DE89AE0F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39AAC-761C-4A28-BB4B-ACE4F70D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791FF-37AF-4136-99DE-817F7129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6E0B6-9BBA-43AF-A9CE-F6F3C79F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E2F45-6549-4219-90BA-E662EA68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D2C44-A77D-4D9A-84A7-978AC3AC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5F1B3-8A6E-43C7-AFD1-7C725F0A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E792B-DCDF-40DC-811C-58BC10D1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20EFB-0432-441F-A3D0-F0A70B69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81646-D620-4FF2-8A71-5B23C78F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89E1F-7EF3-45E5-A401-5C5B45E2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054C-1477-48F3-89DC-2E9E0F35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CB9C5-9EC0-4A98-A4AE-3A7E962D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345E1-E89C-4F6F-BC82-DC3F1D4A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87082-839A-48EB-9AEF-A12E0AC4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A29D2-B431-4B73-A548-CB43998C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54049-FCBD-4C67-80E7-99733688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F7221-8792-4F19-BAF3-AA7203A8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A6E77-1595-498A-8B3B-D1BF51AB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30EE3-4A1B-4643-8E9D-4E7A8DA6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C3F42-C6AB-4041-8D96-DEB665D0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3F023-035E-43EE-AC3A-B37800B0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1F4C-9643-425C-90D9-98CE7280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47E60-4EF2-48CB-A07D-3C6D008A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66CCE-744A-4392-832D-4A7189D2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AE191-AD54-4620-B2EF-765FC1CA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C1B7D-224D-4268-9FEE-2F359E50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6BFB8-1AA4-45D9-A8E9-4FE408C9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86317-BD4A-4B78-A08D-20F7128C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711BB-FD10-42ED-A516-2562EC9D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411D5-83A0-43AE-A10B-176629E7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659F7-53C3-4F7D-B1C7-8B12247B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2938CC-75F3-477B-BBA6-DED2EFA6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CF88-2DF9-4747-A68A-E482275B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9E1CC-FF5B-4A8B-B195-C4D0EE61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7D8B8-AB7C-424C-BC32-0A089258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B81E0-DD31-48A0-BAD3-74B046DB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1A53F-3696-4E48-8F34-99579544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9CFF7-293C-4FA6-A421-F2F4CB94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F2038-0695-4C26-8957-811FE9E7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89102-06EB-4FE9-8690-092E6199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9BFEF-64A9-4AAA-A4EC-0B3B4E59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03D2D7-46AB-494F-B8E0-369A1852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B6BF6-6497-4EF3-A69C-2565D6D4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1889-E5C9-4E62-97AE-B6A33757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18903-8ED3-4862-8ABB-50EDCE28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DA5F9B-D9F3-4D85-ADEB-05D6E710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A6C9C-FCED-4DF4-9DD1-B6E4C4E5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4CC2D5-3D1E-47E9-B8B6-E7DF0ADC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79F7A-C409-42A1-BBDE-6A6C630D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DB2AD-3046-42D7-8537-8C4DEB40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026007-5159-40C7-99BE-BCD30EE6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508CE-91AE-460F-B4F5-21F10A1D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6D433-FC2A-4B57-8BCE-4693A3F0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B433A-4A6F-495E-A57B-87813FAA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20D9-C8DB-4E5D-81C6-A2531EE4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D26CC-6F06-4407-BC2C-3490D81D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A9E815-38A2-4E59-A2B8-A564175F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13C371-B9A6-4558-B052-3504B423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79A671-C3AB-4031-9F27-42F13591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DD438-B1D3-428C-BA15-6397E2BA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3DC9ED-DBFF-4125-88BA-D1C146BA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80ABEF-BBB6-4B2D-B6D1-B1328738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6CCA92-31A5-4491-A9DE-0188376D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9B488-828F-43E1-AA03-F828704A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0F232F-B076-4585-B8F9-B4F87490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20EB-2EA5-48E2-9784-4E34B488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76E945-0906-43AF-BE57-7C42B076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B5F9B1-1BB3-41A1-845F-D6B9133E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46702B-DA8C-4002-A76B-6E678EC3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900364-3973-4ED3-84C6-FD1E9992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851BBC-D57F-4378-8C33-9781FFDB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684206-CC41-482B-B0BD-11380F2A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AA2E08-92E2-4A32-9EFB-07AD9863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7CD5F0-5D83-41F1-AFBD-AC5C0B1B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B940B5-8339-4473-AD79-D45B9295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1339F9-50FB-460A-9EAC-E38E80DB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667F-11E2-47A4-80BB-12AE46D8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8EE787-7321-4199-9D47-37A94EAB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DDACD-FEDF-45E7-BCB3-2AB09E82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8EFF8-8DFA-43C2-ABE7-BE5115B4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38B081-97F3-40EC-B85B-DA76910E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C55F7-DFCA-40D7-B3E9-7B3EBE13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D95604-3567-4A0D-AC63-9D67EFA3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8AEEF4-FE57-49C4-9253-FC5E5E8C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3A724B-272F-4FE3-9B4E-B80486D8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C60F45-1652-4B4D-8273-2B79695A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4AE4B-C0CB-4E09-827B-264BE4C2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8F5-FB71-4C4C-8DF5-CD1D0895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4295-C3A6-4BED-8758-8142CC89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B9A0D2-0668-4E1B-8743-9D6BFE24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1D5C80-59D1-499B-94C0-D4B09876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96952-9F59-4E4C-A808-616D118C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950EB-9CE0-4C1F-B77E-1F9F494B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096B7B-550B-4166-A32B-30B2367C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123012-53A5-491E-8781-87785136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A08AEF-2698-4AB3-A140-30C0652B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89E862-D8A9-4591-A80A-B5429EA7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20997D-BFDA-462A-AA27-697F1ADB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B4CB78-DAF7-4A86-B8A4-5C234C47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002F-C1BC-47A4-B187-47FAD63C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89CB15-067E-4678-9B26-3D397322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42EF29-2438-448B-9ECC-A0FDE237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B155A7-0417-4F41-B5ED-79818100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9CEAD7-0B3A-4B2C-8EF5-2E8E0D8F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67FDA6-6430-47E6-98F7-71D5D723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43F40A-585E-4415-9632-F3A5506D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89BE58-5C43-45FF-B438-4EE7FA1A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EF85-AC5A-488D-AA1D-A9B78987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C648-1898-4C74-A0FA-F4A7E1E6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7979-5C9A-4D2F-AB0B-86BEF950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BBD2F-761C-46FA-B912-81EEAD9B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9F4D9-1FCB-4361-8268-170F84E0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52A00-19C7-4D11-8225-0C94DF86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0ECE1-5612-4FAE-926F-058AED5B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6AE37-E9AF-41C9-9E93-5C6D0F4C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DA4-C946-49B7-AE22-97B7807A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F10CE-A65F-42DE-9BBE-C8CB70BB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02D99-334D-49BC-94C7-B8650AC7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C404D-807E-45A3-8733-62FD458D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FA12-9861-4FB9-8AE7-5147EFF1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F7983-16F9-4D4B-B20C-520F0CB0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662BE-6B60-43AA-BDB0-F96ADA94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A7591-080A-4588-9A9C-9DA7AC43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E4448-D657-4EE7-8158-596734B8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7BF6F-B6FF-495D-97C4-2A9368F6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B6058-4228-4AB1-953F-5406EA64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594-A527-43A4-86A3-49561D89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789B0-D4AC-4968-82C1-88480819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BCE60-77E9-4D46-8AA5-F4066388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F8FE5-3A44-4D80-97FC-B49430A4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0F5D3-5FFF-47DE-8AA7-52455A51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939ED-D457-4ED2-8890-0B5BB4BF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DC759-64E5-4D1D-A609-69B366BB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50FA2-0C6D-47EF-85AA-46D9FCD0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8840D-5B38-4746-9C04-359F911D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2575-6537-4A87-AA12-313B6C4B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0078F-FE0B-4110-9C76-ADE7F627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61D6-9E00-4554-8E0C-EFEFFCED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15A25-54F5-4C39-B8ED-90363A90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FADFB-CE86-459D-ADC8-B0E77D2C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68D12-6702-4D3A-A225-C603E385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D0ABC-C21E-403D-817E-1A336714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56C24-3F4A-44AF-9016-291DD107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E84A8-DA6D-43BA-9179-65A1BE49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19183-280A-49F9-891F-F823CE94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47DED-B2BA-41CF-9DEC-76838A99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A6CB5-66B5-4C39-ABF1-31D0AC2B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2232D-3825-41AC-9840-0B9EF76D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159-2A35-40D0-9DE3-B00956EC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0FF99-5AFD-427F-B9A1-FB3FD4E1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763CD-EC3E-4689-882A-B8CDBFCE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E3445-B5ED-42AB-8B74-1F98E929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AD054-55A9-48CF-8310-8BEC2444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20788-60D4-4620-B6F8-A77DD812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21D5A-F5D5-4952-A543-8FC3B0EB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96CD7-D458-43A0-B77B-D814791B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FF199-7183-4912-8CFF-DE55A0CD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1A58E-1BC1-47A7-8818-AB565277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A5B9F-099F-40D9-B905-2E1779A2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BB2-5404-47F9-A433-A2938D5F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51E1C-3430-472F-BDCF-F0683B5E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1B41E-A153-4D6D-A4FF-EF932AC1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ABD10-9EBD-466B-8C2E-31FA5127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1FA1C-DFFC-4D03-81FF-F634D677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E82C6-F48B-459E-9343-2F9FD5EC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D97E0-21C3-4E3B-8403-AFE9E7B3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6129D-2DF6-496E-A8F5-1AE741A4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69BF3-902D-4BC4-895E-9A70DD03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452AB-6CA1-478C-9A86-3B9EEF4C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B04B0-4D31-4D57-801A-BCDF5BCD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1B0-A150-45E7-BD21-48EEEAA8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FEFA5-A51A-48D9-A986-3D844983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86DC8-B807-4ADD-999A-FDD14176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09089-5B1D-480F-A71F-ED1C38F2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0936-2FDA-4783-8471-1221EC1F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D929C-1E42-4BC9-B241-E5DDAD2E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211FF-F6E6-4B04-B357-D1F2EB9D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AD3CE-F831-4170-95A9-CF3AE568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559EA-AAA0-40D8-BE90-53DDA041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11A7D-1760-42CB-9E91-976DF6C5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AFF72-3F91-4863-897F-0F9935A6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D64-3EEA-4BFD-B9AE-490CBABC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E9863-8C77-4558-B07E-1B49FFA8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71EE9-D6E0-4405-BD23-8B51570B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37952-EA10-4F34-9987-CE1BBAFF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179D4-1B0C-4684-9177-FF6F381E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4790A-09C2-4F4B-A31E-F2E1DAC8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893C0-0A37-49E8-BDFC-0712F0C5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FCC0C-D348-45FA-89EF-EEE24E3B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43C83-11F2-4192-868E-8FECFB95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1434B-92AE-4724-8521-03FAC1E8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7649B-731B-42D0-BF42-ADF817E6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F21FF-0FCF-444F-B52B-AE58D70128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B815C-9B69-4E07-9D6D-D00769EAA1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B8F8F-9D1A-4CAA-8DCD-B0A13A1676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39E1E-6FD2-4014-812D-91D243325F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1DAE7-ED7A-4219-9EB7-A41C5F53BC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BE23A-401E-40D8-BF68-E34B5F1A98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1661C-AA19-460A-95B7-E18F93809E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C438F-1D4A-4C14-80F9-325038235A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2D394-E285-4BDC-87CB-B2237993E8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4F5F6-AB65-4AC4-B941-A7FA128D82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9A0B4-8DC3-4245-AA07-9544C5BA3D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8001A-0531-4281-AEA4-F0BE182C92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6A8FF-4B82-45C7-9846-38E02087C0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A7EB5-4A32-4F1D-BE42-2A7D35CD4D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51316-509E-4E1F-8507-CFEAA855CE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855B1-2C1A-43A8-AEDF-5A80C54FB4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1193F-DEAF-445A-9241-8C5FC852A3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56CE1-EC4C-4208-9202-21DDF63BEF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040" y="-192240"/>
            <a:ext cx="1036332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جلسه دوم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914040" y="767880"/>
            <a:ext cx="103633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سر فصل مطالب</a:t>
            </a:r>
            <a:r>
              <a:rPr b="1" lang="fa-IR" sz="2800" spc="-1" strike="noStrike">
                <a:solidFill>
                  <a:srgbClr val="0070c0"/>
                </a:solidFill>
                <a:latin typeface="Tw Cen MT"/>
                <a:ea typeface="B Nazanin"/>
              </a:rPr>
              <a:t> </a:t>
            </a:r>
            <a:r>
              <a:rPr b="1" lang="fa-IR" sz="2800" spc="-1" strike="noStrike">
                <a:solidFill>
                  <a:srgbClr val="0070c0"/>
                </a:solidFill>
                <a:latin typeface="Tw Cen MT"/>
                <a:ea typeface="B Nazani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انواع روشهای بهایاب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مراحل بهایاب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عامل بها و مدیریت بها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بهای تولی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70c0"/>
                </a:solidFill>
                <a:latin typeface="Tw Cen MT"/>
                <a:cs typeface="B Nazanin"/>
              </a:rPr>
              <a:t>بهای اولیه و بهای تبدیل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7" name="AUD-20200409-WA0012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62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040" y="209520"/>
            <a:ext cx="1036332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جلسه سوم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914040" y="1152360"/>
            <a:ext cx="1036332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سر فصل مطالب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طبقه بندی بها از دیدگاههای مختلف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توضیح طبقه بندی بر مبنای قابلیت رهگیر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عوامل موثر بر طبقه بندی بها به مستقیم و غیر مستقی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Tw Cen MT"/>
                <a:cs typeface="B Nazanin"/>
              </a:rPr>
              <a:t>توضیح طبقه بندی بها بر مبنای رفت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7" name="21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9829" fill="hold"/>
                                        <p:tgtEl>
                                          <p:spTgt spid="8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040" y="618840"/>
            <a:ext cx="10363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انواع روشهای بهایابی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914040" y="1252440"/>
            <a:ext cx="103633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هر دو سیستم بهایابی سفارش کارو مرحله ای به سه روش زیر قابل اجرا می باشند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0" name="Diagram 3" descr=""/>
          <p:cNvPicPr/>
          <p:nvPr/>
        </p:nvPicPr>
        <p:blipFill>
          <a:blip r:embed="rId1"/>
          <a:stretch/>
        </p:blipFill>
        <p:spPr>
          <a:xfrm>
            <a:off x="639720" y="2554200"/>
            <a:ext cx="1749600" cy="3024360"/>
          </a:xfrm>
          <a:prstGeom prst="rect">
            <a:avLst/>
          </a:prstGeom>
          <a:ln w="0">
            <a:noFill/>
          </a:ln>
        </p:spPr>
      </p:pic>
      <p:sp>
        <p:nvSpPr>
          <p:cNvPr id="781" name="Right Arrow 4"/>
          <p:cNvSpPr/>
          <p:nvPr/>
        </p:nvSpPr>
        <p:spPr>
          <a:xfrm>
            <a:off x="2295360" y="3236760"/>
            <a:ext cx="712800" cy="182880"/>
          </a:xfrm>
          <a:prstGeom prst="rightArrow">
            <a:avLst>
              <a:gd name="adj1" fmla="val 50000"/>
              <a:gd name="adj2" fmla="val 49911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Right Arrow 6"/>
          <p:cNvSpPr/>
          <p:nvPr/>
        </p:nvSpPr>
        <p:spPr>
          <a:xfrm>
            <a:off x="2303640" y="3973680"/>
            <a:ext cx="712440" cy="1825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Right Arrow 7"/>
          <p:cNvSpPr/>
          <p:nvPr/>
        </p:nvSpPr>
        <p:spPr>
          <a:xfrm>
            <a:off x="2295360" y="4734000"/>
            <a:ext cx="712800" cy="1825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Oval 8"/>
          <p:cNvSpPr/>
          <p:nvPr/>
        </p:nvSpPr>
        <p:spPr>
          <a:xfrm>
            <a:off x="3311640" y="2276640"/>
            <a:ext cx="3857400" cy="11430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اطلاعات مربوط به مواد و دستمزد و سربار همگی واقعی باش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5" name="Oval 9"/>
          <p:cNvSpPr/>
          <p:nvPr/>
        </p:nvSpPr>
        <p:spPr>
          <a:xfrm>
            <a:off x="3216240" y="3478320"/>
            <a:ext cx="4191120" cy="110628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اطلاعات مربوط به مواد و دستمزد واقعی بوده اما اطلاعات سربار برآوردی می باش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Oval 10"/>
          <p:cNvSpPr/>
          <p:nvPr/>
        </p:nvSpPr>
        <p:spPr>
          <a:xfrm>
            <a:off x="3016080" y="4584600"/>
            <a:ext cx="4761000" cy="105408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B Nazanin"/>
              </a:rPr>
              <a:t>قبل از شروع دوره مالی اطلاعات مربوط به مواد و دستمزد و سربار پیش بینی شده و در طی دوره ملاک عمل قرار می گیرند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Tw Cen MT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7" name="AUD-20200409-WA0009.m4a" descr=""/>
          <p:cNvPicPr/>
          <p:nvPr/>
        </p:nvPicPr>
        <p:blipFill>
          <a:blip r:embed="rId2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2957" fill="hold"/>
                                        <p:tgtEl>
                                          <p:spTgt spid="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247680"/>
            <a:ext cx="1036332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مراحل بهایابی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914040" y="1123560"/>
            <a:ext cx="1036332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هر سیستم بهایابی برای محاسبه بها بایستی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 مرحله اساسی را پشت سر گذاشت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لف : انباشت بها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 : تخصیص بها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مرحله انباشت بها اطلاعات مربوط به بها از نظر ماهیت آنها در جایی به نام انباره های بها یا مخازن بها جمع می شوند به عنوان مثال انباره حقوق و دستمزد یا انباره مواد .....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مرحله خصیص بایستی اطلاعات جمع آوری شده در مرحله قبل بر اساس یک مبنای مناسب به موضوع بهایابی ، اختصاص داده شو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نواع تخصیص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به روش رهگیر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به روش تسه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0" name="AUD-20200409-WA0006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129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040" y="91800"/>
            <a:ext cx="103633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نحوه تخصیص بها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914040" y="960120"/>
            <a:ext cx="103633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نکته : تخصیص بهای عوامل مستقیم از طریق رهگیری و بهای عوامل غیر مستقیم از طریق تسهیم صورت می گیری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رای درک بهتر موضوع شکل زیر را در نظر بگیری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3" name="Round Single Corner Rectangle 5"/>
          <p:cNvSpPr/>
          <p:nvPr/>
        </p:nvSpPr>
        <p:spPr>
          <a:xfrm>
            <a:off x="347760" y="2185920"/>
            <a:ext cx="1288800" cy="1462320"/>
          </a:xfrm>
          <a:prstGeom prst="pie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Tw Cen MT"/>
                <a:cs typeface="B Nazanin"/>
              </a:rPr>
              <a:t>موضوع بهایاب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Tw Cen MT"/>
                <a:cs typeface="B Nazanin"/>
              </a:rPr>
              <a:t>صندلی چوبی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Oval 6"/>
          <p:cNvSpPr/>
          <p:nvPr/>
        </p:nvSpPr>
        <p:spPr>
          <a:xfrm>
            <a:off x="5446800" y="2084400"/>
            <a:ext cx="1755720" cy="8604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های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Oval 7"/>
          <p:cNvSpPr/>
          <p:nvPr/>
        </p:nvSpPr>
        <p:spPr>
          <a:xfrm>
            <a:off x="5410080" y="2951280"/>
            <a:ext cx="1755720" cy="858600"/>
          </a:xfrm>
          <a:prstGeom prst="ellipse">
            <a:avLst/>
          </a:prstGeom>
          <a:solidFill>
            <a:srgbClr val="de85e1"/>
          </a:solidFill>
          <a:ln w="15840">
            <a:solidFill>
              <a:srgbClr val="a360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های 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796" name="Straight Arrow Connector 9"/>
          <p:cNvCxnSpPr>
            <a:stCxn id="794" idx="2"/>
          </p:cNvCxnSpPr>
          <p:nvPr/>
        </p:nvCxnSpPr>
        <p:spPr>
          <a:xfrm flipH="1">
            <a:off x="1636200" y="2514240"/>
            <a:ext cx="3810960" cy="1080"/>
          </a:xfrm>
          <a:prstGeom prst="straightConnector1">
            <a:avLst/>
          </a:prstGeom>
          <a:ln w="936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797" name="TextBox 10" descr=""/>
          <p:cNvPicPr/>
          <p:nvPr/>
        </p:nvPicPr>
        <p:blipFill>
          <a:blip r:embed="rId1"/>
          <a:stretch/>
        </p:blipFill>
        <p:spPr>
          <a:xfrm>
            <a:off x="2955960" y="2084400"/>
            <a:ext cx="2768400" cy="372960"/>
          </a:xfrm>
          <a:prstGeom prst="rect">
            <a:avLst/>
          </a:prstGeom>
          <a:ln w="0">
            <a:noFill/>
          </a:ln>
        </p:spPr>
      </p:pic>
      <p:cxnSp>
        <p:nvCxnSpPr>
          <p:cNvPr id="798" name="Straight Arrow Connector 12"/>
          <p:cNvCxnSpPr/>
          <p:nvPr/>
        </p:nvCxnSpPr>
        <p:spPr>
          <a:xfrm flipH="1">
            <a:off x="1636200" y="3435120"/>
            <a:ext cx="3810960" cy="1080"/>
          </a:xfrm>
          <a:prstGeom prst="straightConnector1">
            <a:avLst/>
          </a:prstGeom>
          <a:ln w="936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799" name="TextBox 13" descr=""/>
          <p:cNvPicPr/>
          <p:nvPr/>
        </p:nvPicPr>
        <p:blipFill>
          <a:blip r:embed="rId2"/>
          <a:stretch/>
        </p:blipFill>
        <p:spPr>
          <a:xfrm>
            <a:off x="2955960" y="3035160"/>
            <a:ext cx="2768400" cy="36684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14"/>
          <p:cNvSpPr/>
          <p:nvPr/>
        </p:nvSpPr>
        <p:spPr>
          <a:xfrm>
            <a:off x="8056440" y="2322360"/>
            <a:ext cx="1673280" cy="40644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چوب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Rectangle 15"/>
          <p:cNvSpPr/>
          <p:nvPr/>
        </p:nvSpPr>
        <p:spPr>
          <a:xfrm>
            <a:off x="8056440" y="3116160"/>
            <a:ext cx="1673280" cy="40644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B Nazanin"/>
              </a:rPr>
              <a:t>بر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02" name="Straight Arrow Connector 17"/>
          <p:cNvCxnSpPr>
            <a:stCxn id="800" idx="1"/>
            <a:endCxn id="794" idx="6"/>
          </p:cNvCxnSpPr>
          <p:nvPr/>
        </p:nvCxnSpPr>
        <p:spPr>
          <a:xfrm flipH="1" flipV="1">
            <a:off x="7202160" y="2513880"/>
            <a:ext cx="854640" cy="1188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cxnSp>
        <p:nvCxnSpPr>
          <p:cNvPr id="803" name="Straight Arrow Connector 19"/>
          <p:cNvCxnSpPr/>
          <p:nvPr/>
        </p:nvCxnSpPr>
        <p:spPr>
          <a:xfrm flipH="1" flipV="1">
            <a:off x="7184520" y="3318840"/>
            <a:ext cx="853200" cy="1188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pic>
        <p:nvPicPr>
          <p:cNvPr id="804" name="نحوه تخصیص.3gp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9480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040" y="118800"/>
            <a:ext cx="1036332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عامل بها و مدیریت بها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914040" y="914040"/>
            <a:ext cx="10363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نظور از عامل بها که محرک بها نیز نامیده می شود عاملی است که بر بهای کل تاثیر می گذارد . یعنی تغییر در میزان آن باعث تغییر در جمع مبلغ بهای مربوز به موضوع بهایابی مورد نظر می شو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عامل بها می تواند یک پارامتر مالی مانند بهای دستمزد مستقیم و یا یک پارامتر غیر مالی مانندتعداد محصولات تولید شده باش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دیریت بها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شرکتها برای کاهش قیمت فروش ناگزیر هستند که بهای تمام شده خود را کنترل کنند . یعنی تنها به فعالیتهایی بپردازند که باعث ایجاد ارزش در دید مشتری می شوند و این فعالیتها را به گونه ای کارا و تپر بخش انجام دهند . و یا به عبارتی مدیریت بها عبارت است از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جموعه اقدامات مدیریت که ضمن انجام تاشهای مستمر برای کنرل و کاهش بهای تمام شده محصول به منظور جلب رضایت مشتریان به عمل می آی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7" name="AUD-20200409-WA0013.m4a" descr=""/>
          <p:cNvPicPr/>
          <p:nvPr/>
        </p:nvPicPr>
        <p:blipFill>
          <a:blip r:embed="rId1"/>
          <a:stretch/>
        </p:blipFill>
        <p:spPr>
          <a:xfrm>
            <a:off x="585144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2748" fill="hold"/>
                                        <p:tgtEl>
                                          <p:spTgt spid="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040" y="99720"/>
            <a:ext cx="1036332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بهای تولید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914040" y="1033560"/>
            <a:ext cx="103633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در حسابداری بهای تمام شده برای محاسبه بهای تولید از اصطلاحات خاصی استفاده می شود که این اصطلاحات عبارتند از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ea typeface="B Nazanin"/>
              </a:rPr>
              <a:t>1</a:t>
            </a:r>
            <a:r>
              <a:rPr b="1" lang="fa-IR" sz="1800" spc="-1" strike="noStrike">
                <a:solidFill>
                  <a:srgbClr val="ff0000"/>
                </a:solidFill>
                <a:latin typeface="Tw Cen MT"/>
                <a:ea typeface="B Nazanin"/>
              </a:rPr>
              <a:t>- مواد مستقیم : 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ه مواد اولیه ای گفته می شود که در تولید محصول نقش مستقیم داشته و به عنوان بخشی از کالای ساخته شده محسوب می گردد و می توان بهای آن را به آسانی و به طور مستقیم به کالای ساخته شده اختصاص داد. مانند بهای چوب در صندلی چوب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مواد مستقیم دارای سه ویژگی زیر می باشن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الف : میزان مصرف آنها با میزان تولید رابطه مستقیم دار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ب : در مقایسه با ارزش کا کالای ساخته شده ارزش اقتصادی قابل ملاحظه ای دار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cs typeface="B Nazanin"/>
              </a:rPr>
              <a:t>ج : بخشی از شکل فیزیکی کالای ساخته شده را تشکیل می دهد و معمولا در محصول ساخه شده قابل رویت و قابل لمس می باشد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در ساخت محصولات ممکن است مواد دیگری نیز مصرف شوند که جزئی و کم اهمیت باشند و به آسانی نتوان بهای آن را به کالاسی ساخته شده اختصاص داد به اینگونه مواد اصطلاحا مواد غیر مستقیم گفته می شود اینگونه مواد معمولا ارزش اقتصادی بالایی ندارند و به عنوان بخشی از سربار محسوب می شوند . مانند چسب در تولید صندلی چوب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10" name="اسلاید17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1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1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63511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14040" y="-12348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914400" y="361800"/>
            <a:ext cx="102679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دستمزد مستقیم : عبارت است از دستمزد کارگرانی که در تولید محصول نقش مستقیم داشته و در اثر کا آنها مواد اولیه تغییر شکل یافته و تبدیل به کالای ساخته شده می شود . و می توان بهای آن را به سهولت و به طور مستقیم به کالای ساخته شده اختصاص داد مانند دستمزد کارگران بخش مونتاژ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دستمزد آن دسته از کارگرانی که مستقیماً در تولید نقش ندارند دستمزد غیر مستقیم نامیده شده و جزء سربار محسوب می شوند مانند دستمزد نگهبان شرکت 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3</a:t>
            </a:r>
            <a:r>
              <a:rPr b="1" lang="fa-IR" sz="1800" spc="-1" strike="noStrike">
                <a:solidFill>
                  <a:srgbClr val="002060"/>
                </a:solidFill>
                <a:latin typeface="Tw Cen MT"/>
                <a:ea typeface="B Nazanin"/>
              </a:rPr>
              <a:t>- سربار ساخت :آن بخش از بهای ساخت که نمی توان آن را به آسانی به کالای ساخته شده اختصاص داد اصطلاحا سربار ساخت محسوب می شوند به جز مواد و دستمزد غیر مستقیم برخی از بها ها مانند تعمیر ماشین آلات ، استهلاک ، آب و برق مصرفی نیز بخشی از سربار محسوب می شوند . نمودار زیر عوامل تشکیل دهنده بهای محصول را نشان می دهد 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1790640" y="3695760"/>
            <a:ext cx="78120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دستمز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3743280" y="4095720"/>
            <a:ext cx="1790640" cy="50472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سایر هزینه های ساخ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6353280" y="3695760"/>
            <a:ext cx="78084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موا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1276200" y="5400720"/>
            <a:ext cx="1257480" cy="59040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دستمزد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848040" y="5467320"/>
            <a:ext cx="1514520" cy="39996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سربار ساخ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Rectangle 8"/>
          <p:cNvSpPr/>
          <p:nvPr/>
        </p:nvSpPr>
        <p:spPr>
          <a:xfrm>
            <a:off x="6353280" y="5467320"/>
            <a:ext cx="1209600" cy="600120"/>
          </a:xfrm>
          <a:prstGeom prst="rect">
            <a:avLst/>
          </a:prstGeom>
          <a:solidFill>
            <a:srgbClr val="e34b7a"/>
          </a:solidFill>
          <a:ln w="15840">
            <a:solidFill>
              <a:srgbClr val="a7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w Cen MT"/>
                <a:cs typeface="Arial"/>
              </a:rPr>
              <a:t>مواد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19" name="Straight Arrow Connector 10"/>
          <p:cNvCxnSpPr>
            <a:stCxn id="813" idx="3"/>
          </p:cNvCxnSpPr>
          <p:nvPr/>
        </p:nvCxnSpPr>
        <p:spPr>
          <a:xfrm>
            <a:off x="2571840" y="3895560"/>
            <a:ext cx="1257840" cy="157248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cxnSp>
        <p:nvCxnSpPr>
          <p:cNvPr id="820" name="Straight Arrow Connector 16"/>
          <p:cNvCxnSpPr/>
          <p:nvPr/>
        </p:nvCxnSpPr>
        <p:spPr>
          <a:xfrm flipH="1">
            <a:off x="5126760" y="4127040"/>
            <a:ext cx="1226520" cy="138996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cxnSp>
        <p:nvCxnSpPr>
          <p:cNvPr id="821" name="Straight Arrow Connector 18"/>
          <p:cNvCxnSpPr>
            <a:endCxn id="817" idx="0"/>
          </p:cNvCxnSpPr>
          <p:nvPr/>
        </p:nvCxnSpPr>
        <p:spPr>
          <a:xfrm>
            <a:off x="4605120" y="4700520"/>
            <a:ext cx="1080" cy="76752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sp>
        <p:nvSpPr>
          <p:cNvPr id="822" name="TextBox 25"/>
          <p:cNvSpPr/>
          <p:nvPr/>
        </p:nvSpPr>
        <p:spPr>
          <a:xfrm rot="3142800">
            <a:off x="2476800" y="4118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23" name="Straight Arrow Connector 27"/>
          <p:cNvCxnSpPr/>
          <p:nvPr/>
        </p:nvCxnSpPr>
        <p:spPr>
          <a:xfrm flipH="1">
            <a:off x="2074320" y="4171680"/>
            <a:ext cx="43560" cy="122940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sp>
        <p:nvSpPr>
          <p:cNvPr id="824" name="TextBox 32"/>
          <p:cNvSpPr/>
          <p:nvPr/>
        </p:nvSpPr>
        <p:spPr>
          <a:xfrm rot="16200000">
            <a:off x="1575000" y="4460040"/>
            <a:ext cx="7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TextBox 33"/>
          <p:cNvSpPr/>
          <p:nvPr/>
        </p:nvSpPr>
        <p:spPr>
          <a:xfrm rot="18877800">
            <a:off x="5598000" y="44154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غیر 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6" name="TextBox 34"/>
          <p:cNvSpPr/>
          <p:nvPr/>
        </p:nvSpPr>
        <p:spPr>
          <a:xfrm rot="16200000">
            <a:off x="6895080" y="4551840"/>
            <a:ext cx="7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مستقیم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827" name="Straight Arrow Connector 35"/>
          <p:cNvCxnSpPr>
            <a:endCxn id="818" idx="0"/>
          </p:cNvCxnSpPr>
          <p:nvPr/>
        </p:nvCxnSpPr>
        <p:spPr>
          <a:xfrm>
            <a:off x="6924240" y="4172040"/>
            <a:ext cx="34200" cy="1296000"/>
          </a:xfrm>
          <a:prstGeom prst="straightConnector1">
            <a:avLst/>
          </a:prstGeom>
          <a:ln w="19080">
            <a:solidFill>
              <a:srgbClr val="338baa"/>
            </a:solidFill>
            <a:miter/>
            <a:tailEnd len="med" type="triangle" w="med"/>
          </a:ln>
        </p:spPr>
      </p:cxnSp>
      <p:pic>
        <p:nvPicPr>
          <p:cNvPr id="828" name="18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10363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w Cen MT"/>
                <a:cs typeface="Times New Roman"/>
              </a:rPr>
              <a:t>بهای اولیه و بهای تبدیل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914040" y="1066320"/>
            <a:ext cx="103633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گاهی اوقات در حسابداری بهای تمام شده عناصر اصلی بها با هم ترکیب می شوند و در عبارت زیر را بوجود می آورند 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بهای اولیه و بهای تبدیل: منظور از بهای اولیه اقلامی از بهای تمام شده می باشند که مستقیما در امر ولید دخالت دارند و منظور از بهایتبدیل اقلامی ا بهای تمام شده می باشند که در تبدیل مواد اولیه به محصول ایفای نقش می نمایند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نکته : بهای اولیه و بهای تبدیل در یک جزء مشترک هستند و آن هم دستمزد مستقیم است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مواد مستقیم+ دستمزد مستقیم = بهای اولیه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ff0000"/>
                </a:solidFill>
                <a:latin typeface="Tw Cen MT"/>
                <a:cs typeface="B Nazanin"/>
              </a:rPr>
              <a:t>سربار ساخت+ دستمزد مستقیم = بهای تبدیل</a:t>
            </a:r>
            <a:r>
              <a:rPr b="1" lang="fa-IR" sz="1700" spc="-1" strike="noStrike">
                <a:solidFill>
                  <a:srgbClr val="ff000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مثال : فرض کنید در شرکت جمشید بهای اولیه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720،00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ريال و بهای تبدیل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600،00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ريال است . در صورتی که سربار براساس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50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% دستمزد مستقیم جذب تولید شود بهای مواد مستقیم و دستمزد مسقیم و سربار ساخت را محاسبه نمایید 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حل :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Z 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سربار ساخت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Y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دستمزد مستقیم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X=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cs typeface="B Nazanin"/>
              </a:rPr>
              <a:t>مواد مستقیم</a:t>
            </a:r>
            <a:r>
              <a:rPr b="1" lang="fa-IR" sz="1700" spc="-1" strike="noStrike">
                <a:solidFill>
                  <a:srgbClr val="002060"/>
                </a:solidFill>
                <a:latin typeface="Tw Cen MT"/>
                <a:ea typeface="B Nazani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1" name="19.3gp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2629" fill="hold"/>
                                        <p:tgtEl>
                                          <p:spTgt spid="8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040" y="-147600"/>
            <a:ext cx="103633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3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11839680" cy="6858000"/>
          </a:xfrm>
          <a:prstGeom prst="rect">
            <a:avLst/>
          </a:prstGeom>
          <a:ln w="0">
            <a:noFill/>
          </a:ln>
        </p:spPr>
      </p:pic>
      <p:pic>
        <p:nvPicPr>
          <p:cNvPr id="834" name="20.3gp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34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9192" fill="hold"/>
                                        <p:tgtEl>
                                          <p:spTgt spid="8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9T17:50:58Z</dcterms:created>
  <dc:creator>Windows User</dc:creator>
  <dc:description/>
  <dc:language>en-US</dc:language>
  <cp:lastModifiedBy>Windows User</cp:lastModifiedBy>
  <dcterms:modified xsi:type="dcterms:W3CDTF">2020-04-09T17:56:28Z</dcterms:modified>
  <cp:revision>2</cp:revision>
  <dc:subject/>
  <dc:title>PowerPoint Presentation</dc:title>
</cp:coreProperties>
</file>