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2DAA7-4EEF-4274-B488-F653093C3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74BA5-4CE3-4733-A9DC-804C15C3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AECC25-E9B5-4520-A998-C4E1A1BADE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5B4097-8410-4ED2-BB7C-03BF719B90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D6FC07-D024-4BC5-B248-562901B86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7500ED-3CA5-44F3-93C9-0CA9DAB09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DF337-C8D3-464B-90A5-4A8C555DF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B71B9-6633-44BB-93DC-E0D75FBEF7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E6661-5E5E-4024-BC17-4049AF102B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7B6CE1-4E5B-42C0-8DCB-DE2E8B1168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42F1B2-C55A-4E51-9DD2-DDC4FC3742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A5B0F9-C656-4D38-ADE9-0F8250ED9E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1AAD9-216F-44CC-914E-B7B0DFA18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27D00C-2B42-4772-8187-AFB4D37B44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D641BD-6B89-4753-BD2C-AD99B69D55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5FC324-8BAB-4AE5-B678-7BF18BDC13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77A631-B42A-4753-8DDE-5701663C15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32B46F-C16B-4DED-9A86-998CC5DB42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BF9823-DC19-4279-BB22-BB4054EBEF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5C0DC4-9306-46A3-91C9-13CFDFD0BA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E4144C-68FB-4A81-BEA7-377F4F8979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8730B5-EBBC-4930-9C8F-09B65EFAC2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9F612C-8B58-4C1C-8CCD-162392B2D8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B3273-E646-4504-B318-F5C7FCC40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00C3A96-4126-40DA-8E54-75A0120AA7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72D8B3-B21F-4ED0-9793-44BBCC8C30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933BB7-DC26-486B-A886-C8ADF9AD29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A12946-90BD-493B-9FEE-D45BFCE0A1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19303D-42E0-491A-81A8-8E90855CFE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0D4E19-4187-4382-9CD9-F4163BE63C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7B415E-44C9-4E03-8578-DB5DAA019F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B4CDB4-BC85-4905-9A6C-FF0A064BBE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E68853-E4E2-4F9E-B176-6342FCD4F6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6B94D0-2A96-496B-B86C-A1922D8AEC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0198E-9BDC-4212-97EC-F45C89C15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3D1AF6-0A44-4A4F-ADDE-EEA7A7E490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B6BA4B-3305-4663-A1CD-45390C55FC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6A9985-A263-493A-B878-258B42EC7A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F45587-B6F9-4F56-9954-04CCC3B393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A5B638-DA29-4C85-9D6A-0667AFB8F9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8731DB-B3FA-4D57-B676-0C7BAF13A8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8B3B93-3511-497D-A4BB-1B9E45A7CC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C78F99-4A1A-47FC-B003-2EBD6A748C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09557A-F515-4F8D-BF90-840944F45A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A8D330-0557-4B61-AB4C-89C0A25791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28D3D-8993-4310-8178-91EFE9408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8DBCAF-575A-4A3D-938A-BDE41B6BE5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70E2F6-9617-4160-8A9F-F8022A823A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8AB381-85C2-4E04-BB4E-FDFE6C4DD8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AC6CCF-CEF2-4896-BD4F-C7FBC0CFC0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C1CE95-AA44-421A-BE7C-2DCA13BF96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80A76C0-246E-48B0-A02F-E0D95DA47A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BF9EC2-FACF-4F09-9E40-9DEF49451E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AF26055-42DE-4F0F-B1B6-D91D6F8FAD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46A3C0-8156-436A-9438-8EFD206A47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36EBB5-EAC7-461F-A999-CB01CC8840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4F4AE-2F7B-4219-8841-696CFC2CF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12A340-C9AA-4148-8085-6B9BA6662D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2C56D8-15D1-41E6-996E-93920682E6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C87AF7-5468-48B9-AE5C-751EB21B37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A928A6-9548-46B6-82B4-5C9E689B62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52DCFD-D536-45E8-BF4A-B046FDFB6A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389BF1-287D-41AF-9F31-4016F3240D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C4FAFD-C495-4C17-9BBE-EEA07914185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FA97E3A-1C79-4767-BE05-043A8AEB0F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96405B-AA80-4AED-8259-BEC0448CBC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CB41B0-8B99-45D4-B082-68E089CAC5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6802E-C85F-4647-9042-F6ACDF841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AF1DDF-979D-40F3-ABE8-0F4D7BECFF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ECC224-F4E2-4CE8-A878-2F595C4EA5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4848F2-BF56-4E87-B894-68677242D5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014C2E-7D35-4138-BD28-A6667EC2AF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BC7D24-C5C3-4B83-B9AD-7BDBCCEDBA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14C74D-181A-44F9-9DB9-BA33A673E2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5D3AAE-C443-41D1-A48B-A470A163B1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DCD462-1604-4166-AA49-2CD206D790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98BF4D-4431-4F9A-BEEB-F71124196D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ADC908E-BC74-4BA6-B430-648BD4BC8D3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74C31-ACBA-4298-998B-5ADF8AA50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22F753A-E39C-48EE-8416-117EAFEF50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28FFD7C-A8BD-40C1-853F-1086FCC10B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668360-9010-4EB7-905A-3416E6C2BF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0C78B4-44E4-4F35-946A-DFDEF1B0E2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BABCF6-88D0-42D9-8D00-5057F396919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64EFF64-F168-4DE4-BFB4-14687DAAA9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CE723B-D242-4C9B-B973-B7A2875B75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28A298-3F36-46F4-AE00-90A074C5CF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F2E495-C40E-4483-A04D-5666B63B6C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0998A6B-02DE-4114-8246-76A12351209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ACDDF-E8DC-4D16-A3FD-C7D5A6568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3C3F3D-8257-4862-9F05-C68C035EF1E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40328DB-2DB1-4AC5-8050-FBEF65F1383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8BC099-98D2-46CB-BDA5-3B37D3BF961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1CEA298-F166-4FFB-9D9E-2444072FA1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F49862-4ADC-4AD5-85E6-8D98AE30B53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CF03586-90EA-4E7A-88E7-04B41E124F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0DE7A8-74A5-4875-BC4E-03DFB915B44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D50BF8-77BA-4F6D-B17F-BE26DEBF0E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A5F1A8-56FE-4CF3-8A9C-A0DCDBE793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D66E2C-AC77-40C6-9E59-8895986E23B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EAED3-13E0-44DE-9178-A84336879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32163B-600A-4F58-B304-D6A265DD8D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E7D6164-8E73-4AEC-835A-9E015692A90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7AD8601-5B86-4D76-9D4E-6B39DD9C429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78CACEE-596A-45C5-9FAD-F0EFEBD57D1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7F4919B-E32C-4E54-B993-7A91C6E39A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395DE0-5DA5-4A04-9D9D-918FC5161C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AF1107-AA72-422E-AD44-18965F1EF31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D304D4A-C1CB-4023-9C55-1656801F61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8BC8F7-B047-4925-924E-3C3F4E6A664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45E052-0CC0-4E3D-B0AD-4BB0472423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2583-A4BB-44DF-82DF-674D8322E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FA7B6-2EA2-48F2-89FC-452D5670C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A20591-2ED7-4F9B-ADC5-4C367318FC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47129B-4D5E-4FC8-B11E-B4E49DD846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70966B8-81DB-44F6-A9D0-85984A7C1F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AC7704F-32AA-4531-B3DD-8ED3238E3BB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95E5806-17CB-4A8F-B924-BD1D5365A66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3945714-36C7-4BFB-992F-C5EFDB0F398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C6EBF5B-E354-4EFA-ABA0-801478C353C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046607-1B06-497C-A98D-67364D2B81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BA735BA-BC96-4E90-88D0-5A95FB832D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A94454C-DB36-4BAE-BE67-CC74581B82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7A5D0-3DA4-43CF-915B-C273CA843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0FB3FCE-887B-4D95-A32D-382AFB75DAF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A85A0C-D4D7-4F36-86E3-7A12BB20B5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9787E37-E153-4D71-921D-9F42F6A3B0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F9930E6-C9AB-44E6-8F2C-62907740AC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4AD5F2-06F4-406F-AE9C-36FD1E5B787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E66AA98-29DC-4545-9944-5A6587810CE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22281DB-8746-4B32-9ED7-46E5FB13870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06157-0F87-43B2-B8FB-B2FB072C7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1091F-F0FD-46D4-AE96-67B53BAD2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CC861-C124-4760-820D-049365469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6903A2-17A3-4FB7-8339-CA02727A63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46831-EA77-43F5-9E03-CE95CEB06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661F6-937E-4DA3-94B1-9A891ADE6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3BE01-5056-4BCB-84E5-5FE4D67A9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43847-AD98-413B-BDD1-0738059FA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0D9DF-AFF2-4FAE-8A37-C7BD46627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DEFE6-81A4-4C5E-BEF4-62205FE66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F7CC4-5C0F-4494-ABB6-DAD1C7DC6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8E47E-ED29-473F-BE77-178DE34D8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A4A06-48C8-49D6-9660-7B0DFE7C8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05086-24E6-4A97-8DBA-986287EBDB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153F7F-2F86-4CE3-9945-72BA26ABA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1C3310-9C02-43C1-A199-17216CECE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7271F-5978-46E6-8135-9A0273A50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41EF2-EEBE-4D34-AAC8-D5DCD88E4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134B6-96F5-46C5-B7A0-99997AB7C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FF5AC-84B1-49F3-B255-1DED1EB5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10949-3E22-4CC9-A165-457032F0F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54349-D1D6-4FC7-98D3-C08FFFDFD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3863F-1E38-46A7-9217-8B57DED0BB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C7D96-9B8D-4258-9201-13E73089A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F1BF3-AC9C-42AD-BE62-522A42673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AF23A-3029-4BA3-986F-C0C8E3087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A992C-BA11-4FA3-A7AE-4C37C9DF5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E79C14-D121-4F5D-8876-59B97BE22C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5179E2-7EEA-4796-BA70-79D3C2091B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5DBE80-C83F-42B6-8753-E4C8B0E8B5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3CBBB-CF2C-49E9-AAB4-A166501A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1B0DB-B1F3-4E7C-B0EA-BFF3C41490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C7C65-DA76-40B8-9F7A-B0402A53F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0C969-2A42-43A6-96C0-6F0CBEE68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C69DE-4AD5-48A8-B901-F4D88ADFC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6902F-942A-42E5-B7E2-C46A6CF88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5E068-DB8B-4319-A422-F54348A22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98CF31-8B48-457B-B206-41F465F21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CEF3C-5CCA-4EC5-8D0A-3634C2E92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D935EE-F06B-45CB-90FE-D043E4CE1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84B321-FCD9-4868-8C2B-17EBEA835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46F1B-251A-4EFB-91D4-6C122A143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87FE8D-6781-4C42-BD66-02886FFE67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E3741E-3174-4404-BABF-C2E48336E8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4C82A8-C73A-40C5-B9A6-8AD338D3F8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9C188-012A-4A71-B15C-3019E9EA6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958E44-29DE-429A-892D-D83317A06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598B2-C494-4188-B5DF-864F718B80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0B041A-840A-4DB2-A6D5-65FD776359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F96A0-748E-4534-BA85-72A0CBE5B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61AE6F-F749-4AD0-BEE3-DFE190FA1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76CC4-A4A1-4576-B9BD-B5E7D62A7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F5A7-0F94-4648-B253-EFD4CEA7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722DC-13EF-46D2-BD08-A55BA92C5A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4FF56A-DAAE-4152-9610-28354E79E3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40D6ED-6EB3-4660-926F-6CEECE12E3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178DD2-EEDA-4AB9-8C84-CA619BAAE4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52AEA0-50E9-44DA-A3B1-459AC07E2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BEA14-9D34-436E-87DF-D64860264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2A2D1-46E1-4212-8DC7-525EA33E3F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8D9F8-4A01-4378-B4B5-5924BA05C5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3FCC20-8C91-433E-AAFF-83416AB66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54579-A4DB-4C9D-9E29-58F8164EA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EF3C-FE40-44B7-8D4D-FF8978E7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1D337-2771-486E-9AE6-FE1EDC274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8BA2B-1012-403D-A152-A8C1756FF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BF64B-AF68-4432-B71D-AB8934FC5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FBF283-9FDB-4D44-A1A6-9EAF13714C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C06BC7-9611-46D0-B029-C9C5FF5D53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0AD7DC-02A6-4193-9416-AAA85C14D1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FFDC65-DE59-43A5-9792-229E25FD7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7CF5C-6ADB-44C2-B9B7-AC39ADA3EB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8B70C-D65A-490A-B4D1-10FEF29566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C26A97-1AFB-42FD-AE3C-C474F3261E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686C-D5C6-47FA-A764-96F2B7F8E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914040" y="619200"/>
            <a:ext cx="1036332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5877C7-1920-4B60-9421-15C692F81D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622440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90470-C691-43A7-B966-084A7B4F1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914040" y="2367000"/>
            <a:ext cx="505728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37106-B5B9-4EE6-9A79-B9714E0CB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03B17-17B6-4AA3-B311-C163C9117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914040" y="236700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914040" y="4155840"/>
            <a:ext cx="1036332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204005-1432-4CE1-9F52-F2E90CEA1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91404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6224400" y="236700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91404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6224400" y="4155840"/>
            <a:ext cx="505728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7B9D3D-98C0-4D9A-8B8C-A0077FA431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91404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441828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7922160" y="236700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91404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441828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7922160" y="4155840"/>
            <a:ext cx="333684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84BB54-C974-4725-AB71-A9300819BC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4AF524-F553-4044-9708-4911068A3C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914040" y="2367000"/>
            <a:ext cx="1036332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5521C9-B774-4AFC-9B3E-902E0EF86D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914040" y="2367000"/>
            <a:ext cx="1036332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356E16-F4D4-48F9-AEA2-6D9A18A995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12192120" cy="6858000"/>
          </a:xfrm>
          <a:prstGeom prst="rect">
            <a:avLst/>
          </a:prstGeom>
          <a:ln w="0">
            <a:noFill/>
          </a:ln>
        </p:spPr>
      </p:pic>
      <p:sp>
        <p:nvSpPr>
          <p:cNvPr id="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AAC0A-0B40-4029-A5C5-8A840E9E19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87" name="Picture 7" descr="Droplets-HD-Content-R1d.png"/>
          <p:cNvPicPr/>
          <p:nvPr/>
        </p:nvPicPr>
        <p:blipFill>
          <a:blip r:embed="rId3"/>
          <a:stretch/>
        </p:blipFill>
        <p:spPr>
          <a:xfrm>
            <a:off x="0" y="0"/>
            <a:ext cx="12192120" cy="6858000"/>
          </a:xfrm>
          <a:prstGeom prst="rect">
            <a:avLst/>
          </a:prstGeom>
          <a:ln w="0">
            <a:noFill/>
          </a:ln>
        </p:spPr>
      </p:pic>
      <p:sp>
        <p:nvSpPr>
          <p:cNvPr id="38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27CD2-31C1-4F0D-ABE5-9438449B0B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0" name="Picture 7" descr="Droplets-HD-Content-R1d.png"/>
          <p:cNvPicPr/>
          <p:nvPr/>
        </p:nvPicPr>
        <p:blipFill>
          <a:blip r:embed="rId3"/>
          <a:stretch/>
        </p:blipFill>
        <p:spPr>
          <a:xfrm>
            <a:off x="0" y="0"/>
            <a:ext cx="12192120" cy="6858000"/>
          </a:xfrm>
          <a:prstGeom prst="rect">
            <a:avLst/>
          </a:prstGeom>
          <a:ln w="0">
            <a:noFill/>
          </a:ln>
        </p:spPr>
      </p:pic>
      <p:sp>
        <p:nvSpPr>
          <p:cNvPr id="43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E5EF2-27B4-4489-B502-D5172376F7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73" name="Picture 7" descr="Droplets-HD-Content-R1d.png"/>
          <p:cNvPicPr/>
          <p:nvPr/>
        </p:nvPicPr>
        <p:blipFill>
          <a:blip r:embed="rId3"/>
          <a:stretch/>
        </p:blipFill>
        <p:spPr>
          <a:xfrm>
            <a:off x="0" y="0"/>
            <a:ext cx="12192120" cy="6858000"/>
          </a:xfrm>
          <a:prstGeom prst="rect">
            <a:avLst/>
          </a:prstGeom>
          <a:ln w="0">
            <a:noFill/>
          </a:ln>
        </p:spPr>
      </p:pic>
      <p:sp>
        <p:nvSpPr>
          <p:cNvPr id="47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7F83C-066A-4148-9803-6101AC0D34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16" name="Picture 7" descr="Droplets-HD-Content-R1d.png"/>
          <p:cNvPicPr/>
          <p:nvPr/>
        </p:nvPicPr>
        <p:blipFill>
          <a:blip r:embed="rId3"/>
          <a:stretch/>
        </p:blipFill>
        <p:spPr>
          <a:xfrm>
            <a:off x="0" y="0"/>
            <a:ext cx="12192120" cy="6858000"/>
          </a:xfrm>
          <a:prstGeom prst="rect">
            <a:avLst/>
          </a:prstGeom>
          <a:ln w="0">
            <a:noFill/>
          </a:ln>
        </p:spPr>
      </p:pic>
      <p:sp>
        <p:nvSpPr>
          <p:cNvPr id="517" name="TextBox 8"/>
          <p:cNvSpPr/>
          <p:nvPr/>
        </p:nvSpPr>
        <p:spPr>
          <a:xfrm>
            <a:off x="1001880" y="754200"/>
            <a:ext cx="60948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9"/>
          <p:cNvSpPr/>
          <p:nvPr/>
        </p:nvSpPr>
        <p:spPr>
          <a:xfrm>
            <a:off x="10557000" y="299412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D7AD1-9E9F-452D-8D9D-1D5E27A055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561" name="Picture 7" descr="Droplets-HD-Content-R1d.png"/>
          <p:cNvPicPr/>
          <p:nvPr/>
        </p:nvPicPr>
        <p:blipFill>
          <a:blip r:embed="rId3"/>
          <a:stretch/>
        </p:blipFill>
        <p:spPr>
          <a:xfrm>
            <a:off x="0" y="0"/>
            <a:ext cx="12192120" cy="6858000"/>
          </a:xfrm>
          <a:prstGeom prst="rect">
            <a:avLst/>
          </a:prstGeom>
          <a:ln w="0">
            <a:noFill/>
          </a:ln>
        </p:spPr>
      </p:pic>
      <p:sp>
        <p:nvSpPr>
          <p:cNvPr id="56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5A9AF-9DE5-4B2A-B37B-24CA80CF8A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04" name="Picture 7" descr="Droplets-HD-Content-R1d.png"/>
          <p:cNvPicPr/>
          <p:nvPr/>
        </p:nvPicPr>
        <p:blipFill>
          <a:blip r:embed="rId3"/>
          <a:stretch/>
        </p:blipFill>
        <p:spPr>
          <a:xfrm>
            <a:off x="0" y="0"/>
            <a:ext cx="12192120" cy="6858000"/>
          </a:xfrm>
          <a:prstGeom prst="rect">
            <a:avLst/>
          </a:prstGeom>
          <a:ln w="0">
            <a:noFill/>
          </a:ln>
        </p:spPr>
      </p:pic>
      <p:sp>
        <p:nvSpPr>
          <p:cNvPr id="60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2A82B-C9F3-4EA2-B282-6D452CB60A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47" name="Picture 7" descr="Droplets-HD-Content-R1d.png"/>
          <p:cNvPicPr/>
          <p:nvPr/>
        </p:nvPicPr>
        <p:blipFill>
          <a:blip r:embed="rId3"/>
          <a:stretch/>
        </p:blipFill>
        <p:spPr>
          <a:xfrm>
            <a:off x="0" y="0"/>
            <a:ext cx="12192120" cy="6858000"/>
          </a:xfrm>
          <a:prstGeom prst="rect">
            <a:avLst/>
          </a:prstGeom>
          <a:ln w="0">
            <a:noFill/>
          </a:ln>
        </p:spPr>
      </p:pic>
      <p:sp>
        <p:nvSpPr>
          <p:cNvPr id="648"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4A38F-1452-4A67-9986-9C6C009827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690" name="Picture 7" descr="Droplets-HD-Content-R1d.png"/>
          <p:cNvPicPr/>
          <p:nvPr/>
        </p:nvPicPr>
        <p:blipFill>
          <a:blip r:embed="rId3"/>
          <a:stretch/>
        </p:blipFill>
        <p:spPr>
          <a:xfrm>
            <a:off x="0" y="0"/>
            <a:ext cx="12192120" cy="6858000"/>
          </a:xfrm>
          <a:prstGeom prst="rect">
            <a:avLst/>
          </a:prstGeom>
          <a:ln w="0">
            <a:noFill/>
          </a:ln>
        </p:spPr>
      </p:pic>
      <p:sp>
        <p:nvSpPr>
          <p:cNvPr id="691"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A2498-CE34-4DEE-8E66-C25EB74323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733" name="Picture 7" descr="Droplets-HD-Content-R1d.png"/>
          <p:cNvPicPr/>
          <p:nvPr/>
        </p:nvPicPr>
        <p:blipFill>
          <a:blip r:embed="rId3"/>
          <a:stretch/>
        </p:blipFill>
        <p:spPr>
          <a:xfrm>
            <a:off x="0" y="0"/>
            <a:ext cx="12192120" cy="6858000"/>
          </a:xfrm>
          <a:prstGeom prst="rect">
            <a:avLst/>
          </a:prstGeom>
          <a:ln w="0">
            <a:noFill/>
          </a:ln>
        </p:spPr>
      </p:pic>
      <p:sp>
        <p:nvSpPr>
          <p:cNvPr id="73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BBAD9-D4E7-42F5-97E3-C62E2E5D12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43" name="Picture 7" descr="Droplets-HD-Title-R1d.png"/>
          <p:cNvPicPr/>
          <p:nvPr/>
        </p:nvPicPr>
        <p:blipFill>
          <a:blip r:embed="rId3"/>
          <a:stretch/>
        </p:blipFill>
        <p:spPr>
          <a:xfrm>
            <a:off x="0" y="0"/>
            <a:ext cx="12192120" cy="6858000"/>
          </a:xfrm>
          <a:prstGeom prst="rect">
            <a:avLst/>
          </a:prstGeom>
          <a:ln w="0">
            <a:noFill/>
          </a:ln>
        </p:spPr>
      </p:pic>
      <p:sp>
        <p:nvSpPr>
          <p:cNvPr id="44"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8790D-7195-4651-A584-9AAD6A39B7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86" name="Picture 7" descr="Droplets-HD-Content-R1d.png"/>
          <p:cNvPicPr/>
          <p:nvPr/>
        </p:nvPicPr>
        <p:blipFill>
          <a:blip r:embed="rId3"/>
          <a:stretch/>
        </p:blipFill>
        <p:spPr>
          <a:xfrm>
            <a:off x="0" y="0"/>
            <a:ext cx="12192120" cy="6858000"/>
          </a:xfrm>
          <a:prstGeom prst="rect">
            <a:avLst/>
          </a:prstGeom>
          <a:ln w="0">
            <a:noFill/>
          </a:ln>
        </p:spPr>
      </p:pic>
      <p:sp>
        <p:nvSpPr>
          <p:cNvPr id="87"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2C9E1-7B39-4D4D-A53A-888CC81020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29" name="Picture 7" descr="Droplets-HD-Content-R1d.png"/>
          <p:cNvPicPr/>
          <p:nvPr/>
        </p:nvPicPr>
        <p:blipFill>
          <a:blip r:embed="rId3"/>
          <a:stretch/>
        </p:blipFill>
        <p:spPr>
          <a:xfrm>
            <a:off x="0" y="0"/>
            <a:ext cx="12192120" cy="6858000"/>
          </a:xfrm>
          <a:prstGeom prst="rect">
            <a:avLst/>
          </a:prstGeom>
          <a:ln w="0">
            <a:noFill/>
          </a:ln>
        </p:spPr>
      </p:pic>
      <p:sp>
        <p:nvSpPr>
          <p:cNvPr id="130"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37BDA-E590-4FC7-ABC8-183AD4A149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172" name="Picture 7" descr="Droplets-HD-Content-R1d.png"/>
          <p:cNvPicPr/>
          <p:nvPr/>
        </p:nvPicPr>
        <p:blipFill>
          <a:blip r:embed="rId3"/>
          <a:stretch/>
        </p:blipFill>
        <p:spPr>
          <a:xfrm>
            <a:off x="0" y="0"/>
            <a:ext cx="12192120" cy="6858000"/>
          </a:xfrm>
          <a:prstGeom prst="rect">
            <a:avLst/>
          </a:prstGeom>
          <a:ln w="0">
            <a:noFill/>
          </a:ln>
        </p:spPr>
      </p:pic>
      <p:sp>
        <p:nvSpPr>
          <p:cNvPr id="173"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4FA4B-636F-4F84-8039-3BD766A8BA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15" name="Picture 7" descr="Droplets-HD-Content-R1d.png"/>
          <p:cNvPicPr/>
          <p:nvPr/>
        </p:nvPicPr>
        <p:blipFill>
          <a:blip r:embed="rId3"/>
          <a:stretch/>
        </p:blipFill>
        <p:spPr>
          <a:xfrm>
            <a:off x="0" y="0"/>
            <a:ext cx="12192120" cy="6858000"/>
          </a:xfrm>
          <a:prstGeom prst="rect">
            <a:avLst/>
          </a:prstGeom>
          <a:ln w="0">
            <a:noFill/>
          </a:ln>
        </p:spPr>
      </p:pic>
      <p:sp>
        <p:nvSpPr>
          <p:cNvPr id="216"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08B94-0B02-41D4-A0D8-9FE3802DC7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258" name="Picture 7" descr="Droplets-HD-Content-R1d.png"/>
          <p:cNvPicPr/>
          <p:nvPr/>
        </p:nvPicPr>
        <p:blipFill>
          <a:blip r:embed="rId3"/>
          <a:stretch/>
        </p:blipFill>
        <p:spPr>
          <a:xfrm>
            <a:off x="0" y="0"/>
            <a:ext cx="12192120" cy="6858000"/>
          </a:xfrm>
          <a:prstGeom prst="rect">
            <a:avLst/>
          </a:prstGeom>
          <a:ln w="0">
            <a:noFill/>
          </a:ln>
        </p:spPr>
      </p:pic>
      <p:sp>
        <p:nvSpPr>
          <p:cNvPr id="259"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63D53-1620-4068-A611-B7D20C8503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01" name="Picture 7" descr="Droplets-HD-Content-R1d.png"/>
          <p:cNvPicPr/>
          <p:nvPr/>
        </p:nvPicPr>
        <p:blipFill>
          <a:blip r:embed="rId3"/>
          <a:stretch/>
        </p:blipFill>
        <p:spPr>
          <a:xfrm>
            <a:off x="0" y="0"/>
            <a:ext cx="12192120" cy="6858000"/>
          </a:xfrm>
          <a:prstGeom prst="rect">
            <a:avLst/>
          </a:prstGeom>
          <a:ln w="0">
            <a:noFill/>
          </a:ln>
        </p:spPr>
      </p:pic>
      <p:sp>
        <p:nvSpPr>
          <p:cNvPr id="302"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D9256-94CE-46F7-B54A-8C7B02EB1E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12192120" cy="6858000"/>
          </a:xfrm>
          <a:prstGeom prst="rect">
            <a:avLst/>
          </a:prstGeom>
          <a:ln w="0">
            <a:noFill/>
          </a:ln>
        </p:spPr>
      </p:pic>
      <p:pic>
        <p:nvPicPr>
          <p:cNvPr id="344" name="Picture 7" descr="Droplets-HD-Content-R1d.png"/>
          <p:cNvPicPr/>
          <p:nvPr/>
        </p:nvPicPr>
        <p:blipFill>
          <a:blip r:embed="rId3"/>
          <a:stretch/>
        </p:blipFill>
        <p:spPr>
          <a:xfrm>
            <a:off x="0" y="0"/>
            <a:ext cx="12192120" cy="6858000"/>
          </a:xfrm>
          <a:prstGeom prst="rect">
            <a:avLst/>
          </a:prstGeom>
          <a:ln w="0">
            <a:noFill/>
          </a:ln>
        </p:spPr>
      </p:pic>
      <p:sp>
        <p:nvSpPr>
          <p:cNvPr id="345" name="PlaceHolder 1"/>
          <p:cNvSpPr>
            <a:spLocks noGrp="1"/>
          </p:cNvSpPr>
          <p:nvPr>
            <p:ph type="title"/>
          </p:nvPr>
        </p:nvSpPr>
        <p:spPr>
          <a:xfrm>
            <a:off x="914040" y="619200"/>
            <a:ext cx="1036332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914040" y="2367000"/>
            <a:ext cx="1036332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7678800" y="5882760"/>
            <a:ext cx="274320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10513800" y="5882760"/>
            <a:ext cx="76356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68DBF-467A-4C11-B935-53608D7C30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750680" y="274680"/>
            <a:ext cx="8690040" cy="141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Tw Cen MT"/>
                <a:cs typeface="B Nazanin"/>
              </a:rPr>
              <a:t>بسم الله الرحمن</a:t>
            </a:r>
            <a:br>
              <a:rPr sz="4800"/>
            </a:br>
            <a:r>
              <a:rPr b="0" lang="fa-IR" sz="4800" spc="-1" strike="noStrike">
                <a:solidFill>
                  <a:srgbClr val="000000"/>
                </a:solidFill>
                <a:latin typeface="Tw Cen MT"/>
                <a:cs typeface="B Nazanin"/>
              </a:rPr>
              <a:t>الرحیم</a:t>
            </a:r>
            <a:endParaRPr b="0" lang="en-US" sz="4800" spc="-1" strike="noStrike">
              <a:solidFill>
                <a:srgbClr val="000000"/>
              </a:solidFill>
              <a:latin typeface="Tw Cen MT"/>
            </a:endParaRPr>
          </a:p>
        </p:txBody>
      </p:sp>
      <p:sp>
        <p:nvSpPr>
          <p:cNvPr id="776" name="PlaceHolder 2"/>
          <p:cNvSpPr>
            <a:spLocks noGrp="1"/>
          </p:cNvSpPr>
          <p:nvPr>
            <p:ph type="subTitle"/>
          </p:nvPr>
        </p:nvSpPr>
        <p:spPr>
          <a:xfrm>
            <a:off x="1750680" y="2185560"/>
            <a:ext cx="8690040" cy="30718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2689ad"/>
                </a:solidFill>
                <a:latin typeface="Tw Cen MT"/>
                <a:cs typeface="B Nazanin"/>
              </a:rPr>
              <a:t>حسابداری بهای تمام شده – بهایابی</a:t>
            </a:r>
            <a:r>
              <a:rPr b="1" lang="fa-IR" sz="2100" spc="-1" strike="noStrike">
                <a:solidFill>
                  <a:srgbClr val="2689ad"/>
                </a:solidFill>
                <a:latin typeface="Tw Cen MT"/>
                <a:ea typeface="B Nazanin"/>
              </a:rPr>
              <a:t> </a:t>
            </a:r>
            <a:endParaRPr b="0" lang="en-US" sz="21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رشته حسابداری</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r>
              <a:rPr b="1" lang="fa-IR" sz="2200" spc="-1" strike="noStrike">
                <a:solidFill>
                  <a:srgbClr val="2689ad"/>
                </a:solidFill>
                <a:latin typeface="Tw Cen MT"/>
                <a:cs typeface="B Nazanin"/>
              </a:rPr>
              <a:t>مقطع کاردانی ترم یک</a:t>
            </a:r>
            <a:endParaRPr b="0" lang="en-US" sz="22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2689ad"/>
                </a:solidFill>
                <a:latin typeface="Tw Cen MT"/>
                <a:cs typeface="B Nazanin"/>
              </a:rPr>
              <a:t>تهیه و تنظیم : الهام امین ابراهیم آبادی</a:t>
            </a:r>
            <a:r>
              <a:rPr b="1" lang="fa-IR" sz="1700" spc="-1" strike="noStrike">
                <a:solidFill>
                  <a:srgbClr val="2689ad"/>
                </a:solidFill>
                <a:latin typeface="Tw Cen MT"/>
                <a:ea typeface="B Nazanin"/>
              </a:rPr>
              <a:t> – بهار </a:t>
            </a:r>
            <a:r>
              <a:rPr b="1" lang="fa-IR" sz="1700" spc="-1" strike="noStrike">
                <a:solidFill>
                  <a:srgbClr val="2689ad"/>
                </a:solidFill>
                <a:latin typeface="Tw Cen MT"/>
                <a:ea typeface="B Nazanin"/>
              </a:rPr>
              <a:t>1399</a:t>
            </a:r>
            <a:endParaRPr b="0" lang="en-US" sz="1700" spc="-1" strike="noStrike">
              <a:solidFill>
                <a:srgbClr val="000000"/>
              </a:solidFill>
              <a:latin typeface="Tw Cen MT"/>
            </a:endParaRPr>
          </a:p>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7f7f7f"/>
                </a:solidFill>
                <a:latin typeface="Tw Cen MT"/>
                <a:ea typeface="B Nazanin"/>
              </a:rPr>
              <a:t>                     </a:t>
            </a:r>
            <a:endParaRPr b="0" lang="en-US" sz="1500" spc="-1" strike="noStrike">
              <a:solidFill>
                <a:srgbClr val="000000"/>
              </a:solidFill>
              <a:latin typeface="Tw Cen MT"/>
            </a:endParaRPr>
          </a:p>
        </p:txBody>
      </p:sp>
      <p:pic>
        <p:nvPicPr>
          <p:cNvPr id="777" name="AUD-20200407-WA0000.mp3"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77"/>
                    </p:tgtEl>
                  </p:cond>
                </p:stCondLst>
                <p:childTnLst>
                  <p:par>
                    <p:cTn id="3" nodeType="clickEffect" fill="hold">
                      <p:stCondLst>
                        <p:cond evt="onClick">
                          <p:tgtEl>
                            <p:spTgt spid="777"/>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4606"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14040" y="182160"/>
            <a:ext cx="10363320" cy="841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تمرینات و تستهای نمونه</a:t>
            </a:r>
            <a:endParaRPr b="0" lang="en-US" sz="3600" spc="-1" strike="noStrike">
              <a:solidFill>
                <a:srgbClr val="000000"/>
              </a:solidFill>
              <a:latin typeface="Tw Cen MT"/>
            </a:endParaRPr>
          </a:p>
        </p:txBody>
      </p:sp>
      <p:pic>
        <p:nvPicPr>
          <p:cNvPr id="818" name="Content Placeholder 3" descr=""/>
          <p:cNvPicPr/>
          <p:nvPr/>
        </p:nvPicPr>
        <p:blipFill>
          <a:blip r:embed="rId1"/>
          <a:stretch/>
        </p:blipFill>
        <p:spPr>
          <a:xfrm>
            <a:off x="1243080" y="1133640"/>
            <a:ext cx="10406160" cy="5257800"/>
          </a:xfrm>
          <a:prstGeom prst="rect">
            <a:avLst/>
          </a:prstGeom>
          <a:ln w="0">
            <a:noFill/>
          </a:ln>
        </p:spPr>
      </p:pic>
      <p:pic>
        <p:nvPicPr>
          <p:cNvPr id="819" name="AUD-20200409-WA0008.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819"/>
                    </p:tgtEl>
                  </p:cond>
                </p:stCondLst>
                <p:childTnLst>
                  <p:par>
                    <p:cTn id="73" nodeType="clickEffect" fill="hold">
                      <p:stCondLst>
                        <p:cond evt="onClick">
                          <p:tgtEl>
                            <p:spTgt spid="819"/>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321294" fill="hold"/>
                                        <p:tgtEl>
                                          <p:spTgt spid="8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14040" y="374760"/>
            <a:ext cx="10363320" cy="532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821" name="Content Placeholder 3" descr=""/>
          <p:cNvPicPr/>
          <p:nvPr/>
        </p:nvPicPr>
        <p:blipFill>
          <a:blip r:embed="rId1"/>
          <a:stretch/>
        </p:blipFill>
        <p:spPr>
          <a:xfrm>
            <a:off x="447840" y="493560"/>
            <a:ext cx="11091600" cy="5897880"/>
          </a:xfrm>
          <a:prstGeom prst="rect">
            <a:avLst/>
          </a:prstGeom>
          <a:ln w="0">
            <a:noFill/>
          </a:ln>
        </p:spPr>
      </p:pic>
      <p:pic>
        <p:nvPicPr>
          <p:cNvPr id="822" name="AUD-20200409-WA0004.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restart="whenNotActive" nodeType="interactiveSeq" fill="hold">
                <p:stCondLst>
                  <p:cond evt="onClick">
                    <p:tgtEl>
                      <p:spTgt spid="822"/>
                    </p:tgtEl>
                  </p:cond>
                </p:stCondLst>
                <p:childTnLst>
                  <p:par>
                    <p:cTn id="79" nodeType="clickEffect" fill="hold">
                      <p:stCondLst>
                        <p:cond evt="onClick">
                          <p:tgtEl>
                            <p:spTgt spid="822"/>
                          </p:tgtEl>
                        </p:cond>
                      </p:stCondLst>
                      <p:childTnLst>
                        <p:par>
                          <p:cTn id="80" nodeType="withEffect" fill="hold">
                            <p:stCondLst>
                              <p:cond delay="0"/>
                            </p:stCondLst>
                            <p:childTnLst>
                              <p:par>
                                <p:cTn id="81" nodeType="clickEffect" fill="hold" presetClass="mediacall" presetID="1">
                                  <p:stCondLst>
                                    <p:cond delay="0"/>
                                  </p:stCondLst>
                                  <p:childTnLst>
                                    <p:cmd type="call" cmd="playFrom(0.0)">
                                      <p:cBhvr>
                                        <p:cTn id="82" dur="249753" fill="hold"/>
                                        <p:tgtEl>
                                          <p:spTgt spid="8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14040" y="618840"/>
            <a:ext cx="1036332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Times New Roman"/>
              </a:rPr>
              <a:t>جلسه اول</a:t>
            </a:r>
            <a:endParaRPr b="0" lang="en-US" sz="3600" spc="-1" strike="noStrike">
              <a:solidFill>
                <a:srgbClr val="000000"/>
              </a:solidFill>
              <a:latin typeface="Tw Cen MT"/>
            </a:endParaRPr>
          </a:p>
        </p:txBody>
      </p:sp>
      <p:sp>
        <p:nvSpPr>
          <p:cNvPr id="779" name=""/>
          <p:cNvSpPr txBox="1"/>
          <p:nvPr/>
        </p:nvSpPr>
        <p:spPr>
          <a:xfrm>
            <a:off x="914040" y="1600200"/>
            <a:ext cx="10363320" cy="419112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B Nazanin"/>
              </a:rPr>
              <a:t>معرفی کتاب</a:t>
            </a:r>
            <a:r>
              <a:rPr b="0" lang="fa-IR" sz="2800" spc="-1" strike="noStrike">
                <a:solidFill>
                  <a:srgbClr val="2689ad"/>
                </a:solidFill>
                <a:latin typeface="Tw Cen MT"/>
                <a:ea typeface="B Nazanin"/>
              </a:rPr>
              <a:t> </a:t>
            </a:r>
            <a:r>
              <a:rPr b="0" lang="fa-IR" sz="2800" spc="-1" strike="noStrike">
                <a:solidFill>
                  <a:srgbClr val="2689ad"/>
                </a:solidFill>
                <a:latin typeface="Tw Cen MT"/>
                <a:ea typeface="B Nazanin"/>
              </a:rPr>
              <a:t>: </a:t>
            </a: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780" name="Picture 3" descr=""/>
          <p:cNvPicPr/>
          <p:nvPr/>
        </p:nvPicPr>
        <p:blipFill>
          <a:blip r:embed="rId1"/>
          <a:stretch/>
        </p:blipFill>
        <p:spPr>
          <a:xfrm>
            <a:off x="912960" y="1500120"/>
            <a:ext cx="3367080" cy="4214880"/>
          </a:xfrm>
          <a:prstGeom prst="rect">
            <a:avLst/>
          </a:prstGeom>
          <a:ln w="0">
            <a:noFill/>
          </a:ln>
        </p:spPr>
      </p:pic>
      <p:pic>
        <p:nvPicPr>
          <p:cNvPr id="781" name="Picture 4" descr=""/>
          <p:cNvPicPr/>
          <p:nvPr/>
        </p:nvPicPr>
        <p:blipFill>
          <a:blip r:embed="rId2"/>
          <a:stretch/>
        </p:blipFill>
        <p:spPr>
          <a:xfrm>
            <a:off x="4773600" y="1600200"/>
            <a:ext cx="3246480" cy="4114800"/>
          </a:xfrm>
          <a:prstGeom prst="rect">
            <a:avLst/>
          </a:prstGeom>
          <a:ln w="0">
            <a:noFill/>
          </a:ln>
        </p:spPr>
      </p:pic>
      <p:pic>
        <p:nvPicPr>
          <p:cNvPr id="782" name="AUD-20200407-WA0001.mp3" descr=""/>
          <p:cNvPicPr/>
          <p:nvPr/>
        </p:nvPicPr>
        <p:blipFill>
          <a:blip r:embed="rId3"/>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779">
                                            <p:txEl>
                                              <p:pRg st="0" end="0"/>
                                            </p:txEl>
                                          </p:spTgt>
                                        </p:tgtEl>
                                        <p:attrNameLst>
                                          <p:attrName>style.visibility</p:attrName>
                                        </p:attrNameLst>
                                      </p:cBhvr>
                                      <p:to>
                                        <p:strVal val="visible"/>
                                      </p:to>
                                    </p:set>
                                    <p:animEffect filter="randombar(horizontal)" transition="in">
                                      <p:cBhvr additive="repl">
                                        <p:cTn id="13" dur="500"/>
                                        <p:tgtEl>
                                          <p:spTgt spid="779">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1" presetSubtype="1">
                                  <p:stCondLst>
                                    <p:cond delay="0"/>
                                  </p:stCondLst>
                                  <p:childTnLst>
                                    <p:set>
                                      <p:cBhvr>
                                        <p:cTn id="17" dur="1" fill="hold">
                                          <p:stCondLst>
                                            <p:cond delay="0"/>
                                          </p:stCondLst>
                                        </p:cTn>
                                        <p:tgtEl>
                                          <p:spTgt spid="780"/>
                                        </p:tgtEl>
                                        <p:attrNameLst>
                                          <p:attrName>style.visibility</p:attrName>
                                        </p:attrNameLst>
                                      </p:cBhvr>
                                      <p:to>
                                        <p:strVal val="visible"/>
                                      </p:to>
                                    </p:set>
                                    <p:animEffect filter="wheel(1)" transition="in">
                                      <p:cBhvr additive="repl">
                                        <p:cTn id="18" dur="2000"/>
                                        <p:tgtEl>
                                          <p:spTgt spid="78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1" presetSubtype="1">
                                  <p:stCondLst>
                                    <p:cond delay="0"/>
                                  </p:stCondLst>
                                  <p:childTnLst>
                                    <p:set>
                                      <p:cBhvr>
                                        <p:cTn id="22" dur="1" fill="hold">
                                          <p:stCondLst>
                                            <p:cond delay="0"/>
                                          </p:stCondLst>
                                        </p:cTn>
                                        <p:tgtEl>
                                          <p:spTgt spid="781"/>
                                        </p:tgtEl>
                                        <p:attrNameLst>
                                          <p:attrName>style.visibility</p:attrName>
                                        </p:attrNameLst>
                                      </p:cBhvr>
                                      <p:to>
                                        <p:strVal val="visible"/>
                                      </p:to>
                                    </p:set>
                                    <p:animEffect filter="wheel(1)" transition="in">
                                      <p:cBhvr additive="repl">
                                        <p:cTn id="23"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782"/>
                    </p:tgtEl>
                  </p:cond>
                </p:stCondLst>
                <p:childTnLst>
                  <p:par>
                    <p:cTn id="25" nodeType="clickEffect" fill="hold">
                      <p:stCondLst>
                        <p:cond evt="onClick">
                          <p:tgtEl>
                            <p:spTgt spid="782"/>
                          </p:tgtEl>
                        </p:cond>
                      </p:stCondLst>
                      <p:childTnLst>
                        <p:par>
                          <p:cTn id="26" nodeType="withEffect" fill="hold">
                            <p:stCondLst>
                              <p:cond delay="0"/>
                            </p:stCondLst>
                            <p:childTnLst>
                              <p:par>
                                <p:cTn id="27" nodeType="clickEffect" fill="hold" presetClass="mediacall" presetID="1">
                                  <p:stCondLst>
                                    <p:cond delay="0"/>
                                  </p:stCondLst>
                                  <p:childTnLst>
                                    <p:cmd type="call" cmd="playFrom(0.0)">
                                      <p:cBhvr>
                                        <p:cTn id="28" dur="50524" fill="hold"/>
                                        <p:tgtEl>
                                          <p:spTgt spid="7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040" y="619200"/>
            <a:ext cx="1036332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89ad"/>
                </a:solidFill>
                <a:latin typeface="Tw Cen MT"/>
                <a:cs typeface="B Nazanin"/>
              </a:rPr>
              <a:t>سرفصل مطالب جلسه اول</a:t>
            </a:r>
            <a:r>
              <a:rPr b="0" lang="fa-IR" sz="3600" spc="-1" strike="noStrike">
                <a:solidFill>
                  <a:srgbClr val="2689ad"/>
                </a:solidFill>
                <a:latin typeface="Tw Cen MT"/>
                <a:ea typeface="B Nazanin"/>
              </a:rPr>
              <a:t> </a:t>
            </a:r>
            <a:r>
              <a:rPr b="0" lang="fa-IR" sz="3600" spc="-1" strike="noStrike">
                <a:solidFill>
                  <a:srgbClr val="2689ad"/>
                </a:solidFill>
                <a:latin typeface="Tw Cen MT"/>
                <a:ea typeface="B Nazanin"/>
              </a:rPr>
              <a:t>:</a:t>
            </a:r>
            <a:endParaRPr b="0" lang="en-US" sz="3600" spc="-1" strike="noStrike">
              <a:solidFill>
                <a:srgbClr val="000000"/>
              </a:solidFill>
              <a:latin typeface="Tw Cen MT"/>
            </a:endParaRPr>
          </a:p>
        </p:txBody>
      </p:sp>
      <p:pic>
        <p:nvPicPr>
          <p:cNvPr id="784" name="Content Placeholder 2" descr=""/>
          <p:cNvPicPr/>
          <p:nvPr/>
        </p:nvPicPr>
        <p:blipFill>
          <a:blip r:embed="rId1"/>
          <a:stretch/>
        </p:blipFill>
        <p:spPr>
          <a:xfrm>
            <a:off x="914400" y="1719360"/>
            <a:ext cx="10449000" cy="4071960"/>
          </a:xfrm>
          <a:prstGeom prst="rect">
            <a:avLst/>
          </a:prstGeom>
          <a:ln w="0">
            <a:noFill/>
          </a:ln>
        </p:spPr>
      </p:pic>
      <p:pic>
        <p:nvPicPr>
          <p:cNvPr id="785" name="AUD-20200407-WA0002.mp3"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restart="whenNotActive" nodeType="interactiveSeq" fill="hold">
                <p:stCondLst>
                  <p:cond evt="onClick">
                    <p:tgtEl>
                      <p:spTgt spid="785"/>
                    </p:tgtEl>
                  </p:cond>
                </p:stCondLst>
                <p:childTnLst>
                  <p:par>
                    <p:cTn id="31" nodeType="clickEffect" fill="hold">
                      <p:stCondLst>
                        <p:cond evt="onClick">
                          <p:tgtEl>
                            <p:spTgt spid="785"/>
                          </p:tgtEl>
                        </p:cond>
                      </p:stCondLst>
                      <p:childTnLst>
                        <p:par>
                          <p:cTn id="32" nodeType="withEffect" fill="hold">
                            <p:stCondLst>
                              <p:cond delay="0"/>
                            </p:stCondLst>
                            <p:childTnLst>
                              <p:par>
                                <p:cTn id="33" nodeType="clickEffect" fill="hold" presetClass="mediacall" presetID="1">
                                  <p:stCondLst>
                                    <p:cond delay="0"/>
                                  </p:stCondLst>
                                  <p:childTnLst>
                                    <p:cmd type="call" cmd="playFrom(0.0)">
                                      <p:cBhvr>
                                        <p:cTn id="34" dur="46389"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914040" y="619200"/>
            <a:ext cx="10363320" cy="1100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2689ad"/>
                </a:solidFill>
                <a:latin typeface="Tw Cen MT"/>
                <a:cs typeface="Times New Roman"/>
              </a:rPr>
              <a:t>حسابداری یک سیستم اطلاعاتی</a:t>
            </a:r>
            <a:endParaRPr b="0" lang="en-US" sz="2800" spc="-1" strike="noStrike">
              <a:solidFill>
                <a:srgbClr val="000000"/>
              </a:solidFill>
              <a:latin typeface="Tw Cen MT"/>
            </a:endParaRPr>
          </a:p>
        </p:txBody>
      </p:sp>
      <p:sp>
        <p:nvSpPr>
          <p:cNvPr id="787" name=""/>
          <p:cNvSpPr txBox="1"/>
          <p:nvPr/>
        </p:nvSpPr>
        <p:spPr>
          <a:xfrm>
            <a:off x="914040" y="1444680"/>
            <a:ext cx="10363320" cy="461808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ر اغلب واحدهای جاری سیستم حسابداری اساسی ترین و قابل اعتماد ترین سیستم اطلاعاتی کمی مدیریت است که برای دستیابی به اهداف واحد تجاری فعالیت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حسابداری را می توان به عنوان یک سیستم اطلاعاتی در نظر گرفت که ورودی دریافت آن را پردازش و در نهایت خروجی تولید می کن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p:txBody>
      </p:sp>
      <p:sp>
        <p:nvSpPr>
          <p:cNvPr id="788" name="Rectangle 3"/>
          <p:cNvSpPr/>
          <p:nvPr/>
        </p:nvSpPr>
        <p:spPr>
          <a:xfrm>
            <a:off x="4759200" y="2971800"/>
            <a:ext cx="1994040" cy="712800"/>
          </a:xfrm>
          <a:prstGeom prst="rect">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پردازش</a:t>
            </a:r>
            <a:endParaRPr b="0" lang="en-US" sz="1800" spc="-1" strike="noStrike">
              <a:solidFill>
                <a:srgbClr val="000000"/>
              </a:solidFill>
              <a:latin typeface="Tw Cen MT"/>
            </a:endParaRPr>
          </a:p>
        </p:txBody>
      </p:sp>
      <p:sp>
        <p:nvSpPr>
          <p:cNvPr id="789" name="Right Arrow 4"/>
          <p:cNvSpPr/>
          <p:nvPr/>
        </p:nvSpPr>
        <p:spPr>
          <a:xfrm>
            <a:off x="3284640" y="3041640"/>
            <a:ext cx="1417680" cy="712800"/>
          </a:xfrm>
          <a:prstGeom prst="rightArrow">
            <a:avLst>
              <a:gd name="adj1" fmla="val 50000"/>
              <a:gd name="adj2" fmla="val 49998"/>
            </a:avLst>
          </a:prstGeom>
          <a:solidFill>
            <a:srgbClr val="e34b7a"/>
          </a:solidFill>
          <a:ln w="15840">
            <a:solidFill>
              <a:srgbClr val="195b73"/>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ورودی</a:t>
            </a:r>
            <a:endParaRPr b="0" lang="en-US" sz="1800" spc="-1" strike="noStrike">
              <a:solidFill>
                <a:srgbClr val="000000"/>
              </a:solidFill>
              <a:latin typeface="Tw Cen MT"/>
            </a:endParaRPr>
          </a:p>
        </p:txBody>
      </p:sp>
      <p:sp>
        <p:nvSpPr>
          <p:cNvPr id="790" name="Right Arrow 5"/>
          <p:cNvSpPr/>
          <p:nvPr/>
        </p:nvSpPr>
        <p:spPr>
          <a:xfrm>
            <a:off x="6931080" y="2987640"/>
            <a:ext cx="1388880" cy="696960"/>
          </a:xfrm>
          <a:prstGeom prst="rightArrow">
            <a:avLst>
              <a:gd name="adj1" fmla="val 50000"/>
              <a:gd name="adj2" fmla="val 49994"/>
            </a:avLst>
          </a:prstGeom>
          <a:solidFill>
            <a:srgbClr val="e34b7a"/>
          </a:solidFill>
          <a:ln w="15840">
            <a:solidFill>
              <a:srgbClr val="0070c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Tw Cen MT"/>
                <a:cs typeface="Arial"/>
              </a:rPr>
              <a:t>خروجی</a:t>
            </a:r>
            <a:endParaRPr b="0" lang="en-US" sz="1800" spc="-1" strike="noStrike">
              <a:solidFill>
                <a:srgbClr val="000000"/>
              </a:solidFill>
              <a:latin typeface="Tw Cen MT"/>
            </a:endParaRPr>
          </a:p>
        </p:txBody>
      </p:sp>
      <p:sp>
        <p:nvSpPr>
          <p:cNvPr id="791" name="Rounded Rectangle 6"/>
          <p:cNvSpPr/>
          <p:nvPr/>
        </p:nvSpPr>
        <p:spPr>
          <a:xfrm>
            <a:off x="1219320" y="4581360"/>
            <a:ext cx="2065320" cy="10242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استفاده کنندگان از اطلاعات حسابداری</a:t>
            </a:r>
            <a:endParaRPr b="0" lang="en-US" sz="1800" spc="-1" strike="noStrike">
              <a:solidFill>
                <a:srgbClr val="000000"/>
              </a:solidFill>
              <a:latin typeface="Tw Cen MT"/>
            </a:endParaRPr>
          </a:p>
        </p:txBody>
      </p:sp>
      <p:cxnSp>
        <p:nvCxnSpPr>
          <p:cNvPr id="792" name="Straight Arrow Connector 9"/>
          <p:cNvCxnSpPr>
            <a:stCxn id="791" idx="3"/>
          </p:cNvCxnSpPr>
          <p:nvPr/>
        </p:nvCxnSpPr>
        <p:spPr>
          <a:xfrm flipV="1">
            <a:off x="3284280" y="4581000"/>
            <a:ext cx="996120" cy="511920"/>
          </a:xfrm>
          <a:prstGeom prst="straightConnector1">
            <a:avLst/>
          </a:prstGeom>
          <a:ln w="9360">
            <a:solidFill>
              <a:srgbClr val="b53a60"/>
            </a:solidFill>
            <a:miter/>
            <a:tailEnd len="med" type="triangle" w="med"/>
          </a:ln>
        </p:spPr>
      </p:cxnSp>
      <p:cxnSp>
        <p:nvCxnSpPr>
          <p:cNvPr id="793" name="Straight Arrow Connector 11"/>
          <p:cNvCxnSpPr>
            <a:stCxn id="791" idx="3"/>
          </p:cNvCxnSpPr>
          <p:nvPr/>
        </p:nvCxnSpPr>
        <p:spPr>
          <a:xfrm>
            <a:off x="3284280" y="5092200"/>
            <a:ext cx="996120" cy="546480"/>
          </a:xfrm>
          <a:prstGeom prst="straightConnector1">
            <a:avLst/>
          </a:prstGeom>
          <a:ln w="9360">
            <a:solidFill>
              <a:srgbClr val="b53a60"/>
            </a:solidFill>
            <a:miter/>
            <a:tailEnd len="med" type="triangle" w="med"/>
          </a:ln>
        </p:spPr>
      </p:cxnSp>
      <p:sp>
        <p:nvSpPr>
          <p:cNvPr id="794" name="Rounded Rectangle 13"/>
          <p:cNvSpPr/>
          <p:nvPr/>
        </p:nvSpPr>
        <p:spPr>
          <a:xfrm>
            <a:off x="4406760" y="4068720"/>
            <a:ext cx="1689120" cy="66852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درون سازمانی</a:t>
            </a:r>
            <a:endParaRPr b="0" lang="en-US" sz="1800" spc="-1" strike="noStrike">
              <a:solidFill>
                <a:srgbClr val="000000"/>
              </a:solidFill>
              <a:latin typeface="Tw Cen MT"/>
            </a:endParaRPr>
          </a:p>
        </p:txBody>
      </p:sp>
      <p:sp>
        <p:nvSpPr>
          <p:cNvPr id="795" name="Rounded Rectangle 14"/>
          <p:cNvSpPr/>
          <p:nvPr/>
        </p:nvSpPr>
        <p:spPr>
          <a:xfrm>
            <a:off x="4406760" y="5175360"/>
            <a:ext cx="1689120" cy="712800"/>
          </a:xfrm>
          <a:prstGeom prst="roundRect">
            <a:avLst>
              <a:gd name="adj" fmla="val 16667"/>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رون سازمانی</a:t>
            </a:r>
            <a:endParaRPr b="0" lang="en-US" sz="1800" spc="-1" strike="noStrike">
              <a:solidFill>
                <a:srgbClr val="000000"/>
              </a:solidFill>
              <a:latin typeface="Tw Cen MT"/>
            </a:endParaRPr>
          </a:p>
        </p:txBody>
      </p:sp>
      <p:pic>
        <p:nvPicPr>
          <p:cNvPr id="796" name="AUD-20200409-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restart="whenNotActive" nodeType="interactiveSeq" fill="hold">
                <p:stCondLst>
                  <p:cond evt="onClick">
                    <p:tgtEl>
                      <p:spTgt spid="796"/>
                    </p:tgtEl>
                  </p:cond>
                </p:stCondLst>
                <p:childTnLst>
                  <p:par>
                    <p:cTn id="37" nodeType="clickEffect" fill="hold">
                      <p:stCondLst>
                        <p:cond evt="onClick">
                          <p:tgtEl>
                            <p:spTgt spid="796"/>
                          </p:tgtEl>
                        </p:cond>
                      </p:stCondLst>
                      <p:childTnLst>
                        <p:par>
                          <p:cTn id="38" nodeType="withEffect" fill="hold">
                            <p:stCondLst>
                              <p:cond delay="0"/>
                            </p:stCondLst>
                            <p:childTnLst>
                              <p:par>
                                <p:cTn id="39" nodeType="clickEffect" fill="hold" presetClass="mediacall" presetID="1">
                                  <p:stCondLst>
                                    <p:cond delay="0"/>
                                  </p:stCondLst>
                                  <p:childTnLst>
                                    <p:cmd type="call" cmd="playFrom(0.0)">
                                      <p:cBhvr>
                                        <p:cTn id="40" dur="162144" fill="hold"/>
                                        <p:tgtEl>
                                          <p:spTgt spid="7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914040" y="420840"/>
            <a:ext cx="10363320" cy="822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مالی و حسابداری مدیریت</a:t>
            </a:r>
            <a:endParaRPr b="0" lang="en-US" sz="3600" spc="-1" strike="noStrike">
              <a:solidFill>
                <a:srgbClr val="000000"/>
              </a:solidFill>
              <a:latin typeface="Tw Cen MT"/>
            </a:endParaRPr>
          </a:p>
        </p:txBody>
      </p:sp>
      <p:sp>
        <p:nvSpPr>
          <p:cNvPr id="798" name=""/>
          <p:cNvSpPr txBox="1"/>
          <p:nvPr/>
        </p:nvSpPr>
        <p:spPr>
          <a:xfrm>
            <a:off x="914040" y="1169640"/>
            <a:ext cx="10363320" cy="552276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آن بخش از حسابداری که اطلاعات مورد نیاز استفاده کنندگان برون سازمانی را تهیه می کند حسابداری مالی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r>
              <a:rPr b="0" lang="fa-IR" sz="2000" spc="-1" strike="noStrike">
                <a:solidFill>
                  <a:srgbClr val="2689ad"/>
                </a:solidFill>
                <a:latin typeface="Tw Cen MT"/>
                <a:cs typeface="B Nazanin"/>
              </a:rPr>
              <a:t>و آن بخش از حسابداری که اطلاعات مورد نیاز استفاده کنندگان درون سازمانی را تهیه می کند حسابداری مدیریت نامیده می شود</a:t>
            </a:r>
            <a:r>
              <a:rPr b="0" lang="fa-IR" sz="2000" spc="-1" strike="noStrike">
                <a:solidFill>
                  <a:srgbClr val="2689ad"/>
                </a:solidFill>
                <a:latin typeface="Tw Cen MT"/>
                <a:ea typeface="B Nazanin"/>
              </a:rPr>
              <a:t> </a:t>
            </a:r>
            <a:r>
              <a:rPr b="0" lang="fa-IR" sz="2000" spc="-1" strike="noStrike">
                <a:solidFill>
                  <a:srgbClr val="2689ad"/>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d0d0d"/>
                </a:solidFill>
                <a:latin typeface="Tw Cen MT"/>
                <a:cs typeface="B Nazanin"/>
              </a:rPr>
              <a:t>برخی از تفاوتهای میان حسابداری مالی و مدیریت</a:t>
            </a:r>
            <a:r>
              <a:rPr b="1" lang="fa-IR" sz="2000" spc="-1" strike="noStrike">
                <a:solidFill>
                  <a:srgbClr val="0d0d0d"/>
                </a:solidFill>
                <a:latin typeface="Tw Cen MT"/>
                <a:ea typeface="B Nazanin"/>
              </a:rPr>
              <a:t> </a:t>
            </a:r>
            <a:r>
              <a:rPr b="1" lang="fa-IR" sz="2000" spc="-1" strike="noStrike">
                <a:solidFill>
                  <a:srgbClr val="0d0d0d"/>
                </a:solidFill>
                <a:latin typeface="Tw Cen MT"/>
                <a:ea typeface="B Nazanin"/>
              </a:rPr>
              <a:t>: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graphicFrame>
        <p:nvGraphicFramePr>
          <p:cNvPr id="799" name=""/>
          <p:cNvGraphicFramePr/>
          <p:nvPr/>
        </p:nvGraphicFramePr>
        <p:xfrm>
          <a:off x="1190520" y="3481560"/>
          <a:ext cx="9151920" cy="2778120"/>
        </p:xfrm>
        <a:graphic>
          <a:graphicData uri="http://schemas.openxmlformats.org/drawingml/2006/table">
            <a:tbl>
              <a:tblPr/>
              <a:tblGrid>
                <a:gridCol w="3051360"/>
                <a:gridCol w="3430440"/>
                <a:gridCol w="2670120"/>
              </a:tblGrid>
              <a:tr h="39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دیریت</a:t>
                      </a:r>
                      <a:endParaRPr b="0" lang="en-US" sz="2000" spc="-1" strike="noStrike">
                        <a:solidFill>
                          <a:srgbClr val="000000"/>
                        </a:solidFill>
                        <a:latin typeface="Tw Cen MT"/>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2689ad"/>
                          </a:solidFill>
                          <a:latin typeface="Tw Cen MT"/>
                          <a:cs typeface="B Nazanin"/>
                        </a:rPr>
                        <a:t>حسابداری ما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34b7a"/>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رون سازمان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استفاده کننده گان</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بستگی به نیاز مدیریت 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حدود به صورتهای مالی اساس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نوع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دوره خاص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عمولا سالانه</a:t>
                      </a:r>
                      <a:r>
                        <a:rPr b="0" lang="fa-IR" sz="2000" spc="-1" strike="noStrike">
                          <a:solidFill>
                            <a:srgbClr val="000000"/>
                          </a:solidFill>
                          <a:latin typeface="Tw Cen MT"/>
                          <a:ea typeface="Times New Roman"/>
                        </a:rPr>
                        <a:t> </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دوره گزارشگ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هر 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فقط واحد پول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واحد اندازه گی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موردی ندارد</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الزامی اس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رعایت استاندارد های حسابدار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آینده نگر و برآورد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w Cen MT"/>
                          <a:cs typeface="Times New Roman"/>
                        </a:rPr>
                        <a:t>عمدتا گذشته نما و واقعی</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2689ad"/>
                          </a:solidFill>
                          <a:latin typeface="Tw Cen MT"/>
                          <a:cs typeface="B Nazanin"/>
                        </a:rPr>
                        <a:t>محتوای گزارشات</a:t>
                      </a:r>
                      <a:endParaRPr b="0" lang="en-US" sz="2000" spc="-1" strike="noStrike">
                        <a:solidFill>
                          <a:srgbClr val="000000"/>
                        </a:solidFill>
                        <a:latin typeface="Tw Cen MT"/>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pic>
        <p:nvPicPr>
          <p:cNvPr id="800" name="AUD-20200409-WA0011.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800"/>
                    </p:tgtEl>
                  </p:cond>
                </p:stCondLst>
                <p:childTnLst>
                  <p:par>
                    <p:cTn id="43" nodeType="clickEffect" fill="hold">
                      <p:stCondLst>
                        <p:cond evt="onClick">
                          <p:tgtEl>
                            <p:spTgt spid="800"/>
                          </p:tgtEl>
                        </p:cond>
                      </p:stCondLst>
                      <p:childTnLst>
                        <p:par>
                          <p:cTn id="44" nodeType="withEffect" fill="hold">
                            <p:stCondLst>
                              <p:cond delay="0"/>
                            </p:stCondLst>
                            <p:childTnLst>
                              <p:par>
                                <p:cTn id="45" nodeType="clickEffect" fill="hold" presetClass="mediacall" presetID="1">
                                  <p:stCondLst>
                                    <p:cond delay="0"/>
                                  </p:stCondLst>
                                  <p:childTnLst>
                                    <p:cmd type="call" cmd="playFrom(0.0)">
                                      <p:cBhvr>
                                        <p:cTn id="46" dur="202500" fill="hold"/>
                                        <p:tgtEl>
                                          <p:spTgt spid="8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040" y="619200"/>
            <a:ext cx="10363320" cy="1054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حسابداری بهای تمام شده</a:t>
            </a:r>
            <a:r>
              <a:rPr b="0" lang="fa-IR" sz="3600" spc="-1" strike="noStrike">
                <a:solidFill>
                  <a:srgbClr val="000000"/>
                </a:solidFill>
                <a:latin typeface="Tw Cen MT"/>
                <a:ea typeface="Times New Roman"/>
              </a:rPr>
              <a:t> </a:t>
            </a:r>
            <a:endParaRPr b="0" lang="en-US" sz="3600" spc="-1" strike="noStrike">
              <a:solidFill>
                <a:srgbClr val="000000"/>
              </a:solidFill>
              <a:latin typeface="Tw Cen MT"/>
            </a:endParaRPr>
          </a:p>
        </p:txBody>
      </p:sp>
      <p:sp>
        <p:nvSpPr>
          <p:cNvPr id="802" name=""/>
          <p:cNvSpPr txBox="1"/>
          <p:nvPr/>
        </p:nvSpPr>
        <p:spPr>
          <a:xfrm>
            <a:off x="914040" y="1672920"/>
            <a:ext cx="10363320" cy="4118040"/>
          </a:xfrm>
          <a:prstGeom prst="rect">
            <a:avLst/>
          </a:prstGeom>
          <a:noFill/>
          <a:ln w="0">
            <a:noFill/>
          </a:ln>
        </p:spPr>
        <p:txBody>
          <a:bodyPr anchor="t">
            <a:normAutofit/>
          </a:bodyPr>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حسابداری بهای تمام شده که حسابداری صنعتی نیز نامیده می شود بخشی از حسابداری است که وظیفه آن جمع آوری اطلاعات مربوط به عوامل بهای تمام شده و همچنین محاسبه بهای تمام شده محصولات و خدمات و گزارش آنها به حسابداری مالی و حسابداری مدیریت می باشد . بر خلاف حسابداری مالی و حسابداری مدیریت ، فعالیتهای حسابداری بهای تمام شده منجر به تهیه گزارشات اختصاصی نمی شود .</a:t>
            </a:r>
            <a:endParaRPr b="0" lang="en-US" sz="2000" spc="-1" strike="noStrike">
              <a:solidFill>
                <a:srgbClr val="000000"/>
              </a:solidFill>
              <a:latin typeface="Tw Cen MT"/>
            </a:endParaRPr>
          </a:p>
          <a:p>
            <a:pPr algn="just"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w Cen MT"/>
                <a:cs typeface="B Nazanin"/>
              </a:rPr>
              <a:t>نکته: </a:t>
            </a:r>
            <a:r>
              <a:rPr b="0" lang="fa-IR" sz="2000" spc="-1" strike="noStrike">
                <a:solidFill>
                  <a:srgbClr val="ff0000"/>
                </a:solidFill>
                <a:latin typeface="Tw Cen MT"/>
                <a:cs typeface="B Nazanin"/>
              </a:rPr>
              <a:t>حسابداری بهای تمام شده حلقه ارتباطی بین حسابداری مالی و حسابداری مدیریت می باشد و در واقع گزارشات تولید شده توسط آن مورد استفاده هر دو گروه قرار می گیرد .</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3" name="Oval 3"/>
          <p:cNvSpPr/>
          <p:nvPr/>
        </p:nvSpPr>
        <p:spPr>
          <a:xfrm>
            <a:off x="3786120" y="4370400"/>
            <a:ext cx="1554120" cy="1096920"/>
          </a:xfrm>
          <a:prstGeom prst="ellipse">
            <a:avLst/>
          </a:prstGeom>
          <a:solidFill>
            <a:srgbClr val="de85e1"/>
          </a:solidFill>
          <a:ln w="15840">
            <a:solidFill>
              <a:srgbClr val="a360a5"/>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بهای تمام شده</a:t>
            </a:r>
            <a:endParaRPr b="0" lang="en-US" sz="1800" spc="-1" strike="noStrike">
              <a:solidFill>
                <a:srgbClr val="000000"/>
              </a:solidFill>
              <a:latin typeface="Tw Cen MT"/>
            </a:endParaRPr>
          </a:p>
        </p:txBody>
      </p:sp>
      <p:sp>
        <p:nvSpPr>
          <p:cNvPr id="804" name="Oval 4"/>
          <p:cNvSpPr/>
          <p:nvPr/>
        </p:nvSpPr>
        <p:spPr>
          <a:xfrm>
            <a:off x="2395440" y="4370400"/>
            <a:ext cx="160992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الی</a:t>
            </a:r>
            <a:endParaRPr b="0" lang="en-US" sz="1800" spc="-1" strike="noStrike">
              <a:solidFill>
                <a:srgbClr val="000000"/>
              </a:solidFill>
              <a:latin typeface="Tw Cen MT"/>
            </a:endParaRPr>
          </a:p>
        </p:txBody>
      </p:sp>
      <p:sp>
        <p:nvSpPr>
          <p:cNvPr id="805" name="Oval 5"/>
          <p:cNvSpPr/>
          <p:nvPr/>
        </p:nvSpPr>
        <p:spPr>
          <a:xfrm>
            <a:off x="5138640" y="4370400"/>
            <a:ext cx="1590840" cy="1152360"/>
          </a:xfrm>
          <a:prstGeom prst="ellipse">
            <a:avLst/>
          </a:prstGeom>
          <a:solidFill>
            <a:srgbClr val="e34b7a"/>
          </a:solidFill>
          <a:ln w="15840">
            <a:solidFill>
              <a:srgbClr val="a73558"/>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Tw Cen MT"/>
                <a:cs typeface="Arial"/>
              </a:rPr>
              <a:t>مدیریت</a:t>
            </a:r>
            <a:endParaRPr b="0" lang="en-US" sz="1800" spc="-1" strike="noStrike">
              <a:solidFill>
                <a:srgbClr val="000000"/>
              </a:solidFill>
              <a:latin typeface="Tw Cen MT"/>
            </a:endParaRPr>
          </a:p>
        </p:txBody>
      </p:sp>
      <p:pic>
        <p:nvPicPr>
          <p:cNvPr id="806" name="AUD-20200408-WA0005.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806"/>
                    </p:tgtEl>
                  </p:cond>
                </p:stCondLst>
                <p:childTnLst>
                  <p:par>
                    <p:cTn id="49" nodeType="clickEffect" fill="hold">
                      <p:stCondLst>
                        <p:cond evt="onClick">
                          <p:tgtEl>
                            <p:spTgt spid="806"/>
                          </p:tgtEl>
                        </p:cond>
                      </p:stCondLst>
                      <p:childTnLst>
                        <p:par>
                          <p:cTn id="50" nodeType="withEffect" fill="hold">
                            <p:stCondLst>
                              <p:cond delay="0"/>
                            </p:stCondLst>
                            <p:childTnLst>
                              <p:par>
                                <p:cTn id="51" nodeType="clickEffect" fill="hold" presetClass="mediacall" presetID="1">
                                  <p:stCondLst>
                                    <p:cond delay="0"/>
                                  </p:stCondLst>
                                  <p:childTnLst>
                                    <p:cmd type="call" cmd="playFrom(0.0)">
                                      <p:cBhvr>
                                        <p:cTn id="52" dur="51965" fill="hold"/>
                                        <p:tgtEl>
                                          <p:spTgt spid="8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914040" y="274680"/>
            <a:ext cx="10363320" cy="1023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فرآیند ایجاد ارزش</a:t>
            </a:r>
            <a:endParaRPr b="0" lang="en-US" sz="3600" spc="-1" strike="noStrike">
              <a:solidFill>
                <a:srgbClr val="000000"/>
              </a:solidFill>
              <a:latin typeface="Tw Cen MT"/>
            </a:endParaRPr>
          </a:p>
        </p:txBody>
      </p:sp>
      <p:sp>
        <p:nvSpPr>
          <p:cNvPr id="808" name=""/>
          <p:cNvSpPr txBox="1"/>
          <p:nvPr/>
        </p:nvSpPr>
        <p:spPr>
          <a:xfrm>
            <a:off x="239400" y="1298520"/>
            <a:ext cx="10955160" cy="4492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مجموعه فعالیتهایی که موجب ایجاد یا افزایش مطلوبیت و ارزش محصول یا خدمت می شوند . این فرآیند شامل </a:t>
            </a:r>
            <a:r>
              <a:rPr b="0" lang="fa-IR" sz="2000" spc="-1" strike="noStrike">
                <a:solidFill>
                  <a:srgbClr val="0070c0"/>
                </a:solidFill>
                <a:latin typeface="Tw Cen MT"/>
                <a:ea typeface="B Nazanin"/>
              </a:rPr>
              <a:t>6</a:t>
            </a:r>
            <a:r>
              <a:rPr b="0" lang="fa-IR" sz="2000" spc="-1" strike="noStrike">
                <a:solidFill>
                  <a:srgbClr val="0070c0"/>
                </a:solidFill>
                <a:latin typeface="Tw Cen MT"/>
                <a:ea typeface="B Nazanin"/>
              </a:rPr>
              <a:t> مرحله به شرح زیر می باشد</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نکته</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70c0"/>
                </a:solidFill>
                <a:latin typeface="Tw Cen MT"/>
                <a:cs typeface="B Nazanin"/>
              </a:rPr>
              <a:t>البته در عمل این مراحل ترتیب خاصی ندارد . مثلا ممکن است بازاریابی یک محصول قبل از تولید آن انجام شود</a:t>
            </a:r>
            <a:r>
              <a:rPr b="0" lang="fa-IR" sz="2000" spc="-1" strike="noStrike">
                <a:solidFill>
                  <a:srgbClr val="0070c0"/>
                </a:solidFill>
                <a:latin typeface="Tw Cen MT"/>
                <a:ea typeface="B Nazanin"/>
              </a:rPr>
              <a:t> </a:t>
            </a:r>
            <a:r>
              <a:rPr b="0" lang="fa-IR" sz="2000" spc="-1" strike="noStrike">
                <a:solidFill>
                  <a:srgbClr val="0070c0"/>
                </a:solidFill>
                <a:latin typeface="Tw Cen MT"/>
                <a:ea typeface="B Nazanin"/>
              </a:rPr>
              <a:t>.</a:t>
            </a:r>
            <a:endParaRPr b="0" lang="en-US" sz="2000" spc="-1" strike="noStrike">
              <a:solidFill>
                <a:srgbClr val="000000"/>
              </a:solidFill>
              <a:latin typeface="Tw Cen MT"/>
            </a:endParaRPr>
          </a:p>
          <a:p>
            <a:pPr algn="r">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09" name="Diagram 3" descr=""/>
          <p:cNvPicPr/>
          <p:nvPr/>
        </p:nvPicPr>
        <p:blipFill>
          <a:blip r:embed="rId1"/>
          <a:stretch/>
        </p:blipFill>
        <p:spPr>
          <a:xfrm>
            <a:off x="176040" y="3541680"/>
            <a:ext cx="7761600" cy="1090800"/>
          </a:xfrm>
          <a:prstGeom prst="rect">
            <a:avLst/>
          </a:prstGeom>
          <a:ln w="0">
            <a:noFill/>
          </a:ln>
        </p:spPr>
      </p:pic>
      <p:pic>
        <p:nvPicPr>
          <p:cNvPr id="810" name="AUD-20200409-WA0002.m4a" descr=""/>
          <p:cNvPicPr/>
          <p:nvPr/>
        </p:nvPicPr>
        <p:blipFill>
          <a:blip r:embed="rId2"/>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restart="whenNotActive" nodeType="interactiveSeq" fill="hold">
                <p:stCondLst>
                  <p:cond evt="onClick">
                    <p:tgtEl>
                      <p:spTgt spid="810"/>
                    </p:tgtEl>
                  </p:cond>
                </p:stCondLst>
                <p:childTnLst>
                  <p:par>
                    <p:cTn id="55" nodeType="clickEffect" fill="hold">
                      <p:stCondLst>
                        <p:cond evt="onClick">
                          <p:tgtEl>
                            <p:spTgt spid="810"/>
                          </p:tgtEl>
                        </p:cond>
                      </p:stCondLst>
                      <p:childTnLst>
                        <p:par>
                          <p:cTn id="56" nodeType="withEffect" fill="hold">
                            <p:stCondLst>
                              <p:cond delay="0"/>
                            </p:stCondLst>
                            <p:childTnLst>
                              <p:par>
                                <p:cTn id="57" nodeType="clickEffect" fill="hold" presetClass="mediacall" presetID="1">
                                  <p:stCondLst>
                                    <p:cond delay="0"/>
                                  </p:stCondLst>
                                  <p:childTnLst>
                                    <p:cmd type="call" cmd="playFrom(0.0)">
                                      <p:cBhvr>
                                        <p:cTn id="58" dur="154040" fill="hold"/>
                                        <p:tgtEl>
                                          <p:spTgt spid="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914040" y="619200"/>
            <a:ext cx="10363320" cy="89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آشنایی با برخی از مفاهیم و اصطلاحات در حسابداری بهای تمام شده</a:t>
            </a:r>
            <a:endParaRPr b="0" lang="en-US" sz="3600" spc="-1" strike="noStrike">
              <a:solidFill>
                <a:srgbClr val="000000"/>
              </a:solidFill>
              <a:latin typeface="Tw Cen MT"/>
            </a:endParaRPr>
          </a:p>
        </p:txBody>
      </p:sp>
      <p:sp>
        <p:nvSpPr>
          <p:cNvPr id="812" name=""/>
          <p:cNvSpPr txBox="1"/>
          <p:nvPr/>
        </p:nvSpPr>
        <p:spPr>
          <a:xfrm>
            <a:off x="914040" y="1517400"/>
            <a:ext cx="10363320" cy="4273560"/>
          </a:xfrm>
          <a:prstGeom prst="rect">
            <a:avLst/>
          </a:prstGeom>
          <a:noFill/>
          <a:ln w="0">
            <a:noFill/>
          </a:ln>
        </p:spPr>
        <p:txBody>
          <a:bodyPr anchor="t">
            <a:normAutofit/>
          </a:bodyPr>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ها : </a:t>
            </a:r>
            <a:r>
              <a:rPr b="1" lang="fa-IR" sz="1800" spc="-1" strike="noStrike">
                <a:solidFill>
                  <a:srgbClr val="000000"/>
                </a:solidFill>
                <a:latin typeface="Tw Cen MT"/>
                <a:cs typeface="B Nazanin"/>
              </a:rPr>
              <a:t>عبارت است از منابع صرف شده برای تحصیل یک منبع دیگر که این منبع جدید دارای منافع آتی باشد .این تعریف در واقع تعریف دارایی است به این معنی که بها در ترازنامه در بخش داراییها گزارش شده و همانند داراییها هدفدار و ارادی بوده خوشایند و قابل کنترل می باشد . مانند کالای ساخته شده تا قبل از فروش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هزینه : </a:t>
            </a:r>
            <a:r>
              <a:rPr b="1" lang="fa-IR" sz="1800" spc="-1" strike="noStrike">
                <a:solidFill>
                  <a:srgbClr val="000000"/>
                </a:solidFill>
                <a:latin typeface="Tw Cen MT"/>
                <a:cs typeface="B Nazanin"/>
              </a:rPr>
              <a:t>عبارت است از منابع صرف شده برای تحصیل یک منفعت ( درآمد )  که منافع کسب شده آن کاملا منقضی شده و فاقد هرگونه منافع آتی می باشد . هزینه ها از همان ابتدا به عنوان هزینه شناسایی و ثبت می شوند مانند هزینه حقوق کارکنان .</a:t>
            </a: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r" rtl="1">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زیان : </a:t>
            </a:r>
            <a:r>
              <a:rPr b="1" lang="fa-IR" sz="1800" spc="-1" strike="noStrike">
                <a:solidFill>
                  <a:srgbClr val="000000"/>
                </a:solidFill>
                <a:latin typeface="Tw Cen MT"/>
                <a:cs typeface="B Nazanin"/>
              </a:rPr>
              <a:t>از دست رفتن منافع بدون کسب هیچگونه منفعتی نه در گذشته و نه درآینده . مانند آتشسوزی در انبار مواد اولیه .</a:t>
            </a:r>
            <a:endParaRPr b="0" lang="en-US" sz="1800" spc="-1" strike="noStrike">
              <a:solidFill>
                <a:srgbClr val="000000"/>
              </a:solidFill>
              <a:latin typeface="Tw Cen MT"/>
            </a:endParaRPr>
          </a:p>
        </p:txBody>
      </p:sp>
      <p:pic>
        <p:nvPicPr>
          <p:cNvPr id="813" name="AUD-20200409-WA0010.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restart="whenNotActive" nodeType="interactiveSeq" fill="hold">
                <p:stCondLst>
                  <p:cond evt="onClick">
                    <p:tgtEl>
                      <p:spTgt spid="813"/>
                    </p:tgtEl>
                  </p:cond>
                </p:stCondLst>
                <p:childTnLst>
                  <p:par>
                    <p:cTn id="61" nodeType="clickEffect" fill="hold">
                      <p:stCondLst>
                        <p:cond evt="onClick">
                          <p:tgtEl>
                            <p:spTgt spid="813"/>
                          </p:tgtEl>
                        </p:cond>
                      </p:stCondLst>
                      <p:childTnLst>
                        <p:par>
                          <p:cTn id="62" nodeType="withEffect" fill="hold">
                            <p:stCondLst>
                              <p:cond delay="0"/>
                            </p:stCondLst>
                            <p:childTnLst>
                              <p:par>
                                <p:cTn id="63" nodeType="clickEffect" fill="hold" presetClass="mediacall" presetID="1">
                                  <p:stCondLst>
                                    <p:cond delay="0"/>
                                  </p:stCondLst>
                                  <p:childTnLst>
                                    <p:cmd type="call" cmd="playFrom(0.0)">
                                      <p:cBhvr>
                                        <p:cTn id="64" dur="190449" fill="hold"/>
                                        <p:tgtEl>
                                          <p:spTgt spid="8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14040" y="347760"/>
            <a:ext cx="10363320" cy="923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w Cen MT"/>
                <a:cs typeface="Times New Roman"/>
              </a:rPr>
              <a:t>بهایابی و موضوع بها</a:t>
            </a:r>
            <a:endParaRPr b="0" lang="en-US" sz="3600" spc="-1" strike="noStrike">
              <a:solidFill>
                <a:srgbClr val="000000"/>
              </a:solidFill>
              <a:latin typeface="Tw Cen MT"/>
            </a:endParaRPr>
          </a:p>
        </p:txBody>
      </p:sp>
      <p:sp>
        <p:nvSpPr>
          <p:cNvPr id="815" name=""/>
          <p:cNvSpPr txBox="1"/>
          <p:nvPr/>
        </p:nvSpPr>
        <p:spPr>
          <a:xfrm>
            <a:off x="914040" y="1271160"/>
            <a:ext cx="10363320" cy="4519800"/>
          </a:xfrm>
          <a:prstGeom prst="rect">
            <a:avLst/>
          </a:prstGeom>
          <a:noFill/>
          <a:ln w="0">
            <a:noFill/>
          </a:ln>
        </p:spPr>
        <p:txBody>
          <a:bodyPr anchor="t">
            <a:normAutofit/>
          </a:bodyPr>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70c0"/>
                </a:solidFill>
                <a:latin typeface="Tw Cen MT"/>
                <a:cs typeface="B Nazanin"/>
              </a:rPr>
              <a:t>فرآیند تعیین بهای تمام شده کالا و خدمات اصطلاحا</a:t>
            </a:r>
            <a:r>
              <a:rPr b="1" lang="fa-IR" sz="1800" spc="-1" strike="noStrike">
                <a:solidFill>
                  <a:srgbClr val="0070c0"/>
                </a:solidFill>
                <a:latin typeface="Tw Cen MT"/>
                <a:ea typeface="B Nazanin"/>
              </a:rPr>
              <a:t> بهایابی </a:t>
            </a:r>
            <a:r>
              <a:rPr b="0" lang="fa-IR" sz="1800" spc="-1" strike="noStrike">
                <a:solidFill>
                  <a:srgbClr val="0070c0"/>
                </a:solidFill>
                <a:latin typeface="Tw Cen MT"/>
                <a:cs typeface="B Nazanin"/>
              </a:rPr>
              <a:t>نامیده می شود .به عبارت دیگر بهایابی مجموعه اقدامات و فعالیتهایی است که در جهت تعیین بهای تمام شده کالاها و خدمات صورت می گیر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موضوع بهایابی </a:t>
            </a:r>
            <a:r>
              <a:rPr b="0" lang="fa-IR" sz="1800" spc="-1" strike="noStrike">
                <a:solidFill>
                  <a:srgbClr val="0070c0"/>
                </a:solidFill>
                <a:latin typeface="Tw Cen MT"/>
                <a:cs typeface="B Nazanin"/>
              </a:rPr>
              <a:t>هم در واقع همان چیزی است که به دنبال تعیین بهای تمام شده آن هستیم . موضوع بهایابی می تواند یک محصول ، یک خدمت ، یک طرح و یا یک سفارش باشد</a:t>
            </a:r>
            <a:r>
              <a:rPr b="0" lang="fa-IR" sz="1800" spc="-1" strike="noStrike">
                <a:solidFill>
                  <a:srgbClr val="0070c0"/>
                </a:solidFill>
                <a:latin typeface="Tw Cen MT"/>
                <a:ea typeface="B Nazanin"/>
              </a:rPr>
              <a:t> </a:t>
            </a:r>
            <a:r>
              <a:rPr b="0"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w Cen MT"/>
                <a:cs typeface="B Nazanin"/>
              </a:rPr>
              <a:t>نکته : حسابداری بهای تمام شده هم در موسسات تولیدی و هم در موسسات خدماتی کاربرد دارد</a:t>
            </a:r>
            <a:r>
              <a:rPr b="1" lang="fa-IR" sz="1800" spc="-1" strike="noStrike">
                <a:solidFill>
                  <a:srgbClr val="ff0000"/>
                </a:solidFill>
                <a:latin typeface="Tw Cen MT"/>
                <a:ea typeface="B Nazanin"/>
              </a:rPr>
              <a:t> </a:t>
            </a:r>
            <a:r>
              <a:rPr b="1" lang="fa-IR" sz="1800" spc="-1" strike="noStrike">
                <a:solidFill>
                  <a:srgbClr val="ff000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نواع سیستمهای بهایابی</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 </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در حسابداری بهای تمام شده برای تعیین بهای کالا و خدمات از سیستمهای بها یابی استفاده می شود  . این سیستم ها شامل</a:t>
            </a:r>
            <a:r>
              <a:rPr b="1" lang="fa-IR" sz="1800" spc="-1" strike="noStrike">
                <a:solidFill>
                  <a:srgbClr val="0070c0"/>
                </a:solidFill>
                <a:latin typeface="Tw Cen MT"/>
                <a:ea typeface="B Nazanin"/>
              </a:rPr>
              <a:t> </a:t>
            </a:r>
            <a:r>
              <a:rPr b="1" lang="fa-IR" sz="1800" spc="-1" strike="noStrike">
                <a:solidFill>
                  <a:srgbClr val="0070c0"/>
                </a:solidFill>
                <a:latin typeface="Tw Cen MT"/>
                <a:ea typeface="B Nazanin"/>
              </a:rPr>
              <a:t>:</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الف : سیستم بهایابی سفارش کار</a:t>
            </a:r>
            <a:endParaRPr b="0" lang="en-US" sz="1800" spc="-1" strike="noStrike">
              <a:solidFill>
                <a:srgbClr val="000000"/>
              </a:solidFill>
              <a:latin typeface="Tw Cen MT"/>
            </a:endParaRPr>
          </a:p>
          <a:p>
            <a:pPr algn="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70c0"/>
                </a:solidFill>
                <a:latin typeface="Tw Cen MT"/>
                <a:cs typeface="B Nazanin"/>
              </a:rPr>
              <a:t>ب : سیستم بهایابی مرحله ای</a:t>
            </a:r>
            <a:endParaRPr b="0" lang="en-US" sz="1800" spc="-1" strike="noStrike">
              <a:solidFill>
                <a:srgbClr val="000000"/>
              </a:solidFill>
              <a:latin typeface="Tw Cen MT"/>
            </a:endParaRPr>
          </a:p>
        </p:txBody>
      </p:sp>
      <p:pic>
        <p:nvPicPr>
          <p:cNvPr id="816" name="AUD-20200409-WA0003.m4a" descr=""/>
          <p:cNvPicPr/>
          <p:nvPr/>
        </p:nvPicPr>
        <p:blipFill>
          <a:blip r:embed="rId1"/>
          <a:stretch/>
        </p:blipFill>
        <p:spPr>
          <a:xfrm>
            <a:off x="5851440" y="3184560"/>
            <a:ext cx="487440" cy="487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816"/>
                    </p:tgtEl>
                  </p:cond>
                </p:stCondLst>
                <p:childTnLst>
                  <p:par>
                    <p:cTn id="67" nodeType="clickEffect" fill="hold">
                      <p:stCondLst>
                        <p:cond evt="onClick">
                          <p:tgtEl>
                            <p:spTgt spid="816"/>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243460" fill="hold"/>
                                        <p:tgtEl>
                                          <p:spTgt spid="8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9T17:49:09Z</dcterms:created>
  <dc:creator>Windows User</dc:creator>
  <dc:description/>
  <dc:language>en-US</dc:language>
  <cp:lastModifiedBy>Windows User</cp:lastModifiedBy>
  <dcterms:modified xsi:type="dcterms:W3CDTF">2020-04-09T17:54:57Z</dcterms:modified>
  <cp:revision>2</cp:revision>
  <dc:subject/>
  <dc:title>PowerPoint Presentation</dc:title>
</cp:coreProperties>
</file>