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E3F95-078F-4811-BDF6-4F7A54ED5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E9629-48B4-4C7E-9363-BC0A9FC08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FC1ED3-C07C-4271-B951-94FA24CEE7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6461F6-C053-4038-A4D5-5265D8CB05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50798D-A7F9-4F59-86ED-A31B689652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D1AE4C-A2D6-4560-823F-6B23E4868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AE18B5-AADB-437E-99AB-FE9E26C2E5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FA9B80-B2DB-4916-B732-BCA89A7674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751433-5B81-4FFD-9E0D-09495A6A56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79856B-CD27-4C4D-A4F0-929920A990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6E9F99-D037-4BAF-9594-0D76E400E9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562530-ABEC-4392-BA43-140448D1A6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94590-E130-4EF0-90C9-5B0490F61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6D8F14-14F7-4035-99F2-B1011751C4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F78C9A-87DA-4EE6-AF35-7B35895719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999E3E-3B60-4271-B14E-2797755C7D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9B7DC0-65F6-4A46-8FBD-E3BF7389B9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6E34B8-94EC-4C15-AE9E-749F0E3DAD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622657-3BE2-45C5-BEF6-AAA06FEFFF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7D1895-B193-400B-B288-1EC851C6C0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D8C4F0-EAD5-4BBD-9AB7-52803FAEE1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B5ABDE-5827-4F36-BEA1-EFAD150E0F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1763415-897D-4360-80DD-951513C940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6B2DD-4BC4-4257-B48C-D3467C297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DA2D37-8BE5-49CB-8587-07E589E233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8F4F90-932D-4F20-A169-C2B76D0A7E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14CB56-0A0B-4FAD-AC0F-9E03A01C6C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5BC754-FF09-47C2-83D8-55EC9DF18D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85464F-BA3C-4037-8A60-735348D50A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6E1096-ED90-4446-9EED-D4CE802AF7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7F307E-32E5-4540-84B9-1DC18485DD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E1DE03-E210-40F0-9413-B50E2E9E64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24984B-39EC-420E-BDFF-4D87CFA300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0DBCC6-92A0-4028-AF13-CC1D474949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B959B-D178-4767-8201-2210E1255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C2711A-F2A1-478E-A15B-7E3943C021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E5CD51-70E1-401C-8499-71C758ABF5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4A4BE8-8A9D-4F36-8A6B-2A030E57CE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D6AE0A-E08C-4739-8CEE-2E5B1A0BC0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0D9A85-562A-4E28-A892-830E850ECB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B9FC59-417A-41BE-B300-19AE7E3C29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DC1227-7441-4F33-8C72-78ECC5E268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F90F57-9A7F-4A71-9388-BD2429DF20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9983BA-5CF5-4671-B691-F193F3EAC6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3FD504-B2DD-4A86-B4DC-C08A1730A3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B4F6C-43E0-4B09-98D7-BC1AA62B0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1692B9-41B7-487C-8520-DF4D3D3D65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37C13D-85B4-4E11-B92D-6CEF21D3BA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12D9E3-D62D-4C69-8C7D-B139E1CC32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AF66B1-03C8-4DBE-990B-34D2871E92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5D74E4-B880-48EB-BC3F-9276C2958A2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00C794C-BA70-479A-8922-3336E324C3B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09377D-9192-41B0-BB09-BE92CD1A8C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202BC9-7EE2-4013-88A3-FB700106A8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9925D3-C44D-40C1-9C14-80090BEB8B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085C06-27F0-4D0F-89E3-C9A96905E2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CF6D0-4B55-4FE3-A76B-2A50F9EB7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DCD5CD-F294-4A31-A3EE-64F529FABC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CB5FF1-8E3E-455B-9B89-1F70C1D116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D23E9F-A46A-4F5A-AC5B-5DCB3A2E32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2D7093-B030-4A68-9982-1CBFC57239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0CE997-A49B-4BF0-9FC5-36DC359FF3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FF767CC-8246-4FC9-B7E2-FE7FF1C981F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B0C4B3-A314-4383-AF51-AD366534EBD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DF51BF7-BA28-43C6-95FA-0B4A138BD51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D455D96-BF66-49C7-ABD9-1E2EFFDC00E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FA37EF-2120-4D5C-833A-FDCD20E8DB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42D3C-F5E9-4330-BF9B-F9A7AFC53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F15702-505C-41F5-940D-43DB1B4E44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1F356A-AE05-4779-942A-3AAD8AE3E1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4BA4044-00D6-4F05-B92A-AAC3CD68F55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5BA0BE-515E-4251-9242-5C7BAA7834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C4B91F-531C-4970-AE95-CAD5BD22DF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FAB5D6-445E-4B84-BC71-60612545C1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9E00627-1493-4341-9044-3695FDD060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CEBC874-D57D-44D9-97EF-C35121C98CE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9E4C349-A16A-497E-A3D7-EB768583678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47CEC78-A498-43C9-A039-502D6608EDA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984EB-D455-4774-AF8F-C61FB9DD3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ADDB06E-EE6A-419C-91F7-DC9CE25220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954607-5610-45ED-9359-C301B578B8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E652AD-04DE-4DB9-A645-08455329287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16BF22-15D3-4D15-9085-08ADF22FEC7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609DC7F-5C3F-4351-8565-EBFA6FE4D6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CA5859-B7ED-46BF-9832-7DA84420EAC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487B03D-017E-4A63-A94E-8D86D44A3D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AECEBE-B79E-4DFE-A211-F93E9F0D9A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7FEF1BA-C21B-45C5-AF04-8656F237B89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4E83E5C-2025-40E6-909A-D16BC15634A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78B73-D04A-4B88-88F4-52C908B9C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1A53CC4-1515-4BEE-B185-D16DD269830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DE91849-6510-4ED3-A822-ED04836B2BF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59DE86D-B73F-451E-B174-E153E3E9F9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1246646-0B25-4A6D-96E1-E046CE7DE4D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0455324-8D37-4E63-819B-F0B908475DD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780256F-5BAD-46AB-8A7D-14A1F4CB183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DF02DBF-5BA3-48C5-AED1-CD786C64E49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6BC606-E2F8-424D-91EE-4FC1E8EDDB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F749FC-0ACE-41CB-9D3E-B72507AFCC8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2973D1-9B1E-441E-8017-7AA20F5E51F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7050B-5A50-4BDD-8C94-AC781B857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B43B524-8CC1-4139-8AF4-BB3C8F6BA46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59524D9-BC70-4406-AA33-32231EEE597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F2039EB-91BA-4A96-8599-B99EFEFEB23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3C434B8-D9CD-4766-ADBE-9B851515BC7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A9EBB13-E113-4CBE-8FA7-74031147A4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C8CE29E-38B0-44A1-8F91-172382A21CD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3933803-7144-4C78-BB0B-1DA175D497B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20FB88-36D2-4216-83C7-34820F3F7BA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B95959F-D95B-45B2-9AF5-D33ECD10CEE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844BA81-057E-4F97-B50E-CC162EDA74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A3FBD-C4CB-4A76-AB4B-172493F7C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F2B1D-2E92-49E3-9F29-B2908FB01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947B4B-24F1-47F8-B9E0-20D101BDF80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A9AB9A-1945-405F-B53B-24290E24BA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1A545C-F4B9-4203-B8E8-3B484730F15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D3E2A16-ADA6-4738-B00D-1915C2EA1DB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02986CC-1AA8-44E5-952E-8F0B56B7183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FD021C7-D830-4B8E-86FE-96704A9466F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0F6DCC3-6A94-4D5D-9A8A-A9BBE37EB1B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49539DE-ABC8-4C02-B376-7BFFDD000FB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71B538-BD5E-4533-9FCF-FD1A9C36A7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5F7627D-83CC-4B59-85D4-328EDD772EC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4293A-9F96-4B0D-9183-443528824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7BBCB6E-E6EC-4CF5-9E20-36490F09BB2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C908B1E-7957-42FF-891E-092122CA86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8D77A3-1C2B-4FE0-A961-BCAD57CE5C4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665F48-E6CC-4FD5-B3D6-83D84E094C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E8C566E-A8C0-42AD-B3A6-4E1B2CA7151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1AA1E38-6C5B-4252-A118-E65795E8085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601BA9F-92ED-4869-AE68-0A283E67AE4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87951-2A51-4F81-AA60-202A6A1F2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2EEAF-44C3-42D5-A59B-B2C5EAC88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D2855-15F1-4A67-91F2-ADCD3A905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0C2686-3DAD-4127-9679-A7FC0CA905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69031-ABE7-459D-9A23-6F22B18C2F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CB56D0-400C-42A1-9AA7-3198C7D1E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3BF18-E32F-456C-A2C1-12181C7DF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B9D86-6B62-4A27-8F86-4AEFB14CD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EE41C-E4AA-4218-B2BA-7DF00D44C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77FBA-1E91-496E-BA8C-AD14A2DC9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A088A-9B45-4B23-9857-56CD6CE67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5EA0E-68F9-428A-9272-FE7086B55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EA824-F61D-4719-BE37-7251D1057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91F81-C4D2-4996-8E9B-F07F16B2B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574373-F961-435E-BB84-129060EB61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6BFA01-A98C-4C05-8B68-B042383BE3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0DC5E1-9353-4B15-A21C-668763D6E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570DF4-6532-43F7-A1ED-120CE62F12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EA3B2-D8F0-4A8F-8C0E-C9AA795D5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41559-FBD1-4C3F-B6B4-4532C66E9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B07F4-B617-41E4-9687-062D5F9B0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B51DC-003D-4642-8AAF-ADC7CFA00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486D46-7E57-4BB0-BDDD-AEBD31599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018D4-479C-4902-888F-DBBFA593B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EF926C-08D4-425C-BB20-63EDC6A05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F8735-1C05-4275-8890-D91F7D75E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B9FED-2C07-4D26-BA13-D8EF217B3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5F7956-5601-459E-8577-F77CD02C7D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FEF474-729A-446A-9457-84E69D28C3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9A7458-4825-430B-869A-D4F06DEBB1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0B0B9-AE59-4269-9BB6-57E217C3F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35EAD5-ED6A-46B6-9A27-93F9F354ED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FCFDEA-D54E-4F11-8E37-9BD18BF98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EF3119-1860-44C5-989E-954710424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505D6-EC5E-4010-B283-46586D0F81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D62BE6-B3DC-4822-8E6D-CF70116B65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60B0E7-BB96-460A-BDF7-AAADE9CB7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7F509-2E20-4C2C-87C2-BFAF74E56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282EF-DB41-4EB0-BD56-53F19051E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48A298-8540-492D-BAEE-896F7C0E6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EF303F-DE9C-4787-A75D-E8EB040902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6E12F-9FCE-4471-A473-594E7BF9C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546EEA-059A-4052-AC4F-6A6E587341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FB53ED-1D17-40CF-B0CF-76BCEF0CC8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9EBD32-EAA4-463D-BB3E-5BB270D6B8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E54613-FFE3-418F-982E-51DEB23A9A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6C679-2BFE-4BAA-90A5-6EE884BA5F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0ECB78-2A6E-46B4-89F4-1F0CDC541F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DBF6BF-F578-4D9E-9061-F01C9953D2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097FA-18A8-4F6B-BEBB-82E4729F44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DEFAA-FDD7-411A-A93E-058085004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7A1B7-82E9-4EDC-A5FE-FB22FD74F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8774F-55B1-4246-8D24-250D8C469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0F85C5-EFEE-47A7-B9FB-DC4125376D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6DBAB0-0772-4D11-87BE-935A2EEE92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725887-1EF6-41E4-8B47-48342BBED2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D26286-00FE-4A39-98DE-0668CC622C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51DAAE-9239-45E3-9137-C7C1324387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5E8A3B-B7A0-47E1-A820-E9BE1087C7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B95EA-7095-4819-9806-7078ED7D6D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62A893-5171-46EE-893A-364DB546F9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7CA577-EA1F-4DBF-A836-81BBCF557D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EB695B-B91D-40A8-9CB1-C94025C33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AD0C3-D641-474E-A1FF-A86B7555C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1A2C0-D579-4E3D-BD63-047E84126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EB556-173D-4A56-9D98-5D0C2D6DC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6C0AAD-6A69-4E6B-B3C8-5C1E7AF342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206174-1365-43F1-BAF4-C12C947191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6008CF-9746-4AEE-AFAF-FA3AD76B04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B6B2D2-A5BD-407B-AB05-8CCB160327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688310-5D5F-42A6-9D75-041D37DC62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104243-B485-4B69-8304-B4CC0B4FDC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259F58-631E-4D9D-9E95-51CFC7EEB4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D67CB8-3B97-4165-9138-ECF5FD1D36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C19AF-334F-467D-BECD-C0F97FD83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EF277D-1771-489C-8E6A-A86458D31C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F3C150-5ED3-4AAF-9B3A-EC4E710B5E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7E580-47E4-4E3D-9DEB-93951DF5F8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A09EBC-E1D8-4829-A805-FDA3B8CE3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B637A1-B0EB-495B-8AD4-C6DC59860F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18DCA8-D4B5-4630-AD50-F4A55ED950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440D04-D06E-4F8F-8994-E33331AE61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498793-861E-4427-88F7-1F7C9DF4F4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217EC0-9DE1-471E-AA0F-FBA5DC184E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FEE453-8AD4-453A-AF1B-1E0F5C9F73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BD9B6-36A8-40FB-9A27-6C62D81B70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0FCB7-BC6D-473D-8D12-F2E153BB66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A502A-DB26-4EFF-88DA-6CB0AE8E38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55BA6-6BF0-4FD6-BE3F-F2AF1078A9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C32EA-8558-4A3D-8135-506525E32B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5C6EB-9A0C-466C-BA2C-E37C74D3C2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8575A-34E9-46CA-9095-DE511B4294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BF7CE-EC5C-4BE8-AD2E-30532F0579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100B6-43D3-43B4-8B92-D54963B94BE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3CEE5-3309-48FA-9207-8FE3B2B310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C7E23-969D-4FD2-B4A5-8E25CB1DAE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955DB-A48D-4851-BF3D-2250EAE0F4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9886D-AE03-41C2-BA80-4DD330BCAE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26689-F174-431F-B301-21AE2B3AE9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0ACA1-4F1E-4318-89EF-42C2D0E00B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5F01F-1BC8-4460-A455-A6AD3A19C60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37B9F-DAC5-446B-9DB8-5DADEED709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03695-CF45-4153-AEB1-C4F3754A19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914040" y="618840"/>
            <a:ext cx="10363320" cy="561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w Cen MT"/>
                <a:cs typeface="Times New Roman"/>
              </a:rPr>
              <a:t>بهای ثابت</a:t>
            </a:r>
            <a:r>
              <a:rPr b="0" lang="fa-IR" sz="3200" spc="-1" strike="noStrike">
                <a:solidFill>
                  <a:srgbClr val="000000"/>
                </a:solidFill>
                <a:latin typeface="Tw Cen MT"/>
                <a:ea typeface="Times New Roman"/>
              </a:rPr>
              <a:t> </a:t>
            </a:r>
            <a:endParaRPr b="0" lang="en-US" sz="3200" spc="-1" strike="noStrike">
              <a:solidFill>
                <a:srgbClr val="000000"/>
              </a:solidFill>
              <a:latin typeface="Tw Cen MT"/>
            </a:endParaRPr>
          </a:p>
        </p:txBody>
      </p:sp>
      <p:sp>
        <p:nvSpPr>
          <p:cNvPr id="776" name=""/>
          <p:cNvSpPr txBox="1"/>
          <p:nvPr/>
        </p:nvSpPr>
        <p:spPr>
          <a:xfrm>
            <a:off x="914040" y="1114200"/>
            <a:ext cx="10363320" cy="46767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هایی هستند که مبلغ کل آنها در یک دوره زمانی معین در یک دامنه مربوط با تغییر عامل بها تغییر نمی کنند اما نرخ آنها برای هر واحد از عامل بها ثابت نیست و متناسب با افزایش عامل بها کاهش می یاب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77" name="Picture 5" descr=""/>
          <p:cNvPicPr/>
          <p:nvPr/>
        </p:nvPicPr>
        <p:blipFill>
          <a:blip r:embed="rId1"/>
          <a:stretch/>
        </p:blipFill>
        <p:spPr>
          <a:xfrm>
            <a:off x="0" y="1866960"/>
            <a:ext cx="9848880" cy="5057640"/>
          </a:xfrm>
          <a:prstGeom prst="rect">
            <a:avLst/>
          </a:prstGeom>
          <a:ln w="0">
            <a:noFill/>
          </a:ln>
        </p:spPr>
      </p:pic>
      <p:pic>
        <p:nvPicPr>
          <p:cNvPr id="778" name="26.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8"/>
                    </p:tgtEl>
                  </p:cond>
                </p:stCondLst>
                <p:childTnLst>
                  <p:par>
                    <p:cTn id="3" nodeType="clickEffect" fill="hold">
                      <p:stCondLst>
                        <p:cond evt="onClick">
                          <p:tgtEl>
                            <p:spTgt spid="778"/>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16992" fill="hold"/>
                                        <p:tgtEl>
                                          <p:spTgt spid="7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0"/>
            <a:ext cx="10363320" cy="156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 مخلوط</a:t>
            </a:r>
            <a:endParaRPr b="0" lang="en-US" sz="3600" spc="-1" strike="noStrike">
              <a:solidFill>
                <a:srgbClr val="000000"/>
              </a:solidFill>
              <a:latin typeface="Tw Cen MT"/>
            </a:endParaRPr>
          </a:p>
        </p:txBody>
      </p:sp>
      <p:sp>
        <p:nvSpPr>
          <p:cNvPr id="780" name=""/>
          <p:cNvSpPr txBox="1"/>
          <p:nvPr/>
        </p:nvSpPr>
        <p:spPr>
          <a:xfrm>
            <a:off x="914040" y="2048040"/>
            <a:ext cx="10363320" cy="37432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ی مخلوط که بهای نیمه متغیر نیز نامیده می شود بهایی است که بخش از آن ثابت و بخشی متغیر است . مانند بهای آب و برق مصرفی که آبونمان آن بخش ثابت بوده که به میزان مصرف ارتباطی ندارد اما بش دیگر آن متغیر است که با میزان مصرف افزایش می یابد . با ذکر یک مثال معادله ونمودارهای آن را توضیح می دهیم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81" name="27.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81"/>
                    </p:tgtEl>
                  </p:cond>
                </p:stCondLst>
                <p:childTnLst>
                  <p:par>
                    <p:cTn id="9" nodeType="clickEffect" fill="hold">
                      <p:stCondLst>
                        <p:cond evt="onClick">
                          <p:tgtEl>
                            <p:spTgt spid="781"/>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54101"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1" descr=""/>
          <p:cNvPicPr/>
          <p:nvPr/>
        </p:nvPicPr>
        <p:blipFill>
          <a:blip r:embed="rId1"/>
          <a:stretch/>
        </p:blipFill>
        <p:spPr>
          <a:xfrm>
            <a:off x="146160" y="109440"/>
            <a:ext cx="12045960" cy="6748560"/>
          </a:xfrm>
          <a:prstGeom prst="rect">
            <a:avLst/>
          </a:prstGeom>
          <a:ln w="0">
            <a:noFill/>
          </a:ln>
        </p:spPr>
      </p:pic>
      <p:pic>
        <p:nvPicPr>
          <p:cNvPr id="783" name="28.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783"/>
                    </p:tgtEl>
                  </p:cond>
                </p:stCondLst>
                <p:childTnLst>
                  <p:par>
                    <p:cTn id="15" nodeType="clickEffect" fill="hold">
                      <p:stCondLst>
                        <p:cond evt="onClick">
                          <p:tgtEl>
                            <p:spTgt spid="783"/>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246776" fill="hold"/>
                                        <p:tgtEl>
                                          <p:spTgt spid="7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914040" y="146160"/>
            <a:ext cx="10363320" cy="777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نکات مربوط به بهای ثابت ، متغیر ، نیمه متغیر</a:t>
            </a:r>
            <a:endParaRPr b="0" lang="en-US" sz="3600" spc="-1" strike="noStrike">
              <a:solidFill>
                <a:srgbClr val="000000"/>
              </a:solidFill>
              <a:latin typeface="Tw Cen MT"/>
            </a:endParaRPr>
          </a:p>
        </p:txBody>
      </p:sp>
      <p:sp>
        <p:nvSpPr>
          <p:cNvPr id="785" name=""/>
          <p:cNvSpPr txBox="1"/>
          <p:nvPr/>
        </p:nvSpPr>
        <p:spPr>
          <a:xfrm>
            <a:off x="914040" y="923400"/>
            <a:ext cx="10363320" cy="4867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بهای متغیر هر واحد و بهای ثابت کل ثابت می باش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بهای متغیر کل افزایشی و صعودی بوده اما بهای ثابت هر واحد کاهشی و نزولی می باش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شیب نمودار متغیر کل برابراست با بهای متغیر هر واح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نمودار متغیر هر واحد و نمودار ثابت کل ، خطی و ثابت هست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نمودار متغیر کل صعودی با شیب ثابت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6</a:t>
            </a:r>
            <a:r>
              <a:rPr b="1" lang="fa-IR" sz="1800" spc="-1" strike="noStrike">
                <a:solidFill>
                  <a:srgbClr val="0070c0"/>
                </a:solidFill>
                <a:latin typeface="Tw Cen MT"/>
                <a:ea typeface="B Nazanin"/>
              </a:rPr>
              <a:t>- نمودار ثابت هر واحد غیر خطی و نزولی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7</a:t>
            </a:r>
            <a:r>
              <a:rPr b="1" lang="fa-IR" sz="1800" spc="-1" strike="noStrike">
                <a:solidFill>
                  <a:srgbClr val="0070c0"/>
                </a:solidFill>
                <a:latin typeface="Tw Cen MT"/>
                <a:ea typeface="B Nazanin"/>
              </a:rPr>
              <a:t>- در حسابداری بهای تمام شده بها فقط به دو دسته تقسیم می شود ( ثابت و متغیر ) و در مورد بهای مخلوط بخش ثابت آن به بهای ثابت و بخش متغیر آن به بهای متغیراضافه می شود . </a:t>
            </a:r>
            <a:endParaRPr b="0" lang="en-US" sz="1800" spc="-1" strike="noStrike">
              <a:solidFill>
                <a:srgbClr val="000000"/>
              </a:solidFill>
              <a:latin typeface="Tw Cen MT"/>
            </a:endParaRPr>
          </a:p>
        </p:txBody>
      </p:sp>
      <p:pic>
        <p:nvPicPr>
          <p:cNvPr id="786" name="29.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786"/>
                    </p:tgtEl>
                  </p:cond>
                </p:stCondLst>
                <p:childTnLst>
                  <p:par>
                    <p:cTn id="21" nodeType="clickEffect" fill="hold">
                      <p:stCondLst>
                        <p:cond evt="onClick">
                          <p:tgtEl>
                            <p:spTgt spid="786"/>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98056" fill="hold"/>
                                        <p:tgtEl>
                                          <p:spTgt spid="7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14040" y="182160"/>
            <a:ext cx="10363320" cy="1033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مفروضات اصلی رفتا بها</a:t>
            </a:r>
            <a:endParaRPr b="0" lang="en-US" sz="3600" spc="-1" strike="noStrike">
              <a:solidFill>
                <a:srgbClr val="000000"/>
              </a:solidFill>
              <a:latin typeface="Tw Cen MT"/>
            </a:endParaRPr>
          </a:p>
        </p:txBody>
      </p:sp>
      <p:sp>
        <p:nvSpPr>
          <p:cNvPr id="788" name=""/>
          <p:cNvSpPr txBox="1"/>
          <p:nvPr/>
        </p:nvSpPr>
        <p:spPr>
          <a:xfrm>
            <a:off x="914040" y="1079640"/>
            <a:ext cx="10363320" cy="47116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تغییر در سطح عامل بها در یک دامنه مربوط رخ می دهد . منظور از دامنه مربوط محدوده ای از سطح فعالیت یا عامل بها است که در آن جمع بهای ثلبت کل و بهای متغیر هر واحد با تغییر سطح فعالیت یا عامل بها تغییر نکرده و ثابت می ماند . به عبارت دیگر دامنه مربوط عبارت است از حد فاصل بین حداقل و حداگثر سطح فعالیت یا عامل بها می باشد که در این حدفاصل بهای ثابت کا و بهای متغیر هر واحد ثابت می مان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رفتار بها را بایستی در یک دوره مشخص در نظر گرفت مثلا در مورد اجاره معمولا این مدت یکساله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موضوع بهایابی یک موضوع خاص است و تمامی عوامل بر حسب آن سنجیده می شو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تنها یک عامل بها وجود دارد و تاثیر سایر عوامل نادیده گرفته می شو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بها تنها به دو دسته ثابت و متغیر تقسیم می شود .</a:t>
            </a:r>
            <a:endParaRPr b="0" lang="en-US" sz="1800" spc="-1" strike="noStrike">
              <a:solidFill>
                <a:srgbClr val="000000"/>
              </a:solidFill>
              <a:latin typeface="Tw Cen MT"/>
            </a:endParaRPr>
          </a:p>
        </p:txBody>
      </p:sp>
      <p:pic>
        <p:nvPicPr>
          <p:cNvPr id="789" name="30.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789"/>
                    </p:tgtEl>
                  </p:cond>
                </p:stCondLst>
                <p:childTnLst>
                  <p:par>
                    <p:cTn id="27" nodeType="clickEffect" fill="hold">
                      <p:stCondLst>
                        <p:cond evt="onClick">
                          <p:tgtEl>
                            <p:spTgt spid="789"/>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27242"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914040" y="191880"/>
            <a:ext cx="10363320" cy="1298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جلسه چهارم</a:t>
            </a:r>
            <a:endParaRPr b="0" lang="en-US" sz="3600" spc="-1" strike="noStrike">
              <a:solidFill>
                <a:srgbClr val="000000"/>
              </a:solidFill>
              <a:latin typeface="Tw Cen MT"/>
            </a:endParaRPr>
          </a:p>
        </p:txBody>
      </p:sp>
      <p:sp>
        <p:nvSpPr>
          <p:cNvPr id="791" name=""/>
          <p:cNvSpPr txBox="1"/>
          <p:nvPr/>
        </p:nvSpPr>
        <p:spPr>
          <a:xfrm>
            <a:off x="914040" y="1490760"/>
            <a:ext cx="10363320" cy="4300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سر فصل مطالب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ارتباط رفتار بها و قابلیت رهگیری بها</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طبقه بندی بها بر مبنای ارتباط با محصو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a:t>
            </a:r>
            <a:r>
              <a:rPr b="1" lang="fa-IR" sz="1800" spc="-1" strike="noStrike">
                <a:solidFill>
                  <a:srgbClr val="000000"/>
                </a:solidFill>
                <a:latin typeface="Tw Cen MT"/>
                <a:ea typeface="B Nazanin"/>
              </a:rPr>
              <a:t> </a:t>
            </a:r>
            <a:r>
              <a:rPr b="1" lang="fa-IR" sz="1800" spc="-1" strike="noStrike">
                <a:solidFill>
                  <a:srgbClr val="0070c0"/>
                </a:solidFill>
                <a:latin typeface="Tw Cen MT"/>
                <a:cs typeface="B Nazanin"/>
              </a:rPr>
              <a:t>طبقه بندی بر مبنای ارتباط با حوزه عملکرد</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طبقه بندی بر مبنای دوره انتقاع</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طبقه بندی بر مبنای قابلیت کنتر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92" name="31.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792"/>
                    </p:tgtEl>
                  </p:cond>
                </p:stCondLst>
                <p:childTnLst>
                  <p:par>
                    <p:cTn id="33" nodeType="clickEffect" fill="hold">
                      <p:stCondLst>
                        <p:cond evt="onClick">
                          <p:tgtEl>
                            <p:spTgt spid="792"/>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17879" fill="hold"/>
                                        <p:tgtEl>
                                          <p:spTgt spid="7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52:33Z</dcterms:created>
  <dc:creator>Windows User</dc:creator>
  <dc:description/>
  <dc:language>en-US</dc:language>
  <cp:lastModifiedBy>Windows User</cp:lastModifiedBy>
  <dcterms:modified xsi:type="dcterms:W3CDTF">2020-04-09T17:58:12Z</dcterms:modified>
  <cp:revision>2</cp:revision>
  <dc:subject/>
  <dc:title>PowerPoint Presentation</dc:title>
</cp:coreProperties>
</file>