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115E-5E03-4CE7-88FF-F28E973D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167-FA12-4481-A74A-34E9DF83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0259E-DC44-4A7D-8F49-931FD0E6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85617-2662-4345-A7A8-CC891D9E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0E23F-7030-453E-AFF5-0329A09D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7FF6E-E766-425A-A1FB-1A98F7AC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E348E-D3B1-44D4-BDDE-9E65A1BE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9D2C1-4ECE-4E60-BB6E-8BEDEC66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E93A0-7E0D-4460-B2A7-060A364C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438BF-378C-4D5B-961B-5D739B72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470F7-DBDF-4109-886E-EDCBFF90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9656F-504C-478E-9EFC-1632E6C3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990-D39D-4E6A-9987-4E5F227D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1DF16-FE32-4461-9B18-15CAA7AA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3B703-5981-4DB8-B8D2-30DA0100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C7420-4269-48B7-8153-96187ABA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382A1-E4C1-45C1-9091-E5334FB5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CF641-2C30-4CB4-9B36-882EEE0E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30ABA-EFCC-455B-8EFA-20902F02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89676-7039-4310-9266-BCC28298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4F1D6-CE6B-46D4-AD85-5190428B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0D8DA-F678-4BE6-A9C9-7CED615B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B48BB-D0F0-4557-8632-5EC9F733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95A-3577-49D1-9C1C-0D0C4910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3F36D-6EAC-4790-B88B-BF3FFB2B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334B5-7443-4656-849B-43393BEE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96AC7-03E3-4B86-A9D9-38262EB2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2C013-D3F0-4E38-ABA8-60EC5382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FD2FC-99FD-411F-94DC-99540350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1CAD1-186A-4EF3-81B9-FB1DD334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C1D20-1554-43F7-A2FA-F7A97DEB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46250-88CC-46E2-A703-7EDE1814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ED3FD-B494-4CE1-AC03-DC1F3516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DD721-99CB-4A2F-8490-B2619E4A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C8AD-C6DF-4C02-8DE7-E7187440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FB552-3088-4373-89FF-B00A56D7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0BD34-FCEB-426F-9969-175C6303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ACE16-9800-4C61-B30B-9D7380A7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01879-F57C-4DFC-B979-FF22049D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E93BE-920B-4A7F-972D-045E01EE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A7D85-D1B7-4E5B-A03F-4BA7AD67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88EDA-61D0-4BC3-B139-E5D383DA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CB3C1-9558-49E1-9160-7C5F8C51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40EC0-7906-4E05-8B82-234812F2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E1F8F-4BDE-4467-9913-FD1AFE62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6E8F-0F4A-4EE2-8053-C39ACAA0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1AD3B-EEA1-4700-B00B-146068C6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FBFD3-6991-46D1-B627-4B431660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892D7-07B6-4544-B0CE-5E8A07ED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5B1FE-8C36-4E40-ADDB-16A7C95B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58F30-5F88-4EC1-B151-2A940044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4AA9D-FB52-4957-8C55-4C3BD3AD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BF141-0F5E-4EE5-A8F6-BABD6D52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ADA67-7A3A-4411-8837-6919D9F5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42ABF-40A2-4481-AFE3-C060BD99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B9FE6-8600-423A-B731-C11F56E3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89F1-E78E-4D18-BEFB-A3FD4CD9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ABF6F-C451-48BC-BADC-A8E9181B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98E062-DA0A-4928-899F-F0DE0EC0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90389-EF27-42CD-9732-E19CA275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9BBB21-C423-4851-A851-895AB587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E89852-6877-46A7-AB1C-73818B85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501A7-0AFC-483E-B885-437D197C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30E47-4647-443B-8C76-F7E97633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893DE-36EA-44CE-84D0-269ED313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6E16BB-CD1D-49E6-BE69-1DA4F4F6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23E5CE-CD33-4BFB-97C2-2B7168D0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B7D2-CFB6-4DAB-B563-18D291D2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AD10E6-985E-4D85-910B-2D13B630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E26FB4-8767-479D-88D6-64AF876A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CCD2B6-48EF-49A0-A47E-E3CA4809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EB9C54-CCE8-43E6-9D30-1CD86590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81BF1-A270-4F25-B562-14B240BE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A4CF2-8D5C-499D-9E4A-EEF53DB0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27CC3-89AE-4CFD-AF1B-A378D051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AF21FC-F96B-46A6-9390-6305D81F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BF583C-2841-4A95-AF5F-2025BE3C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E8DF9B-1BF4-464D-BE74-18A70A94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B0CC-551F-4493-9D0B-BB29CF55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969A6-F5B0-4B0C-AD58-A88652DD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935295-EDA8-46CA-A97B-B50E8802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C847F5-F676-4B10-BAE4-44FF8C8B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D05319-447B-4299-B7D0-09559AD1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6CA0EE-8862-4870-AFF8-EAF3F17B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64A88C-8441-445E-9BAE-4F84A639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2F136-CD1B-4BF5-8425-7E239A12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E340C-FAD4-4A4C-BD97-5A82434C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1E91F4-0622-4C66-A8DA-455D734F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218DB4-7F9A-4DFA-88E4-B81A07AE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BC54-D869-4772-8B97-20035476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8EA001-5532-406F-A306-BB9F50C7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0CC99E-FD30-43A3-9320-C7A10FA9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BA67D9-2656-41A0-B485-2BAA531E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893312-06FC-4EBB-B2C9-BC7904CA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041071-E548-4298-9AF8-4B25118C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E0EB0C-CB2A-4D03-BE2E-65F613E9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A08AB1-93B7-48DF-A395-71286AA1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3B4F51-EF6C-444C-956C-EAF4B055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129A00-1C95-41E1-B379-EAA0011B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B72D59-5A6C-41E3-9CA5-660FC3D1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1E5E-EB14-447F-9212-4FFDAE5E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FBDC60-00C1-4428-A335-F0AB08E8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9D3B49-5A73-4F3B-9F7E-9DB09679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E4C312-4057-4241-9467-78349CE5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09EC55-7AA9-4ADD-BED9-B12C8535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E9B94F-4757-4EE5-B4A2-A400FF6D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86DBEB-BA87-4193-AEB4-61168CCB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0B0E58-39B4-46F5-BDD9-B04D6A96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A8834B-AE41-4695-ABB8-16364312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22A6B8-D53E-4742-ACD7-D0045901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384976-17E8-40FD-ADB5-EA9106B3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DCC-04BB-401F-A579-06AE50C6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A891-3761-45FC-9D05-F163C065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BBF629-BDA8-43AE-A5F1-56862A72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3427C8-79FE-4DE0-92CD-B485F066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C135FE-992E-46DD-A450-EE1FFFCC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679AFA-FDF4-4BC4-BB12-961040B6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B7FDA0-8681-4B33-8F6D-7963F80F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1C306A-B3FC-4733-A2BB-D07098D2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F3F5F0-38FF-4013-BAF4-F011E85B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1587C2-43D4-4B76-9C94-BC28C4BB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FE1436-2365-4BD4-B40F-9E565FD8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0C9733-5BF0-43A5-B32A-EB50B3E3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7FBD-2A0E-4D0C-B7AD-E7A1D414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C52AE7-EF3D-4E31-BA3E-831368D6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979E8-8DEE-4001-8857-09BDEF37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08D173-ABE4-4EB6-B51E-555ADECF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B87771-2B3D-4624-B165-3461DFF9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4399CC-F82E-4FE2-A074-6BC38B5C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1B1267-26E3-4668-B884-F516A463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BC4500-7958-4D01-88B2-82C6F045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26ED-DBDD-4A65-AF78-1EC6567F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335E-C8B9-4F1D-96DB-CA85C8E8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CB76-168D-4259-93F0-B833C0A4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327D5-35FA-4318-BB5F-52B3741E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2FCF8-AE83-4B6B-914E-1DE9E0C7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531C4-4C9A-4DBC-852D-E7B7001F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58926-3E6E-4259-802F-31F45B0A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E3163-241A-41E3-9208-935F743E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2EB-A84A-4D1C-BF25-0FF9E496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4BB77-40ED-44A5-B691-1CCB78F2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F01C4-F537-4D41-B227-278C7441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B921D-A2FD-4389-96C3-66DC1929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868ED-54AC-4CF0-BD5E-23EFC755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CF49E-C33E-479E-AAE7-59311C95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32B57-9CED-43D1-9521-474EBBEA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F9F75-4908-41B5-9AFE-0D0FF6FD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4108E-5CAF-4A8F-93EC-9B5EA3D4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6CE56-BACE-4B43-8CFB-9CF8486D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221E4-DE0A-4E5F-89BF-8EC42358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CA1-D119-4828-BE22-668AF2C0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1345F-0800-4818-956D-7036F545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6651A-5E32-4FF4-A7CC-C0477E7E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50D7C-4C8F-4EFF-900B-E770E9A8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77326-F632-405B-BD44-342BD3BF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76637-A91C-4E78-99AB-1177C382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D2835-BD66-44CB-B982-0841840A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27A2B-090A-4B3B-811B-C0982E75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1C29C-274C-4038-BA6F-87C2007B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00828-1E64-43AE-A050-17AC8B57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FF62D-316E-49D6-8CA5-DA910B01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BF34-3EB6-4604-85A5-BAF87CAD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488CD-2F13-4CCE-88BA-2D079A70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B65F9-15EA-4A14-9111-ACA9FA6A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D7975-0B5B-48DD-A4D6-4A4FA335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8EB5D-32BE-4AB2-BDC1-6A7CE4AC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473D6-8867-44F6-AA52-400378D2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7BE47-39AD-4ECE-9917-8B700DEE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36B86-66FB-4743-A2C3-660C5354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49421-D968-49F5-8B94-D78D11DA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8B6FD-9272-41FE-B202-D263E259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7879D-15CE-443E-9392-4315EDB2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721-67EC-43E5-B06E-974129EF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79B8B-3BB0-4C0C-ADC9-214BFF35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4D9B5-0A0D-44C3-83F7-33896E96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F58E1-68A7-4B59-B2AC-64A80A21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38A87-81B0-4DFC-B68A-E1C22BCD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D2145-5627-4377-A029-FBDE066B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A23B6-99B9-46B6-9093-C16DA1E8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22CD4-8F48-4CD7-A3AF-F4486C43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08C19-77E6-44C6-BEDD-5F6398D9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234E4-7E1E-41E3-82B1-85B378B4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7FD21-711A-4EC2-9E91-811976F7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FB37-B287-47A1-9FE2-8B673ABE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E3383-E8A6-4ED4-9FBE-BD2A201E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852AD-1ACC-4F26-AA2C-6C7B0128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F107F-B0D9-445B-811B-28134B95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79DFF-3AB5-4716-8D27-1494F65C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50332-44CA-4BF5-9EBB-ED272EA9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712AD-FE4A-48B1-9DD8-68743941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FDAD1-B90E-4427-BD69-4AC61006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36FD0-8C1E-453A-A6C4-48845EDE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528C9-4AD0-46DB-9BE3-9DD9C371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88566-9C33-4F79-9536-3B9C5FD8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89A0-F63B-4E17-9A76-49B05153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7C1BE-31A3-46B2-9EDC-45B98FE3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2FAD0-93F3-46CD-8ADE-29517F2D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6A2E7-E84D-4C2A-AA2A-96A4D930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0BD6D-4459-47A0-B821-2FC6222D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E0EAA-277A-4256-ABC9-1885C87E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AF8A6-7117-49FC-92B4-A9F35A91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18A7E-F101-47AB-940B-D501129D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5439B-F853-4DB3-BE09-A1DBC4C7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0EF16-8648-4FA4-98FE-BF82529F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B3831-DD6B-452E-BA6F-07AAFA9D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5585-1945-469D-829A-4FA1BDD7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6E6DF-AE8D-4CDB-A56A-63358798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4718E-5902-479E-81CE-DBA1EA4A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C2EB2-1FC2-49E1-98D7-D1C82521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B8101-019A-41BC-860E-4D7277A5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1B5B5-3A31-4BD0-A4AC-99EA754E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C6EFD-2AD7-4A8A-AC13-12512F49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E5E18-EF18-496E-B863-37459DFA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508A4-188E-459D-B0F7-11296B92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5297B-F62D-4487-BEB7-8A58DD58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C91C6-FD7B-42D0-BB9A-77F08775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28A88-40AB-43A7-A847-99D16FF0AC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A38AAF-AD9E-4EC3-B36E-25E2A56859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C4164-3555-47D6-B5DD-A0B6C17C65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136FDF-3F8D-412E-BCC7-3D2BBDE570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9D6AA-7D27-4CD9-A90E-DB95FFF79B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1EAB0-53B0-45F1-A3E6-7302809B4C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90C99-296B-48DA-AD38-5DF830BD2E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0E820-6FD1-4408-B57E-2C3248C68B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C00E8-F1D5-45FB-93AF-9D510992A8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875FC-D970-4DDB-B649-CD16AC3AE9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CCE5A-D6D4-4177-B933-578E4C1EE8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01809-F9C6-481E-816C-AA29A94DED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E66EF-1256-47D4-A3CB-C4B132D99D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B8DA3-DD31-4EA3-B3AB-BA6CF7481C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37C84-09C3-4416-9164-44824D8613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19544-EC52-4F59-9249-0DBA028EA0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F2E94-3EF3-4AAD-8B64-A2F22BC8D3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34220-2FC2-438B-B7A0-7A6E48EA98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040" y="-192240"/>
            <a:ext cx="1036332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جلسه دوم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914040" y="767880"/>
            <a:ext cx="103633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سر فصل مطالب</a:t>
            </a:r>
            <a:r>
              <a:rPr b="1" lang="fa-IR" sz="2800" spc="-1" strike="noStrike">
                <a:solidFill>
                  <a:srgbClr val="0070c0"/>
                </a:solidFill>
                <a:latin typeface="Tw Cen MT"/>
                <a:ea typeface="B Nazanin"/>
              </a:rPr>
              <a:t> </a:t>
            </a:r>
            <a:r>
              <a:rPr b="1" lang="fa-IR" sz="2800" spc="-1" strike="noStrike">
                <a:solidFill>
                  <a:srgbClr val="0070c0"/>
                </a:solidFill>
                <a:latin typeface="Tw Cen MT"/>
                <a:ea typeface="B Nazani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انواع روشهای بهایاب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مراحل بهایاب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عامل بها و مدیریت بها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بهای تولی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بهای اولیه و بهای تبدیل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7" name="AUD-20200409-WA0012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62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040" y="209520"/>
            <a:ext cx="1036332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جلسه سوم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914040" y="1152360"/>
            <a:ext cx="1036332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سر فصل مطالب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طبقه بندی بها از دیدگاههای مختلف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توضیح طبقه بندی بر مبنای قابلیت رهگیر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عوامل موثر بر طبقه بندی بها به مستقیم و غیر مستقیم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توضیح طبقه بندی بها بر مبنای رفتا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7" name="21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9829" fill="hold"/>
                                        <p:tgtEl>
                                          <p:spTgt spid="8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040" y="618840"/>
            <a:ext cx="10363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انواع روشهای بهایابی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914040" y="1252440"/>
            <a:ext cx="103633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هر دو سیستم بهایابی سفارش کارو مرحله ای به سه روش زیر قابل اجرا می باشند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0" name="Diagram 3" descr=""/>
          <p:cNvPicPr/>
          <p:nvPr/>
        </p:nvPicPr>
        <p:blipFill>
          <a:blip r:embed="rId1"/>
          <a:stretch/>
        </p:blipFill>
        <p:spPr>
          <a:xfrm>
            <a:off x="639720" y="2554200"/>
            <a:ext cx="1749600" cy="3024360"/>
          </a:xfrm>
          <a:prstGeom prst="rect">
            <a:avLst/>
          </a:prstGeom>
          <a:ln w="0">
            <a:noFill/>
          </a:ln>
        </p:spPr>
      </p:pic>
      <p:sp>
        <p:nvSpPr>
          <p:cNvPr id="781" name="Right Arrow 4"/>
          <p:cNvSpPr/>
          <p:nvPr/>
        </p:nvSpPr>
        <p:spPr>
          <a:xfrm>
            <a:off x="2295360" y="3236760"/>
            <a:ext cx="712800" cy="182880"/>
          </a:xfrm>
          <a:prstGeom prst="rightArrow">
            <a:avLst>
              <a:gd name="adj1" fmla="val 50000"/>
              <a:gd name="adj2" fmla="val 49911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Right Arrow 6"/>
          <p:cNvSpPr/>
          <p:nvPr/>
        </p:nvSpPr>
        <p:spPr>
          <a:xfrm>
            <a:off x="2303640" y="3973680"/>
            <a:ext cx="712440" cy="1825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Right Arrow 7"/>
          <p:cNvSpPr/>
          <p:nvPr/>
        </p:nvSpPr>
        <p:spPr>
          <a:xfrm>
            <a:off x="2295360" y="4734000"/>
            <a:ext cx="712800" cy="1825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Oval 8"/>
          <p:cNvSpPr/>
          <p:nvPr/>
        </p:nvSpPr>
        <p:spPr>
          <a:xfrm>
            <a:off x="3311640" y="2276640"/>
            <a:ext cx="3857400" cy="11430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اطلاعات مربوط به مواد و دستمزد و سربار همگی واقعی باش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Oval 9"/>
          <p:cNvSpPr/>
          <p:nvPr/>
        </p:nvSpPr>
        <p:spPr>
          <a:xfrm>
            <a:off x="3216240" y="3478320"/>
            <a:ext cx="4191120" cy="110628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اطلاعات مربوط به مواد و دستمزد واقعی بوده اما اطلاعات سربار برآوردی می باش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Oval 10"/>
          <p:cNvSpPr/>
          <p:nvPr/>
        </p:nvSpPr>
        <p:spPr>
          <a:xfrm>
            <a:off x="3016080" y="4584600"/>
            <a:ext cx="4761000" cy="105408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قبل از شروع دوره مالی اطلاعات مربوط به مواد و دستمزد و سربار پیش بینی شده و در طی دوره ملاک عمل قرار می گیر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ffffff"/>
                </a:solidFill>
                <a:latin typeface="Tw Cen MT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7" name="AUD-20200409-WA0009.m4a" descr=""/>
          <p:cNvPicPr/>
          <p:nvPr/>
        </p:nvPicPr>
        <p:blipFill>
          <a:blip r:embed="rId2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2957" fill="hold"/>
                                        <p:tgtEl>
                                          <p:spTgt spid="7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040" y="247680"/>
            <a:ext cx="1036332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مراحل بهایابی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914040" y="1123560"/>
            <a:ext cx="1036332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هر سیستم بهایابی برای محاسبه بها بایستی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 مرحله اساسی را پشت سر گذاشت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لف : انباشت بها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 : تخصیص بها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مرحله انباشت بها اطلاعات مربوط به بها از نظر ماهیت آنها در جایی به نام انباره های بها یا مخازن بها جمع می شوند به عنوان مثال انباره حقوق و دستمزد یا انباره مواد .....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مرحله خصیص بایستی اطلاعات جمع آوری شده در مرحله قبل بر اساس یک مبنای مناسب به موضوع بهایابی ، اختصاص داده شو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نواع تخصیص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به روش رهگیر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به روش تسه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0" name="AUD-20200409-WA0006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31293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040" y="91800"/>
            <a:ext cx="103633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نحوه تخصیص بها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914040" y="960120"/>
            <a:ext cx="103633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نکته : تخصیص بهای عوامل مستقیم از طریق رهگیری و بهای عوامل غیر مستقیم از طریق تسهیم صورت می گیری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رای درک بهتر موضوع شکل زیر را در نظر بگیری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Round Single Corner Rectangle 5"/>
          <p:cNvSpPr/>
          <p:nvPr/>
        </p:nvSpPr>
        <p:spPr>
          <a:xfrm>
            <a:off x="347760" y="2185920"/>
            <a:ext cx="1288800" cy="1462320"/>
          </a:xfrm>
          <a:prstGeom prst="pie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Tw Cen MT"/>
                <a:cs typeface="B Nazanin"/>
              </a:rPr>
              <a:t>موضوع بهایابی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Tw Cen MT"/>
                <a:cs typeface="B Nazanin"/>
              </a:rPr>
              <a:t>صندلی چوبی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4" name="Oval 6"/>
          <p:cNvSpPr/>
          <p:nvPr/>
        </p:nvSpPr>
        <p:spPr>
          <a:xfrm>
            <a:off x="5446800" y="2084400"/>
            <a:ext cx="1755720" cy="8604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های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Oval 7"/>
          <p:cNvSpPr/>
          <p:nvPr/>
        </p:nvSpPr>
        <p:spPr>
          <a:xfrm>
            <a:off x="5410080" y="2951280"/>
            <a:ext cx="1755720" cy="8586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های 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96" name="Straight Arrow Connector 9"/>
          <p:cNvCxnSpPr>
            <a:stCxn id="794" idx="2"/>
          </p:cNvCxnSpPr>
          <p:nvPr/>
        </p:nvCxnSpPr>
        <p:spPr>
          <a:xfrm flipH="1">
            <a:off x="1636200" y="2514240"/>
            <a:ext cx="3810960" cy="1080"/>
          </a:xfrm>
          <a:prstGeom prst="straightConnector1">
            <a:avLst/>
          </a:prstGeom>
          <a:ln w="936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797" name="TextBox 10" descr=""/>
          <p:cNvPicPr/>
          <p:nvPr/>
        </p:nvPicPr>
        <p:blipFill>
          <a:blip r:embed="rId1"/>
          <a:stretch/>
        </p:blipFill>
        <p:spPr>
          <a:xfrm>
            <a:off x="2955960" y="2084400"/>
            <a:ext cx="2768400" cy="372960"/>
          </a:xfrm>
          <a:prstGeom prst="rect">
            <a:avLst/>
          </a:prstGeom>
          <a:ln w="0">
            <a:noFill/>
          </a:ln>
        </p:spPr>
      </p:pic>
      <p:cxnSp>
        <p:nvCxnSpPr>
          <p:cNvPr id="798" name="Straight Arrow Connector 12"/>
          <p:cNvCxnSpPr/>
          <p:nvPr/>
        </p:nvCxnSpPr>
        <p:spPr>
          <a:xfrm flipH="1">
            <a:off x="1636200" y="3435120"/>
            <a:ext cx="3810960" cy="1080"/>
          </a:xfrm>
          <a:prstGeom prst="straightConnector1">
            <a:avLst/>
          </a:prstGeom>
          <a:ln w="936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799" name="TextBox 13" descr=""/>
          <p:cNvPicPr/>
          <p:nvPr/>
        </p:nvPicPr>
        <p:blipFill>
          <a:blip r:embed="rId2"/>
          <a:stretch/>
        </p:blipFill>
        <p:spPr>
          <a:xfrm>
            <a:off x="2955960" y="3035160"/>
            <a:ext cx="2768400" cy="366840"/>
          </a:xfrm>
          <a:prstGeom prst="rect">
            <a:avLst/>
          </a:prstGeom>
          <a:ln w="0">
            <a:noFill/>
          </a:ln>
        </p:spPr>
      </p:pic>
      <p:sp>
        <p:nvSpPr>
          <p:cNvPr id="800" name="Rectangle 14"/>
          <p:cNvSpPr/>
          <p:nvPr/>
        </p:nvSpPr>
        <p:spPr>
          <a:xfrm>
            <a:off x="8056440" y="2322360"/>
            <a:ext cx="1673280" cy="40644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چوب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Rectangle 15"/>
          <p:cNvSpPr/>
          <p:nvPr/>
        </p:nvSpPr>
        <p:spPr>
          <a:xfrm>
            <a:off x="8056440" y="3116160"/>
            <a:ext cx="1673280" cy="40644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ر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02" name="Straight Arrow Connector 17"/>
          <p:cNvCxnSpPr>
            <a:stCxn id="800" idx="1"/>
            <a:endCxn id="794" idx="6"/>
          </p:cNvCxnSpPr>
          <p:nvPr/>
        </p:nvCxnSpPr>
        <p:spPr>
          <a:xfrm flipH="1" flipV="1">
            <a:off x="7202160" y="2513880"/>
            <a:ext cx="854640" cy="11880"/>
          </a:xfrm>
          <a:prstGeom prst="straightConnector1">
            <a:avLst/>
          </a:prstGeom>
          <a:ln w="9360">
            <a:solidFill>
              <a:srgbClr val="b53a60"/>
            </a:solidFill>
            <a:miter/>
            <a:tailEnd len="med" type="triangle" w="med"/>
          </a:ln>
        </p:spPr>
      </p:cxnSp>
      <p:cxnSp>
        <p:nvCxnSpPr>
          <p:cNvPr id="803" name="Straight Arrow Connector 19"/>
          <p:cNvCxnSpPr/>
          <p:nvPr/>
        </p:nvCxnSpPr>
        <p:spPr>
          <a:xfrm flipH="1" flipV="1">
            <a:off x="7184520" y="3318840"/>
            <a:ext cx="853200" cy="11880"/>
          </a:xfrm>
          <a:prstGeom prst="straightConnector1">
            <a:avLst/>
          </a:prstGeom>
          <a:ln w="9360">
            <a:solidFill>
              <a:srgbClr val="b53a60"/>
            </a:solidFill>
            <a:miter/>
            <a:tailEnd len="med" type="triangle" w="med"/>
          </a:ln>
        </p:spPr>
      </p:cxnSp>
      <p:pic>
        <p:nvPicPr>
          <p:cNvPr id="804" name="نحوه تخصیص.3gp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9480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14040" y="118800"/>
            <a:ext cx="1036332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عامل بها و مدیریت بها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914040" y="914040"/>
            <a:ext cx="10363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نظور از عامل بها که محرک بها نیز نامیده می شود عاملی است که بر بهای کل تاثیر می گذارد . یعنی تغییر در میزان آن باعث تغییر در جمع مبلغ بهای مربوز به موضوع بهایابی مورد نظر می شو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عامل بها می تواند یک پارامتر مالی مانند بهای دستمزد مستقیم و یا یک پارامتر غیر مالی مانندتعداد محصولات تولید شده باش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دیریت بها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شرکتها برای کاهش قیمت فروش ناگزیر هستند که بهای تمام شده خود را کنترل کنند . یعنی تنها به فعالیتهایی بپردازند که باعث ایجاد ارزش در دید مشتری می شوند و این فعالیتها را به گونه ای کارا و تپر بخش انجام دهند . و یا به عبارتی مدیریت بها عبارت است از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جموعه اقدامات مدیریت که ضمن انجام تاشهای مستمر برای کنرل و کاهش بهای تمام شده محصول به منظور جلب رضایت مشتریان به عمل می آی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7" name="AUD-20200409-WA0013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2748" fill="hold"/>
                                        <p:tgtEl>
                                          <p:spTgt spid="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040" y="99720"/>
            <a:ext cx="1036332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بهای تولید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914040" y="1033560"/>
            <a:ext cx="103633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حسابداری بهای تمام شده برای محاسبه بهای تولید از اصطلاحات خاصی استفاده می شود که این اصطلاحات عبارتند از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ea typeface="B Nazanin"/>
              </a:rPr>
              <a:t>1</a:t>
            </a:r>
            <a:r>
              <a:rPr b="1" lang="fa-IR" sz="1800" spc="-1" strike="noStrike">
                <a:solidFill>
                  <a:srgbClr val="ff0000"/>
                </a:solidFill>
                <a:latin typeface="Tw Cen MT"/>
                <a:ea typeface="B Nazanin"/>
              </a:rPr>
              <a:t>- مواد مستقیم :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ه مواد اولیه ای گفته می شود که در تولید محصول نقش مستقیم داشته و به عنوان بخشی از کالای ساخته شده محسوب می گردد و می توان بهای آن را به آسانی و به طور مستقیم به کالای ساخته شده اختصاص داد. مانند بهای چوب در صندلی چوب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واد مستقیم دارای سه ویژگی زیر می باشن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لف : میزان مصرف آنها با میزان تولید رابطه مستقیم دار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 : در مقایسه با ارزش کا کالای ساخته شده ارزش اقتصادی قابل ملاحظه ای دار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ج : بخشی از شکل فیزیکی کالای ساخته شده را تشکیل می دهد و معمولا در محصول ساخه شده قابل رویت و قابل لمس می باش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در ساخت محصولات ممکن است مواد دیگری نیز مصرف شوند که جزئی و کم اهمیت باشند و به آسانی نتوان بهای آن را به کالاسی ساخته شده اختصاص داد به اینگونه مواد اصطلاحا مواد غیر مستقیم گفته می شود اینگونه مواد معمولا ارزش اقتصادی بالایی ندارند و به عنوان بخشی از سربار محسوب می شوند . مانند چسب در تولید صندلی چوب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10" name="اسلاید17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1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1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63511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14040" y="-123480"/>
            <a:ext cx="103633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914400" y="361800"/>
            <a:ext cx="102679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دستمزد مستقیم : عبارت است از دستمزد کارگرانی که در تولید محصول نقش مستقیم داشته و در اثر کا آنها مواد اولیه تغییر شکل یافته و تبدیل به کالای ساخته شده می شود . و می توان بهای آن را به سهولت و به طور مستقیم به کالای ساخته شده اختصاص داد مانند دستمزد کارگران بخش مونتاژ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دستمزد آن دسته از کارگرانی که مستقیماً در تولید نقش ندارند دستمزد غیر مستقیم نامیده شده و جزء سربار محسوب می شوند مانند دستمزد نگهبان شرکت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3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سربار ساخت :آن بخش از بهای ساخت که نمی توان آن را به آسانی به کالای ساخته شده اختصاص داد اصطلاحا سربار ساخت محسوب می شوند به جز مواد و دستمزد غیر مستقیم برخی از بها ها مانند تعمیر ماشین آلات ، استهلاک ، آب و برق مصرفی نیز بخشی از سربار محسوب می شوند . نمودار زیر عوامل تشکیل دهنده بهای محصول را نشان می ده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1790640" y="3695760"/>
            <a:ext cx="78120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دستمز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Rectangle 4"/>
          <p:cNvSpPr/>
          <p:nvPr/>
        </p:nvSpPr>
        <p:spPr>
          <a:xfrm>
            <a:off x="3743280" y="4095720"/>
            <a:ext cx="1790640" cy="50472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سایر هزینه های ساخ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6353280" y="3695760"/>
            <a:ext cx="78084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موا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1276200" y="5400720"/>
            <a:ext cx="1257480" cy="59040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دستمزد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3848040" y="5467320"/>
            <a:ext cx="151452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سربار ساخ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Rectangle 8"/>
          <p:cNvSpPr/>
          <p:nvPr/>
        </p:nvSpPr>
        <p:spPr>
          <a:xfrm>
            <a:off x="6353280" y="5467320"/>
            <a:ext cx="1209600" cy="60012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مواد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19" name="Straight Arrow Connector 10"/>
          <p:cNvCxnSpPr>
            <a:stCxn id="813" idx="3"/>
          </p:cNvCxnSpPr>
          <p:nvPr/>
        </p:nvCxnSpPr>
        <p:spPr>
          <a:xfrm>
            <a:off x="2571840" y="3895560"/>
            <a:ext cx="1257840" cy="157248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cxnSp>
        <p:nvCxnSpPr>
          <p:cNvPr id="820" name="Straight Arrow Connector 16"/>
          <p:cNvCxnSpPr/>
          <p:nvPr/>
        </p:nvCxnSpPr>
        <p:spPr>
          <a:xfrm flipH="1">
            <a:off x="5126760" y="4127040"/>
            <a:ext cx="1226520" cy="138996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cxnSp>
        <p:nvCxnSpPr>
          <p:cNvPr id="821" name="Straight Arrow Connector 18"/>
          <p:cNvCxnSpPr>
            <a:endCxn id="817" idx="0"/>
          </p:cNvCxnSpPr>
          <p:nvPr/>
        </p:nvCxnSpPr>
        <p:spPr>
          <a:xfrm>
            <a:off x="4605120" y="4700520"/>
            <a:ext cx="1080" cy="76752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sp>
        <p:nvSpPr>
          <p:cNvPr id="822" name="TextBox 25"/>
          <p:cNvSpPr/>
          <p:nvPr/>
        </p:nvSpPr>
        <p:spPr>
          <a:xfrm rot="3142800">
            <a:off x="2476800" y="41184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23" name="Straight Arrow Connector 27"/>
          <p:cNvCxnSpPr/>
          <p:nvPr/>
        </p:nvCxnSpPr>
        <p:spPr>
          <a:xfrm flipH="1">
            <a:off x="2074320" y="4171680"/>
            <a:ext cx="43560" cy="122940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sp>
        <p:nvSpPr>
          <p:cNvPr id="824" name="TextBox 32"/>
          <p:cNvSpPr/>
          <p:nvPr/>
        </p:nvSpPr>
        <p:spPr>
          <a:xfrm rot="16200000">
            <a:off x="1575000" y="4460040"/>
            <a:ext cx="7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5" name="TextBox 33"/>
          <p:cNvSpPr/>
          <p:nvPr/>
        </p:nvSpPr>
        <p:spPr>
          <a:xfrm rot="18877800">
            <a:off x="5598000" y="44154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6" name="TextBox 34"/>
          <p:cNvSpPr/>
          <p:nvPr/>
        </p:nvSpPr>
        <p:spPr>
          <a:xfrm rot="16200000">
            <a:off x="6895080" y="4551840"/>
            <a:ext cx="78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27" name="Straight Arrow Connector 35"/>
          <p:cNvCxnSpPr>
            <a:endCxn id="818" idx="0"/>
          </p:cNvCxnSpPr>
          <p:nvPr/>
        </p:nvCxnSpPr>
        <p:spPr>
          <a:xfrm>
            <a:off x="6924240" y="4172040"/>
            <a:ext cx="34200" cy="129600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828" name="18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8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10363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بهای اولیه و بهای تبدیل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914040" y="1066320"/>
            <a:ext cx="103633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گاهی اوقات در حسابداری بهای تمام شده عناصر اصلی بها با هم ترکیب می شوند و در عبارت زیر را بوجود می آورند 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بهای اولیه و بهای تبدیل: منظور از بهای اولیه اقلامی از بهای تمام شده می باشند که مستقیما در امر ولید دخالت دارند و منظور از بهایتبدیل اقلامی ا بهای تمام شده می باشند که در تبدیل مواد اولیه به محصول ایفای نقش می نمایند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بهای اولیه و بهای تبدیل در یک جزء مشترک هستند و آن هم دستمزد مستقیم است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مواد مستقیم+ دستمزد مستقیم = بهای اولیه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سربار ساخت+ دستمزد مستقیم = بهای تبدیل</a:t>
            </a: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مثال : فرض کنید در شرکت جمشید بهای اولیه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720،00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ريال و بهای تبدیل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600،00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ريال است . در صورتی که سربار براساس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5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% دستمزد مستقیم جذب تولید شود بهای مواد مستقیم و دستمزد مسقیم و سربار ساخت را محاسبه نمایید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حل :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Z 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سربار ساخت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Y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دستمزد مستقیم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X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مواد مستقیم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1" name="19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62629" fill="hold"/>
                                        <p:tgtEl>
                                          <p:spTgt spid="8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14040" y="-147600"/>
            <a:ext cx="103633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3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11839680" cy="6858000"/>
          </a:xfrm>
          <a:prstGeom prst="rect">
            <a:avLst/>
          </a:prstGeom>
          <a:ln w="0">
            <a:noFill/>
          </a:ln>
        </p:spPr>
      </p:pic>
      <p:pic>
        <p:nvPicPr>
          <p:cNvPr id="834" name="20.3gp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34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34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9192" fill="hold"/>
                                        <p:tgtEl>
                                          <p:spTgt spid="8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9T17:50:58Z</dcterms:created>
  <dc:creator>Windows User</dc:creator>
  <dc:description/>
  <dc:language>en-US</dc:language>
  <cp:lastModifiedBy>Windows User</cp:lastModifiedBy>
  <dcterms:modified xsi:type="dcterms:W3CDTF">2020-04-09T17:56:28Z</dcterms:modified>
  <cp:revision>2</cp:revision>
  <dc:subject/>
  <dc:title>PowerPoint Presentation</dc:title>
</cp:coreProperties>
</file>